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446-6958-4FBF-9783-1472B54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0F2-C5CA-4D29-8B5C-EC6EBCE6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731-D546-43C9-808A-184D8AFC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B8F-EDE2-4751-92DF-689A1FAF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BA50-3865-48E4-9CAF-2AA5E96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6764-4853-4361-884E-5CAB9CD2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6CB6-E418-4799-84A8-26B4B08A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5CA2-5A04-454E-993C-C0E1DF6E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8A74-974F-42EA-B0A0-F7C4B90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4F6-6CE1-45BE-BCD1-3077E90F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F0A5-5E4B-449B-8035-3556F090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C3B-4E17-4462-A997-84608DD6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5504-DD6F-419F-BCA8-50D37A4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E6C-99A9-43F2-AEB7-5FDBA15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7E1-387B-4A9F-8EE7-A800E5FE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D84-446A-4D9E-BC45-25985B97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DBB9-7FBA-4768-B002-EFF40B18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A5B-E4FF-4F79-BE4E-F7D9285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7C3-4462-4409-9D44-70DBA8AB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964-6CD3-47BB-BF7C-AFD9B990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6EB-3630-49F8-B1CB-58473B8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146-A131-4907-9094-EF12878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991-DBCF-4EC8-B76A-DDD81BA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810-D463-42C9-BF82-2CC3081B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0-</a:t>
            </a:r>
            <a:fld id="{74EE03D1-1919-4E78-8F02-AEB64CDD8E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0-</a:t>
            </a:r>
            <a:fld id="{2332868A-C5D0-4153-B654-0B06150517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ECTURE 10: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ethodolog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03848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MultiAgent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c.liv.ac.uk/~mjw/pubs/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CE4-6CE8-4FEE-B47F-C11750DEFA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lieve Agents = Silver Bulle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ly grail of software engineering is a “silver bullet”: an order of magnitude improvement in softwar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ies promoted as the silver bull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BOL :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al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methods 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 technology i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lver bul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reasons to believe that agents are useful way of tackling some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se arguments largely untested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92A-82D9-4E0E-9053-CEDD6A03D7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lieve Agents = Silver Bulle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developments in software engineering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bst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nts are another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1FB-3294-4FC8-B2F2-482C21477B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use Buzzwords &amp; Conce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dea of an agent is extremely intui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s developers to believe that they understand concepts when they do no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he AI &amp; party syndrome: everyone has an opinion. However uninforme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example: the belief-desire-intention (BDI)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of human practical reasoning (Bratman et al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 architectures (PRS, dMARS, . . .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applications (NASA, . . .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of practical reasoning (Rao &amp; Georgef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 “BDI” now been applied to WWW pages/perl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985-289C-4596-8045-0AA6512615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use Buzzwords &amp; Conce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system is a BDI system”…implication that this is like being a computer with 64MB memory: a quantifiable property, with measurable associated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19A-6CD5-4436-BC39-FE64CB007E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get it’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Softwa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 system is essentially experimentation. No tried and trusted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encourages developers to forget they are develop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plans focus on the agenty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ndane software engineering (requirements analysis, specification, design, verification, testing) is forgo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a foregone conclusion: project flounders, not because agent problems, but because basic software engineering igno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t justification: software engineering for agent systems is non-exis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314-4E19-4297-9CFE-2DE9E5F71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get it’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Softwa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almo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cipled software development technique is better than n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213-4A70-4EAE-B290-78510D479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get it’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distribut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d systems = one of the most complex classes of computer system to design and imp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agent systems tend to be distribute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of distribution do not go away, just because a system is agent-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al multi-agent system will b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or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 than a typical distribu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distributed systems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use of DS expert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50A-2332-4315-B785-E55E2C465C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n’t Exploit Related Technolo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y agent system, percentage of the system that is agent-specific is comparatively sm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aisin bread mode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Wins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fore important that conventional technologies and techniques are exploited wherever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reinvent the wheel. (Yet another communication framework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itation of related technolog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eds up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s re-inventing wh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ses effort on agent 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COR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148-4B6D-45DF-893B-5998E4DFD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n’t exploit concurren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ways of cutting up any problem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decompose along functional, organizational, physical, or resource related li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most obvious features of a poor multi-agent design is that the amount of concurrent problem solving is comparatively small or even in extreme cases non-exis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processing in distributed syst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ever a single thread of control: concurrency, one of the most important potential advantages of multi-agent solutions not explo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don’t exploit concurrency, why have an agent sol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629-770A-4AF7-8E9A-72CF5259F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nt Your Own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 architectures: designs for building a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agent architectures have been proposed over th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temptation to imagine you need your 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ving forces behind this belie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designed here” mind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e development takes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lear pay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: buy one, take one off the shelf, or do wit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F4F-09D1-44A7-9BE7-05796C174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Pitfalls of Agent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t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(single and multi-) agent projects…but agent-orient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evelopmen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d little 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ow consid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ragmatic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O software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s key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itf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 categor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and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(agent)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 (society)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8E-DAA0-49DB-A643-7BE3A8C48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ink Your Architecture is Generi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o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n architecture, resist temptation to believe it is gene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one to apply an architecture to problem for which it is patently unsu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architectures good for different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architecture that is truly generic is by definition not an architectur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developed an architecture that has successfully been applied to some particular problem, understan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why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ucceeded with that particular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apply the architecture to problems with similar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9F8-8A62-45B3-8F26-3DD9EEB619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 Too Much 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tation to focus on the agent-specific aspects of the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: an agent framework too overburdened with experimental AI techniques to be 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elled by “feature envy”, where one reads about agents that have the ability to learn, plan, talk, sing, danc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st the temptation to believe such features are essential in your agen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esson: build agents with a minimum of AI; as success is obtained with such systems, progressively evolve them into rich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Etzioni calls “useful first”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2C5-3067-47FF-B1D9-8FC3E0B2C2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t Enough 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call your on-off switch an ag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listic: it is becoming common to find everyday distributed systems referred to as multi-agen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common example: referring to WWW pages that have any behind the scenes processing as “agen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 to the term “agent” losing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an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ses expectations of software recip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s to cynicism on the part of software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6E1-5D05-4130-AD1B-C50DBB4319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e agents everywhe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e” A-O system = everything is an agent!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nts for addition, subtraction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ively viewing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everything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n agent is inappropri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e the right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grain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han 10 agents = big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14C-6761-43F3-BB5B-8CBA9C43FA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o Many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nts don’t have to be complex to generate complex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number of ag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mergent funct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haotic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inte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protocols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A29-F62E-42BD-A712-E7B35FFF35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o few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designers imagine a separate agent for every possibl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s don’t recognize value of a multi-agent approach at 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“all powerful” ag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 is like OO program with 1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s software engineering test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coh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956-1144-45F7-A268-9FAACFC0F4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ing infra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 widely-used software platforms for developing ag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platforms would provide all the basic infrastructure required to create a multi-ag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: everyone builds there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he time this is developed, project resources gon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ffort devoted to agent-specif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3B7-301A-4F59-90C5-5154F326E9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is anarchi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simply bundle a group of agent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gent systems require system-level engine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large systems, or for systems in which the society is supposed to act with some commonality of purpose, this is particularly tr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 structure (even in the form of formal communication channels) is ess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611-F5C9-498D-8A25-4BB2176865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use simulated with real paralle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multi-agent system starts life on a single compute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often implemented as UNIX processes, lightweight processes in C, or JAVA th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endency to assume that results obtained with simulated distribution will immediately scale up t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angerous fallacy: distributed systems are a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order of magnitu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difficult to design, implement, test, debug, and man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practical problems in building distributed systems, from mundane to research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simulated distribution, there is the possibility of centralized control; in truly distributed systems, such centralized control is no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9BA-7C4E-4A19-92D1-80C9AF53E6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tabula ra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building systems using new technology, often an assumption that it is necessary to start from a “blank slat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, most important components of a software system will b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ga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ly essential, but technologically obsolete software components, which cannot readily be re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systems often mission cri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roposing a new software solution, essential to work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be incorporated into an agent system by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wrapping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m with a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t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22C-96BC-42B7-AA97-C89836D733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Oversell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i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can’t do it with ordinary software, you probably can’t do it with a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evidence that any system developed using agent technology could not have been built just as easily using non-agent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easier to solve certain classes of problems…but they do not make the impossible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not AI by a back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equate agents and 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BCF-5DC8-4ECF-A4E9-E74CF2D47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gnore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de facto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nda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 established agent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ers often believe they have no choice but to design and build all agent-specific components from scr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her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r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de facto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Q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4E5-CEF1-44BF-8575-005EDB0C89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Mobile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te procedure calls (a) versus mobile agents (b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10440" cy="479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6D1-A992-4A11-B9A4-BE0E2BF8D1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bile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mobile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-bandwidth networks (hand-held PDAs, such as NEWT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 use of network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any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s that need to be addressed when building software tools that can support mobile agent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for hosts and a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terogeneity of h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AD9-E06E-4B9A-B7AD-EB78329D33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urity for Hos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o not want to execute foreign programs on our machine, as this would present enormou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cur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agent programming language supports pointers, then there is the danger of agents corrupting the address space of the ho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ny agent languages don’t have poin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X-like access rights on h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 libraries for access to filestore, process spac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ctions (e.g., sending mail) are harmless in some circumstances, but dangerous in others — how to te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61E-4F77-4306-913F-B80B68351C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urity for Hos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gent languages (e.g., TELESCRIPT) provide limits on the amount of e.g., memory &amp; processor time that an agent can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ecure co-processor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a solution — have a physically separate processor on which the agent is run, such that the processor is in ‘quarantine’ (‘padded cell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gent languages allow security properties of an agent to be verified on receip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ts must handle crashed programs cleanly — what do you tell an owner when their agent crash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sted ag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F28-AE47-4730-A5CA-196A08D7AB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urity for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have a right to privac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often do not want to send out our programs, as to do so: might enable the recipient to determine its purpose, and hence our i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gent might be modified (sabotaged!) in some way, without its owners knowledge or appro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gent can be protected in transit by using conventional encryption techniques (e.g., PG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rder to ensure that an agent is not tampered with, it is possible to us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igital watermark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rather like check dig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BB0-AD57-4AE8-A31B-949074E840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eterogeneity of Hos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077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we are happy for our agents to be executed on just one type of machine (Mac, PC, SPARC, … ), then we must provide facilities for executing the same agent on many different types of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mpl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nterpreted langu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d languages imply reduction to machine code, which is clearly system dependent — reduced efficiency; (perhaps use virtual machine technolo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ynamic link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braries that access local resources must provide a common interface to different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B18-EDA3-4F55-923E-21384C3219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Typology for Mobile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divide mobile agents into at least three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utonom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on-de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ctive m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192-2248-40AF-8C39-401F1C5F74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onomous Mobile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utonomou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e, we mean agents that are able to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decide for themselve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go, when, and what to do when they get there (subject to certain resource constraints, e.g., how much ‘emoney’ they can spe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agents are generally programmed in a special language that provides a </a:t>
            </a:r>
            <a:r>
              <a:rPr b="0" lang="en-US" sz="3000" spc="-1" strike="noStrike">
                <a:solidFill>
                  <a:srgbClr val="000000"/>
                </a:solidFill>
                <a:latin typeface="Lucida Console"/>
              </a:rPr>
              <a:t>g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struction… best known example is TELE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F29-286E-4FEC-95EF-8F2C220243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-Demand Mo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dea here is that a host is only required to execute an agent when it explicitly demands the a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known example of such functionality is that provided by the JAVA language, as embedded within 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user with a JAVA-compatible browser can request html pages that contai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pplet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small programs implemented in the JAVA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pplets are downloaded along with all other images, text, forms, etc., on the page, and, once downloaded, are executed on the user’s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itself is a general purpose, C/C++ like programming language, (that does not have pointer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9F5-94DB-4B63-932D-1B4486B209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 Get Religio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have been used in a wide range of applications, but they are not a universal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any applications, conventional software paradigms (e.g., OO) are more approp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problem for which an agent and a non-agent approach appear equally good, prefer non-agent solu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ummary: danger of believing that agents are the right solution t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very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form of dogma: believing in your agent defi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DA2-2916-49B5-986D-2E4821FA4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‘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-Mail’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dea here is to ‘piggy-back’ agent programs onto 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st-known example of this work is 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im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on to email, allowing Safe-Tcl scripts to be 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mail is received, the ‘agent’ is unpacked, and the script executed… hence the email is no longer passive, but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713-DD13-4C94-87D3-9BF97A2040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3140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SCRIPT was a language-based environment for constructing mobile agen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SCRIPT technology is the name given by General Magic to a family of concepts and techniques they have developed to underpin their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wo key concepts in TELESCRIPT technolog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virtual location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pied by agents. A place may correspond to a single machine, or a family of mach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2BB-3F9E-415D-B072-35A3B29D69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the providers and consumers of goods in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lectronic marketplac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 that TELESCRIPT was developed to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interpreted programs, rather like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obil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they are able to move from one place to another, in which case their program and state are encoded and transmitted across a network to another place, where execution recomm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rder to travel across the network, an agent use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ick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specifies the parameters of its journe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6B8-4F7E-4564-A212-3CEBB20D10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nts can communicate with one-anoth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y occupy different places, then they can connect across a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y occupy the same location, then they ca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ee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F99-948E-4642-8C95-D0E1246138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SCRIPT agents have an associat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erm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specif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he agent can do (e.g., limitations on tra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resources the agent ca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st important resources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ey’, measured in ‘teleclicks’ (which correspond to real mon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time (measured in seco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(measured in by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nd places are executed by a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ngine is a kind of agent operating system — agents correspond to operating system proce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320-00F1-4028-A5DD-3228FF561B8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as operating systems can limit the access provided to a process (e.g., in UNIX, via access rights), so an engine limits the way an agent can access its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so-called concept of “managed code” (e.g., Java, Visual Basic, Microsoft’s .N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B8B-3E9A-466F-A744-7BF50EAE14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s continually monitor agent’s resource consumption, and kill agents that exceed their li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s provide (C/C++) links to other applications vi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pplication program interfac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P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nd places are programmed using the TELESCRIPT langua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object oriented language — everything is an object — apparently based on SMALL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levels — high (the ‘visible’ language), and low (a semi-compiled language for efficient exec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‘process’ class, of which ‘agent’ and ‘place’ are sub-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9EA-9DF9-401E-BE83-B84356A2A1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Magic claimed that the sophisticated built in communications services make TELESCRIPT ideal for agent application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F6D-B5F7-4020-9DA2-E24170038B3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lescri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ich set of primitives for building distributed applications, with a fairly powerful notion of ag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ultimately interprete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notion of strong agenc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thought likely to have a significant impact (was supported by Apple, AT&amp;T, Motorola, Philips, Sony…) – but now company is extin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impact more likely to be in the realm of ideas, rather than in this particular insta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EEF-3EA1-4260-AB2A-CBC073EEC54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CL/TK and Scripting Langu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(free) Tool Control Language (TCL — pronounced ‘tickle’) and its companion TK, are now often mentioned in connection with agent-based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L was primarily intended as a standar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mmand languag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lots of applications provide such languages, (databases, spreadsheets,…), but every time a new application is developed, a new command language must be as well. TCL provides the facilities to easily implement your own command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K is an X window based widget toolkit — it provides facilities for making GUI features such as buttons, labels, text and graphic windows (much like other X widget sets)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K also provides powerful facilities for interprocess communication, via the exchange of TCL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5C0-A8A6-4459-8F64-DBDE47DED37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n’t Know Why You Want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= new technology = lots of hyp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Agents will generate US$2.6 billion in revenue by the year 2000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ial reaction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We can get 10% of tha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s often propose agent projects without having clear idea about what “having agents” will buy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business pla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proj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resear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vend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s vend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8DC-85C8-40F3-B840-E72937EAB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CL/TK and Scripting Langu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L/TK combined, make an attractive and simple to use GUI development tool; however, they have features that make them much more interes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L it is a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nterpreted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L i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xtendabl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it provides a core set of primitives, implemented in C/C++, and allows the user to build on these as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L/TK can b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mbedde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the interpreter itself is available as C++ code, which can be embedded in an application, and can itself be exten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A6B-D56A-4B0F-B2FB-4A4501F789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CL/TK and Scripting Langu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L programs are calle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cri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L scripts have many of the properties that UNIX shell scripts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plain text programs, that contain control structures (iteration, sequence, selection) and data structures (e.g., variables, lists, and arrays) just like a normal programming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be executed by a shell program (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cl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wi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call up various other programs and obtain results from these programs (cf. procedure cal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472-DD43-4828-8EAC-66917EADD46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CL/TK and Scripting Langu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TCL programs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nterpre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y are very much easier to prototype and debug than compiled languages like C/C++ — they also provide more powerful control construc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this power comes at the expense of sp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, the structuring constructs provided by TCL leave something to be des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where does the idea of an agent come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asy to build applications where TCL scripts are exchanged across a network, and executed on remote machin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 TCL scripts become sort of a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46C-41B0-4436-A45F-717D178CCB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CL/TK and Scripting Langu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ey issue i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afe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You don’t want to provide someone elses script with the full access to your computer that an ordinary scripting language (e.g., csh) provi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led to Safe TCL, which provides mechanisms for limiting the access provided to a scrip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Safe TCL control the access that a script has to the UI, by placing limits on the number of times a window can be modified by a scrip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 safety issue has not yet been fully resolved in TCL. This limits its attractiveness as an agent programm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879-333D-4BBB-ACDD-2F30B631FF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CL/TK and Scripting Langu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L/TK provide a rich environment for building language-based applications, particularly GUI-based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y are not/were not intended as agent programming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re primitives may be used for building agent programming environments — the source code is free, stable, well-designed, and easily mod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BAF-A541-4685-A633-59BD661654B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n’t Know Why You Want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, project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ppear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e going well. (“We have agents!”) But no vision about where to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go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sson: understand your reasons for attempting an agent development project, and what you expect to gain from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A04-2E7E-458D-A3E3-73C5715E66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on’t Know What Agents Are Good Fo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ing developed some agent technology, you search for an application to use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tting the cart before the hor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mismatches/dissatisf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sson: be sure you understand how and where your new technology may be most usefully applied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attempt to apply it to arbitrary problems &amp; resist temptation to apply it to every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6A7-370F-4323-9542-C99AFDDEF3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ic Solutions to 1-Off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yet another agent testbed”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sing an architecture or testbed that supposedly enables a range agent systems to be built, when you really need a one-off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use is difficult to attain unless development is undertaken for a close knit range of problems with similar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solutions are more difficult and more costly to develop, often need tailoring to different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A8D-4B49-4456-8955-CFFBBDE8DF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use Prototypes with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types are easy (particularly with nice GUI builders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tested production systems are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 of scaling up from single-machine multi-threaded Java app to multi-user system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uch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er than it app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EFD-A4AB-4CC5-910F-BEF18E404D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12:30:06Z</dcterms:created>
  <dc:creator>Jeff Rosenschein</dc:creator>
  <dc:description/>
  <dc:language>en-US</dc:language>
  <cp:lastModifiedBy>Jeff Rosenschein</cp:lastModifiedBy>
  <dcterms:modified xsi:type="dcterms:W3CDTF">2004-01-29T08:29:37Z</dcterms:modified>
  <cp:revision>483</cp:revision>
  <dc:subject>Introduction to MultiAgent Systems</dc:subject>
  <dc:title>Lecture 10: Methodologies</dc:title>
</cp:coreProperties>
</file>