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D09-5271-4210-9BE8-41D30CCE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41C-0C28-40EE-B3C9-9735704A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78E-9214-4B2A-A3FA-4976501E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76B-A020-46D5-A2DF-A4DF74E5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8A6-15BE-43AD-A8D6-C4FA4F86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F213-50EB-48E6-A9F1-18C85A52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994B-24BB-48E4-B701-1B0B475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D6F1-A3FF-4C59-905F-2B6D7E4F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F11F-9625-4ED7-8DEF-B49A3D54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AD6-CB3E-4B4F-952E-5173DB1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D7D9-FB03-4AC1-813E-27C6F2A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59B-767F-4935-9F18-671D1E66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5C2-9C05-40BE-A6A0-261DFEF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F000-34E8-46D8-8AC2-4133C99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EED1-E15E-496B-AE65-42C7997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6175-EAF0-472F-AE58-1D0D99B2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B32F-4213-4CC2-AB55-81625E39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D17-8D15-4844-A92B-E5DBCD8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766-1A68-4DB9-AD6A-56A4BE2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091-1CAB-422A-BC1E-3F4193D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2AE-2D7E-49BC-ABD8-10D3067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5CB-5D77-4100-B69F-A2F1592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D54-0AEF-4367-8A82-4397F7E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A77-53E3-4B5D-8468-C5CAD32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6-</a:t>
            </a:r>
            <a:fld id="{500D6023-3261-4314-BC0E-57791127AB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6-</a:t>
            </a:r>
            <a:fld id="{5FBC4FEF-98D7-43A0-A068-E8E336B341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ECTURE 6: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ULTIAGENT INTERACTION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03848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MultiAgent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c.liv.ac.uk/~mjw/pubs/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F128-21AB-4266-8760-14ECA950D8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minant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ny particular strategy (eith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of agen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re will be a number of possible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ominat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very outcome possib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y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preferred over every outcome possib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y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tional agent will never play a dominated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in deciding what to do, we ca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elete dominated strate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fortunately, there isn’t always a unique undominated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E67-ACDE-480B-BE76-1449CD980A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sh Equilibriu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70520" indent="-4705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general, we will say that two strateg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in Nash equilibrium i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5040" indent="-39780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assumption that ag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g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no better than pl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5040" indent="-39780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assumption that ag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g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no better than pl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0520" indent="-47052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Neither agent has any incentive to deviate from a Nash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0520" indent="-47052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fortunate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5040" indent="-39780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Not every interaction scenario has a Nash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5040" indent="-39780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ome interaction scenarios have more than one Nash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728-B85B-40EE-A760-9631612FE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mpetitive and Zero-Sum Interacti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preferences of agents are diametrically opposed we hav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ictly competitiv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ro-sum encounters are those where utilities sum to zer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for all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P MathA"/>
                <a:ea typeface="WP MathA"/>
              </a:rPr>
              <a:t>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ro sum implies strictly compet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ro sum encounters in real life are very rare … but people tend to act in many scenarios as if they were zero 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FCC-FA60-4157-8170-752B1895E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en are collectively charged with a crime and held in separate cells, with no way of meeting or communicating. They are told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one confesses and the other does not, the confessor will be freed, and the other will be jailed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oth confess, then each will be jailed for two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prisoners know that if neither confesses, then they will each be jailed for one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885-C52A-4D72-959C-6EB34B45D9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yoff matrix f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soner’s dilemma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 left: If both defect, then both get punishment for mutual de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 right: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perat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cts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s sucker’s payoff of 1, whi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s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tom left: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perat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cts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s sucker’s payoff of 1, whi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s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tom right: Reward for mutual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255276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2AE-A506-441C-A860-F0767B5AB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dividual rationa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 i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defec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guarantees a payoff of no worse than 2, whereas cooperating guarantees a payoff of at mos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defection is the best response to all possible strategies: both agents defect, and get payoff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uition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s this i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t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st outcom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ely they should both cooperate and each get payoff of 3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FD5-FAFF-4CCD-8F29-D057D6751C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pparent paradox i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fundamental problem of multi-agent interac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ppears to imply tha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ooperation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will not occur in societies of self-interested ag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world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ar arms reduction (“why don’t I keep mine. . . 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rider systems — public transpor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UK — television licen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isoner’s dilemma i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ubiquito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recover coope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A57-431B-4CFC-A324-4ABDFC4B6F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rguments for Recovering Cooper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s that some have drawn from this analys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ame theory notion of rational action is wron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how the dilemma is being formulated wrong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guments to recover cooper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not all Machiavelli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ther prisoner is my tw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hadow of the futur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4D0-D11E-4972-9306-DA007E999A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Iterated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nswer: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lay the game more than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know you will be meeting your opponent again, then the incentive to defect appears to evapo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ooperation is the rational choice in the infinititely repeated prisoner’s dilemm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urrah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334-4F77-47A6-80B8-1A265BB07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ckwards In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…suppose you both know that you will play the game exactl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ou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-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you have an incentive to defect, to gain that extra bit of payoff…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is makes rou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st “real”, and so you have an incentive to defect there, too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wards induction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ing the prisoner’s dilemma with a fixed, finite, pre-determined, commonly known number of rounds, defection is the best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CC2-0BB3-416D-8898-EA31A9599C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What are </a:t>
            </a:r>
            <a:r>
              <a:rPr b="0" i="1" lang="en-US" sz="4200" spc="-1" strike="noStrike">
                <a:solidFill>
                  <a:srgbClr val="cc3300"/>
                </a:solidFill>
                <a:latin typeface="Garamond"/>
              </a:rPr>
              <a:t>Multiagent</a:t>
            </a: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 System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172200" cy="55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C98-4532-4C6C-86B1-B7F3D6D1C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xelrod’s Tourna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play iterated prisoner’s dilemma against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ang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opponents…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strategy should you choose, so as to maximize your overall payof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elrod (1984) investigated this problem, with a computer tournament for programs playing the prisoner’s di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323-53CD-4D3F-A860-18108FA2C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ategies in Axelrod’s Tourna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L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defect” —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haw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IT-FOR-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rou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oop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rou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&gt;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do what your opponent did on rou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E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1st round, defect. If the opponent retaliated, then play TIT-FOR-TAT. Otherwise intersperse cooperation and def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O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IT-FOR-TAT, except periodically de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BBE-CAA0-43BB-B9DC-C6824D5BC1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cipes for Success in Axelrod’s Tourname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elrod suggests the following rules for succeeding in his tourna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on’t be envio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play as if it were zero su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Be n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by cooperating, and reciprocate co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taliate appropriate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punish defection immediately, but use “measured” force — don’t overdo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on’t hold grudg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reciprocate cooperation immedi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B6B-E2E0-43B5-B20A-0804FE3E3C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ame of Chic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8128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another type of encounter —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game of chick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hink of James Dean in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bel without a Cau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werving = coop, driving straight = defec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 to prisoner’s dilemma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tual defection is most feared outco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Whereas sucker’s payoff is most feared in prisoner’s dilemma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es (c,d) and (d,c) are in Nash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0400" y="1320840"/>
            <a:ext cx="254304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652-C418-46FD-B5D2-20DC605511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Symmetric 2 x 2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the 4 possible outcomes of (symmetric) cooperate/defect games, there are 24 possible orderings on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D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operation dom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D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D</a:t>
            </a:r>
            <a:br>
              <a:rPr sz="2200"/>
            </a:b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eadlo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You will always do best by defec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D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D</a:t>
            </a:r>
            <a:br>
              <a:rPr sz="2200"/>
            </a:b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Prisoner’s dilem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D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D</a:t>
            </a:r>
            <a:br>
              <a:rPr sz="2200"/>
            </a:b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hic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C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D </a:t>
            </a:r>
            <a:r>
              <a:rPr b="0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D</a:t>
            </a:r>
            <a:br>
              <a:rPr sz="2200"/>
            </a:b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tag h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943-50AC-4632-912E-719E102989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Ag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us a multiagent system contains a numb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gent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interact through communic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ble to act in an environme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different “spheres of influence” (which may coincide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be linked by other (organizational)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719-70DE-4123-B85C-7336C6639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Utilities and P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we have just two agents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 = {i, j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are assumed to b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elf-interes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y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ave preferences over how the environmen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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set of “outcomes” that agents have preferences 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pture preferences by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tility func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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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ty functions lead t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reference ordering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outcome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š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 mea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™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 mea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DD0-E748-42C1-A87D-362C348D1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Utilit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ty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ey (but it is a useful ana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 relationship between utility &amp; mone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96040" cy="44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3D5-D2E3-4642-A085-D88C00DAB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Multiagent Encoun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a model of the environment in which these agents will ac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simultaneously choose an action to perform, and as a result of the actions they select, an outcome i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ll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actua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come depends on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ombinatio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each agent has just two possible actions that it can perform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“cooperate”)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“defect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 behavior given b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te transformer fun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5029200"/>
            <a:ext cx="670572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15E-69DB-4BB5-98FA-F68481B3C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agent Encoun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tate transformer function: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his environment is sensitive to actions of both agent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nother: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either agent has any influence in this environme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here is another: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his environment is controlled b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39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3378240"/>
            <a:ext cx="7162560" cy="38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95280" y="5270400"/>
            <a:ext cx="7162920" cy="3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617-4FC1-40A5-AB37-76027C42B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tional A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the case whe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both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s can influence the outcome, and they have utility functions as follow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bit of abuse of notation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gen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preferences ar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i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ational choic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s all outcomes that arise throug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all outcomes that arise throug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5257800" cy="68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71560" y="3213000"/>
            <a:ext cx="630576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66880" y="4411800"/>
            <a:ext cx="403884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EE7-43DA-46CD-98F7-19B316CA8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yoff Matr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characterize the previous scenario in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ayoff matri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olumn p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n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ow p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8164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739-CE30-4B65-84D3-285BF368C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2:30:06Z</dcterms:created>
  <dc:creator>Jeff Rosenschein</dc:creator>
  <dc:description/>
  <dc:language>en-US</dc:language>
  <cp:lastModifiedBy>Jeff Rosenschein</cp:lastModifiedBy>
  <dcterms:modified xsi:type="dcterms:W3CDTF">2003-12-07T09:21:18Z</dcterms:modified>
  <cp:revision>176</cp:revision>
  <dc:subject>Introduction to MultiAgent Systems</dc:subject>
  <dc:title>Lecture 6: MultiAgent Interactions</dc:title>
</cp:coreProperties>
</file>