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2CB-F52F-4C3E-8ABD-FF79D69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716-ABD4-4EE4-B309-D543269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AEF-4171-4664-A55E-0301BB1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638-0EC0-4D9F-BC75-60989347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5F7-EA64-468C-A4D4-A0D8F9D8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64B-F391-4CEB-9A60-645A5A1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219-C055-4D39-94F1-D799F5CE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73C-3229-4708-B960-46AEF1B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200-76F4-4D04-A653-2747C03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E77-899A-49AF-84EA-D4CF64C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757-2197-4292-B45A-9D1DDBD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ED0-A228-4ABE-B13D-6FAD67E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8E41-43F5-481B-9509-15C8B34A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kaa" descr=""/>
          <p:cNvPicPr/>
          <p:nvPr/>
        </p:nvPicPr>
        <p:blipFill>
          <a:blip r:embed="rId2"/>
          <a:stretch/>
        </p:blipFill>
        <p:spPr>
          <a:xfrm>
            <a:off x="0" y="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kaa" descr=""/>
          <p:cNvPicPr/>
          <p:nvPr/>
        </p:nvPicPr>
        <p:blipFill>
          <a:blip r:embed="rId3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" name="kaa" descr=""/>
          <p:cNvPicPr/>
          <p:nvPr/>
        </p:nvPicPr>
        <p:blipFill>
          <a:blip r:embed="rId4"/>
          <a:stretch/>
        </p:blipFill>
        <p:spPr>
          <a:xfrm>
            <a:off x="0" y="6340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8" name="kaa" descr=""/>
          <p:cNvPicPr/>
          <p:nvPr/>
        </p:nvPicPr>
        <p:blipFill>
          <a:blip r:embed="rId5"/>
          <a:stretch/>
        </p:blipFill>
        <p:spPr>
          <a:xfrm>
            <a:off x="8626320" y="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tions and Stackless Pyt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ere Do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 Want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Not Continua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nerators, Coroutines and Microthreads can be implemented directly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ll be much fa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fe encapsulation of internal contin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ll continuation support is cheap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ay become expensive in the future (Stack optimization, native 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build very fast class-method like functions with generators as w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see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Why Not Continuations -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very_fast_no_continuation(*init_para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o complicated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prepare local state. Locals are pers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gs = generator.initializ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o the cheap 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gs = generator.suspend(resu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st_func = very_fast_no_continuation(“Hi”,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st_func(1)  # use it many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Generator vs. Contin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inuation is imm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erator is m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inuation takes control over order of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erator does not introduce new control structure. Frame jumps from alone by op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First Class vs. One-S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inuations are everywhe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gram counter / return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very today‘s program consists of a series of one-shot continu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-sh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continuation does not survive its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rst-class contin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es survive execution, can be executed infinit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e of frame can always be 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rst class is most power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-Shot is sufficient for Microthreads, Coroutines and Gen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New Project: </a:t>
            </a:r>
            <a:r>
              <a:rPr b="0" lang="de-DE" sz="3600" spc="-1" strike="noStrike">
                <a:solidFill>
                  <a:srgbClr val="cc3300"/>
                </a:solidFill>
                <a:latin typeface="Times New Roman"/>
              </a:rPr>
              <a:t>Cheet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ckless from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rst: Quick system-independent extens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ter: Fast system-specific extens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th related/inspired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sed from restricted Pytho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le to extend regular Python with new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le to replace the whole Python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onsors are most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acklesssssh</a:t>
            </a:r>
            <a:r>
              <a:rPr b="0" i="1" lang="de-DE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 Pyth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756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kaa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105000" cy="310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5630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And the clueless implement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Applications of Stackless Pyt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U – Florida Atlantic University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ft real time control system for autonomous underwater veh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current hierarchy of hierarchical state machines that can be loaded dynamically. Language Pyth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 thread implementation is expensive and operates at 1 Hz Resolution. Microthreads with Stackless Python supposed to run at 12 Hz or faster, also supporting multiple simultaneous behaviors. My current project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ordon McMillan: Highly parallelized FTP-Server (not open Source y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m Rushing: Medusa on top of coroutines *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MPOG: Eve! Massively Multi-Player Online Game. </a:t>
            </a:r>
            <a:r>
              <a:rPr b="0" lang="de-DE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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*) sponsored work *?) may become sponsored, s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Moving Tar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arly version: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y to minimize changes in order to get into the core. Guido reejcts it but accepts the paper for IPC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w version: 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ill only a small number of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ssive changes to ceval.c for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ave up on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ke it attractive even without stackless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s is hard to maintain! Long delay for SLP 2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ion 2.0: (2000/2001) „The Kiel Editio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intainability was re-g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nimized code-reorderings, all systematic optimization done by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Stackless Python 2.2? N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gration into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w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ssive changes to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void *any* recursion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routines, Generatrors, Micro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t to be done by me (!!reasons: Gordo does 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 continuations at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litting path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ckless python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 all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tinue to support contin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ducational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udying exp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y to be 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ckful Pyth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reter interprets op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LL_FUNCTION (Python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ilds new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lls new interpreter,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preter interprets op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inues with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ow Does It Work? Trampolin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ckless Pyth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pat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rts interpreter with topmost frame +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preter interprets op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ALL_FUNCTION (Python fun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ilds new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turns to Dispatcher with unwind 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pat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rts interpreter with topmost frame +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preter interprets op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.. and s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Continua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pears to be the simplest possible, most powerfu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model *any* kind of control 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also any control fla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build Generators, Coroutines and Microthreads in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do much more! (But is it neede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eme does it, so Python to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 build very fast class-method lik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see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Why Continuations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very_fast_with_state(*init_para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o complicated init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prepare local state. Locals are persi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gs = continuation.return_curren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o the cheap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st_func = very_fast_with_state(“Hi”,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st_func(1)  # use it many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6:46:18Z</dcterms:created>
  <dc:creator>Christian Tismer</dc:creator>
  <dc:description/>
  <dc:language>en-US</dc:language>
  <cp:lastModifiedBy>Christian Tismer</cp:lastModifiedBy>
  <dcterms:modified xsi:type="dcterms:W3CDTF">2001-03-05T21:23:32Z</dcterms:modified>
  <cp:revision>84</cp:revision>
  <dc:subject/>
  <dc:title>Continuations and Stackless Python</dc:title>
</cp:coreProperties>
</file>