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0CD7-A15C-4FEB-AE21-4097A2B8383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372E-34CC-46A8-AFB4-8983094BA42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C9F1-5C86-46F3-AF09-71847F8DD02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28A4-66E4-4023-9FFA-9EBB132C0EC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392C-0CD7-45F0-9CFD-DCDD6008CFA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718-D201-4559-B04C-F9091004351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DEA3-7515-4892-8EBC-116C912CAA2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E95E-7D88-4AB6-AA3D-E502F60AF66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42C7-70EC-479D-80D8-B814AB751A1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6C9-1E61-4781-B77F-0882AD7C714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8BCA-4110-4792-8B61-F1835B80518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E198-0A7A-4145-9874-3E38BD0EE67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A510-7992-4D58-A4BD-00E07326C31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09FE-8141-46E0-B58F-5E9ED0D5A8A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49A5-62F0-4692-8DFF-53AE8512821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FF4-67D8-41B1-AC0C-67EF93F7871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6E30-CD80-454F-8822-A90FFEFD289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9243-A61C-42F5-BE1C-E09632F161A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AA6B-8390-4485-8BBF-C0C3D059A50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9E2A-505D-4F56-82F4-A641DF2BB88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4520-C608-43C6-95F3-C987E10C4BA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2926-DD4B-4EE1-A09C-E14896936FE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0CBF-45BA-4843-A51C-00CF5CDE6F4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78A9-3B40-425F-8D38-92108C955E0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36C-7791-4B79-8791-719955BA3AE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8EC-A759-47AD-A884-5A639ABF185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1742-C2D3-4C51-A74C-7B0C26C30EC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18A-9867-4F04-96E7-FB7C367F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92B-FEE1-4FCB-AD98-3DB9FAC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74F-2912-4AF2-846B-3DA17C7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7D8-DD62-496D-882B-087CAA20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8A9D-79AF-4603-BCCD-F166E2B5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B116-7FAB-4EAB-B1D4-6B47BA3F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343C-9264-410D-BEAD-1E0916A9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755D-633A-4881-8EAC-0A1EF76B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4C06-66D4-4397-A809-B11B58A8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4EFA-ACD8-431B-9E42-90E998D1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53C-56D6-49CE-B125-9EF2C5B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FF3-E692-47B6-B2D9-D95CD14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D0FD-3570-4360-A665-A12D956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E8E7-DC39-484F-8945-75B4C7B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FD20-DF9C-4972-9D4A-73EC9302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8FCA-1BC3-4326-A83F-4B1420C7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252-D544-4CE6-95BE-A160C463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769-B5F6-447E-BEB4-C6DC0503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485-E2A5-4390-88EC-C51A6F4C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2B7-DA7F-42D7-95F9-D05946D3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D17-297E-4186-9F75-0E33B967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A39-07E5-472A-B44A-FC1D02C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489-E1BF-41D6-BB44-B7327CE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9C3-D4D5-44BA-BAFA-62A132B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C2FB-E8CF-41AA-8E8E-8F2F49D5461B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15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3B93-693F-4A81-8348-23EB78F8EFCC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8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9534-6693-43A5-827F-AE9BE4B6A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X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815B-C957-4D2D-AD03-ADD7994CCD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matrices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 – n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 – m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, can be multiplied to get C with dimension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,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s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m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 multi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Compute a product of many matrices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 multiplication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AB)C = A(B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8"/>
          <p:cNvSpPr/>
          <p:nvPr/>
        </p:nvSpPr>
        <p:spPr>
          <a:xfrm rot="16200000">
            <a:off x="4747320" y="3436200"/>
            <a:ext cx="465120" cy="43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 rot="16200000">
            <a:off x="2949480" y="3423600"/>
            <a:ext cx="834840" cy="43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712880" y="3408480"/>
            <a:ext cx="835200" cy="43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6012000" y="3054240"/>
          <a:ext cx="241452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054240"/>
                    <a:ext cx="241452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1577880" y="2898720"/>
          <a:ext cx="4019760" cy="14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7880" y="2898720"/>
                    <a:ext cx="401976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FB7-DC7F-4D0B-B1F4-0A29880BDB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renthesization mat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4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AB)C)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 + 12000 + 7500 = 207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AB)(CD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 + 10000 + 30000 = 412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((BC)D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0 + 250 + 750 = 14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need to optimally parenthesiz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957240" y="5659560"/>
          <a:ext cx="736596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5659560"/>
                    <a:ext cx="73659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D1C8-B550-469D-91A1-EAFA3256B7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(i,j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ber of multiplications necessary to compu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obser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utermost parenthesis partition the chain of matric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,j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so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&lt;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…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(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…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ptimal parenthesization of matric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,j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 optimal parenthesizations on either sid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for matric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,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k+1,j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7763040" y="1892160"/>
          <a:ext cx="104904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3040" y="1892160"/>
                    <a:ext cx="10490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E76B-FC98-4337-85C2-C9FBBD59C6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ry out all possib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rren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irect recursive implementation is exponential – there is a lot of duplicated work (why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there are only                   different subproblem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i,j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wher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995400" y="2278080"/>
          <a:ext cx="631656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278080"/>
                    <a:ext cx="63165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5"/>
          <p:cNvGraphicFramePr/>
          <p:nvPr/>
        </p:nvGraphicFramePr>
        <p:xfrm>
          <a:off x="4503600" y="4748040"/>
          <a:ext cx="2075040" cy="9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3600" y="4748040"/>
                    <a:ext cx="2075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102C-4D24-4EBC-BD18-57001E9D61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6880" y="1550880"/>
            <a:ext cx="854712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it requires onl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space to store the optimal co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(i,j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of the subproblems: half of a 2d array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[1..n,1..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27000" y="2786040"/>
            <a:ext cx="5651640" cy="373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rix-Chain-Ord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    M[i,i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-l+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        j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l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-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[i,k]+M[k+1,j]+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q &lt; M[i,j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[i,j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, 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02DD-E8BE-4E1D-9147-63D95BD98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 (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6880" y="1638360"/>
            <a:ext cx="8547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execution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[1,n]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the value of the optimal solution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optimal subdivisions (choices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ny subproblem into two subsub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imple recursive algorithm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nt-Optimal-Pare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, i,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an be used to reconstruct an optimal parenthes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us run the algorithm 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 = [10, 20, 3, 5, 30]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043E-C9A5-4297-88B7-6430381AB3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ying Matrices (7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ning 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easy to see that it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urns out, it is als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exponential time to polynom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DEB8-4FCF-4D30-B9A1-42B3BFC699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96520" y="1576440"/>
            <a:ext cx="835812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we still like recursion very much, we can structure our algorithm as a recursive 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e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lement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al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okup-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, i, j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20920" y="3305160"/>
            <a:ext cx="6669000" cy="314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kup-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,i,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[i,j] &lt;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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[i,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=j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[i,j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for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k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j-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kup-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,i,k)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kup-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,k+1,j)+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q &lt; M[i,j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M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[i,j]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9AF-2769-4EB3-A085-AEEEC9B282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l, to apply dynamic programming, we have to address a number of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Sho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al sub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 optimal solution to the problem contains within it optimal solutions to sub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 to a problem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ing a choice out of a number of possibilities (look what possible choices there can b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lving one or more subproblems that are the result of a choice (characterize the space of subproblem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that solutions to subproblems must themselves be optimal for the whole solution to be optimal (use “cut-and-paste” argument)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A6D-B560-4948-A7D4-29DF7C00D9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Programm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5440" y="1576440"/>
            <a:ext cx="85694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Write a recurrence for the value of an optimal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ver all choices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(Sum of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subproblems, resultnig from choi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(the cost associated with making the choi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that the number of different instances of subproblems is bounded by a poly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AAC-C3C4-4A58-83B6-58A23AFA85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onacci numbers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 multiplication optimiz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les of dynamic 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st Common Sub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DB67-726C-4B57-AED1-82446AD294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Programming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5440" y="1576440"/>
            <a:ext cx="85694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Compute the value of an optimal solution in a bottom-up fashion, so that you always have the necessary subresults precomputed (or use memoiza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if it is possible to reduce the space requirements, by “forgetting” solutions to subproblems that will not be used any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Construct an optimal solution from computed information (which records a sequence of choices made that lead to an optimal solut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1201-DAE9-436A-A9BE-D45E6D0787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ngest Common Subsequ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text strings are given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need to quantify how similar they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ng DNA sequences in studies of evolution of different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ll che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measures of similarity is the length of a Longest Common Subsequence (L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F903-4AEB-41E0-B0CC-78F62B7803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CS: Defi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subsequence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t is possible to generat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skipping some (possibly none) characters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“ACGGTTA”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“CGTAT”, LCS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= “CGTA” or “CGTT”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olve LCS problem we have to find “skips” that generate LCS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“skips” that generate LCS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,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466-7BA2-4F79-A28B-DE627F652E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CS: Optimal Sub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601640"/>
            <a:ext cx="8547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mak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empty and proceed from the end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=“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=“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…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ppend this symbol to the beginn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find optimally LCS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ip either a letter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a letter from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e which decision to do by comparing LCS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and LCS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-and-paste” arg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80AF-3622-48C7-B56C-4A1492B20F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CS: Reccu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lgorithm could be easily extended by allowing more “editing” operations in addition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py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kipp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e.g., changing a le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c[i,j] = LCS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e: conditions in the problem restrict subproblems (What is the total number of subproblems?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992160" y="3457440"/>
          <a:ext cx="7915320" cy="17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3457440"/>
                    <a:ext cx="7915320" cy="17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2D46-4236-4ECF-AF15-6A18838C4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CS: Compute the Optim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954000" y="1573200"/>
            <a:ext cx="6678720" cy="506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CS-Leng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X, Y, m,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    c[i,0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     c[0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x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 y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-1,j-1]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b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”cop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lse if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-1,j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c[i,j-1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-1,j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”skipx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[i,j-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[i,j]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”skip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, b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889-B4D6-4FF2-86AA-BF1AE0B186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CS: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s run: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“ACGGTTA”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“CGTA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can we reduce our space requirements, if we do not  need to reconstruct L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B029-D699-438D-A15A-12B79674A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vide and Conqu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and conqu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for algorithm desig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If the input size is too large to deal with in a straightforward manner, divide the problem into two or more disjoint sub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qu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Use divide and conquer recursively to solve the sub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bi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ake the solutions to the subproblems and “merge” these solutions into a solution for the original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7AF6-AE77-4FD9-86C7-A5D6902009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vide and Conquer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37083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rgeS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problems are independent, all differ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346640" y="1581120"/>
            <a:ext cx="434340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, p,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 &lt; 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p+r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A, p,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rge-Sor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A, q+1,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A, p, q,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4334040" y="3781440"/>
          <a:ext cx="4457520" cy="25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040" y="3781440"/>
                    <a:ext cx="445752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E2EF-CE64-4B63-9430-489BFF0877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onacci Nu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= 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+ 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=0, 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, 1, 1, 2, 3, 5, 8, 13, 21, 34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ightforward recursive procedure is slow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? How slow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draw the recursion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6956-9D5B-4037-BA18-7F6EB9E64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8"/>
          <p:cNvSpPr/>
          <p:nvPr/>
        </p:nvSpPr>
        <p:spPr>
          <a:xfrm>
            <a:off x="5580000" y="2225520"/>
            <a:ext cx="3381480" cy="2049480"/>
          </a:xfrm>
          <a:prstGeom prst="triangle">
            <a:avLst>
              <a:gd name="adj" fmla="val 60046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7"/>
          <p:cNvSpPr/>
          <p:nvPr/>
        </p:nvSpPr>
        <p:spPr>
          <a:xfrm>
            <a:off x="3738600" y="2830680"/>
            <a:ext cx="1695240" cy="1444320"/>
          </a:xfrm>
          <a:prstGeom prst="triangle">
            <a:avLst>
              <a:gd name="adj" fmla="val 56181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6"/>
          <p:cNvSpPr/>
          <p:nvPr/>
        </p:nvSpPr>
        <p:spPr>
          <a:xfrm>
            <a:off x="2717640" y="3409920"/>
            <a:ext cx="960480" cy="865080"/>
          </a:xfrm>
          <a:prstGeom prst="triangle">
            <a:avLst>
              <a:gd name="adj" fmla="val 59338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5"/>
          <p:cNvSpPr/>
          <p:nvPr/>
        </p:nvSpPr>
        <p:spPr>
          <a:xfrm>
            <a:off x="2073240" y="3938760"/>
            <a:ext cx="615960" cy="336240"/>
          </a:xfrm>
          <a:prstGeom prst="triangle">
            <a:avLst>
              <a:gd name="adj" fmla="val 50000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onacci Number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6520" y="5257800"/>
            <a:ext cx="835812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keep calculating the same value over and over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395960" y="154476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(6) =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094920" y="21495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(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501280" y="27543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909080" y="33591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723240" y="45705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315080" y="3963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12"/>
          <p:cNvCxnSpPr>
            <a:stCxn id="137" idx="2"/>
            <a:endCxn id="138" idx="0"/>
          </p:cNvCxnSpPr>
          <p:nvPr/>
        </p:nvCxnSpPr>
        <p:spPr>
          <a:xfrm flipH="1">
            <a:off x="3336120" y="1849320"/>
            <a:ext cx="14598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13"/>
          <p:cNvCxnSpPr>
            <a:stCxn id="138" idx="2"/>
            <a:endCxn id="139" idx="0"/>
          </p:cNvCxnSpPr>
          <p:nvPr/>
        </p:nvCxnSpPr>
        <p:spPr>
          <a:xfrm flipH="1">
            <a:off x="2742480" y="2454120"/>
            <a:ext cx="5943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14"/>
          <p:cNvCxnSpPr>
            <a:stCxn id="140" idx="0"/>
            <a:endCxn id="139" idx="2"/>
          </p:cNvCxnSpPr>
          <p:nvPr/>
        </p:nvCxnSpPr>
        <p:spPr>
          <a:xfrm flipV="1">
            <a:off x="2150640" y="3058560"/>
            <a:ext cx="59292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15"/>
          <p:cNvCxnSpPr>
            <a:stCxn id="140" idx="2"/>
            <a:endCxn id="142" idx="0"/>
          </p:cNvCxnSpPr>
          <p:nvPr/>
        </p:nvCxnSpPr>
        <p:spPr>
          <a:xfrm flipH="1">
            <a:off x="1556640" y="3663720"/>
            <a:ext cx="5943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16"/>
          <p:cNvCxnSpPr>
            <a:stCxn id="142" idx="2"/>
            <a:endCxn id="141" idx="0"/>
          </p:cNvCxnSpPr>
          <p:nvPr/>
        </p:nvCxnSpPr>
        <p:spPr>
          <a:xfrm flipH="1">
            <a:off x="964440" y="4268880"/>
            <a:ext cx="59292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" name="Text Box 17"/>
          <p:cNvSpPr/>
          <p:nvPr/>
        </p:nvSpPr>
        <p:spPr>
          <a:xfrm>
            <a:off x="1667520" y="46036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8"/>
          <p:cNvCxnSpPr>
            <a:stCxn id="142" idx="2"/>
            <a:endCxn id="148" idx="0"/>
          </p:cNvCxnSpPr>
          <p:nvPr/>
        </p:nvCxnSpPr>
        <p:spPr>
          <a:xfrm>
            <a:off x="1557000" y="4268880"/>
            <a:ext cx="3531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Text Box 19"/>
          <p:cNvSpPr/>
          <p:nvPr/>
        </p:nvSpPr>
        <p:spPr>
          <a:xfrm>
            <a:off x="2153520" y="39895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20"/>
          <p:cNvCxnSpPr>
            <a:stCxn id="140" idx="2"/>
            <a:endCxn id="150" idx="0"/>
          </p:cNvCxnSpPr>
          <p:nvPr/>
        </p:nvCxnSpPr>
        <p:spPr>
          <a:xfrm>
            <a:off x="2150640" y="3664080"/>
            <a:ext cx="2448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Text Box 21"/>
          <p:cNvSpPr/>
          <p:nvPr/>
        </p:nvSpPr>
        <p:spPr>
          <a:xfrm>
            <a:off x="2675880" y="39942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3029760" y="33876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AutoShape 23"/>
          <p:cNvCxnSpPr>
            <a:stCxn id="153" idx="2"/>
            <a:endCxn id="152" idx="0"/>
          </p:cNvCxnSpPr>
          <p:nvPr/>
        </p:nvCxnSpPr>
        <p:spPr>
          <a:xfrm flipH="1">
            <a:off x="2917080" y="3692520"/>
            <a:ext cx="3546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Text Box 24"/>
          <p:cNvSpPr/>
          <p:nvPr/>
        </p:nvSpPr>
        <p:spPr>
          <a:xfrm>
            <a:off x="3286800" y="40273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AutoShape 25"/>
          <p:cNvCxnSpPr>
            <a:stCxn id="153" idx="2"/>
            <a:endCxn id="155" idx="0"/>
          </p:cNvCxnSpPr>
          <p:nvPr/>
        </p:nvCxnSpPr>
        <p:spPr>
          <a:xfrm>
            <a:off x="3271320" y="3692520"/>
            <a:ext cx="25812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AutoShape 26"/>
          <p:cNvCxnSpPr>
            <a:stCxn id="139" idx="2"/>
            <a:endCxn id="153" idx="0"/>
          </p:cNvCxnSpPr>
          <p:nvPr/>
        </p:nvCxnSpPr>
        <p:spPr>
          <a:xfrm>
            <a:off x="2743200" y="3059280"/>
            <a:ext cx="52920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Text Box 27"/>
          <p:cNvSpPr/>
          <p:nvPr/>
        </p:nvSpPr>
        <p:spPr>
          <a:xfrm>
            <a:off x="4402800" y="28018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759840" y="40226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4123440" y="34164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AutoShape 30"/>
          <p:cNvCxnSpPr>
            <a:stCxn id="158" idx="0"/>
            <a:endCxn id="138" idx="2"/>
          </p:cNvCxnSpPr>
          <p:nvPr/>
        </p:nvCxnSpPr>
        <p:spPr>
          <a:xfrm flipH="1" flipV="1">
            <a:off x="3336480" y="2453760"/>
            <a:ext cx="130896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31"/>
          <p:cNvCxnSpPr>
            <a:stCxn id="158" idx="2"/>
            <a:endCxn id="160" idx="0"/>
          </p:cNvCxnSpPr>
          <p:nvPr/>
        </p:nvCxnSpPr>
        <p:spPr>
          <a:xfrm flipH="1">
            <a:off x="4365360" y="3106800"/>
            <a:ext cx="280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32"/>
          <p:cNvCxnSpPr>
            <a:stCxn id="160" idx="2"/>
            <a:endCxn id="159" idx="0"/>
          </p:cNvCxnSpPr>
          <p:nvPr/>
        </p:nvCxnSpPr>
        <p:spPr>
          <a:xfrm flipH="1">
            <a:off x="4001760" y="3720960"/>
            <a:ext cx="36432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Text Box 33"/>
          <p:cNvSpPr/>
          <p:nvPr/>
        </p:nvSpPr>
        <p:spPr>
          <a:xfrm>
            <a:off x="4380840" y="40464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AutoShape 34"/>
          <p:cNvCxnSpPr>
            <a:stCxn id="160" idx="2"/>
            <a:endCxn id="164" idx="0"/>
          </p:cNvCxnSpPr>
          <p:nvPr/>
        </p:nvCxnSpPr>
        <p:spPr>
          <a:xfrm>
            <a:off x="4365720" y="3720960"/>
            <a:ext cx="2577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Text Box 35"/>
          <p:cNvSpPr/>
          <p:nvPr/>
        </p:nvSpPr>
        <p:spPr>
          <a:xfrm>
            <a:off x="4704480" y="343224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36"/>
          <p:cNvCxnSpPr>
            <a:stCxn id="158" idx="2"/>
            <a:endCxn id="166" idx="0"/>
          </p:cNvCxnSpPr>
          <p:nvPr/>
        </p:nvCxnSpPr>
        <p:spPr>
          <a:xfrm>
            <a:off x="4645080" y="3106800"/>
            <a:ext cx="30240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" name="Text Box 37"/>
          <p:cNvSpPr/>
          <p:nvPr/>
        </p:nvSpPr>
        <p:spPr>
          <a:xfrm>
            <a:off x="7341480" y="22161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749280" y="2820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5563440" y="40323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6155640" y="34257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AutoShape 41"/>
          <p:cNvCxnSpPr>
            <a:stCxn id="137" idx="2"/>
            <a:endCxn id="168" idx="0"/>
          </p:cNvCxnSpPr>
          <p:nvPr/>
        </p:nvCxnSpPr>
        <p:spPr>
          <a:xfrm>
            <a:off x="4795560" y="1848960"/>
            <a:ext cx="278820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AutoShape 42"/>
          <p:cNvCxnSpPr>
            <a:stCxn id="169" idx="0"/>
            <a:endCxn id="168" idx="2"/>
          </p:cNvCxnSpPr>
          <p:nvPr/>
        </p:nvCxnSpPr>
        <p:spPr>
          <a:xfrm flipV="1">
            <a:off x="6990840" y="2520360"/>
            <a:ext cx="59292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43"/>
          <p:cNvCxnSpPr>
            <a:stCxn id="169" idx="2"/>
            <a:endCxn id="171" idx="0"/>
          </p:cNvCxnSpPr>
          <p:nvPr/>
        </p:nvCxnSpPr>
        <p:spPr>
          <a:xfrm flipH="1">
            <a:off x="6396840" y="3125520"/>
            <a:ext cx="5943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AutoShape 44"/>
          <p:cNvCxnSpPr>
            <a:stCxn id="171" idx="2"/>
            <a:endCxn id="170" idx="0"/>
          </p:cNvCxnSpPr>
          <p:nvPr/>
        </p:nvCxnSpPr>
        <p:spPr>
          <a:xfrm flipH="1">
            <a:off x="5804640" y="3730680"/>
            <a:ext cx="59292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Text Box 45"/>
          <p:cNvSpPr/>
          <p:nvPr/>
        </p:nvSpPr>
        <p:spPr>
          <a:xfrm>
            <a:off x="6508080" y="40654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46"/>
          <p:cNvCxnSpPr>
            <a:stCxn id="171" idx="2"/>
            <a:endCxn id="176" idx="0"/>
          </p:cNvCxnSpPr>
          <p:nvPr/>
        </p:nvCxnSpPr>
        <p:spPr>
          <a:xfrm>
            <a:off x="6397200" y="3730680"/>
            <a:ext cx="3531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Text Box 47"/>
          <p:cNvSpPr/>
          <p:nvPr/>
        </p:nvSpPr>
        <p:spPr>
          <a:xfrm>
            <a:off x="6993720" y="34513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AutoShape 48"/>
          <p:cNvCxnSpPr>
            <a:stCxn id="169" idx="2"/>
            <a:endCxn id="178" idx="0"/>
          </p:cNvCxnSpPr>
          <p:nvPr/>
        </p:nvCxnSpPr>
        <p:spPr>
          <a:xfrm>
            <a:off x="6991200" y="3125880"/>
            <a:ext cx="2455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Text Box 49"/>
          <p:cNvSpPr/>
          <p:nvPr/>
        </p:nvSpPr>
        <p:spPr>
          <a:xfrm>
            <a:off x="7516080" y="34560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7727040" y="284940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AutoShape 51"/>
          <p:cNvCxnSpPr>
            <a:stCxn id="181" idx="2"/>
            <a:endCxn id="180" idx="0"/>
          </p:cNvCxnSpPr>
          <p:nvPr/>
        </p:nvCxnSpPr>
        <p:spPr>
          <a:xfrm flipH="1">
            <a:off x="7757280" y="3154320"/>
            <a:ext cx="21204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Text Box 52"/>
          <p:cNvSpPr/>
          <p:nvPr/>
        </p:nvSpPr>
        <p:spPr>
          <a:xfrm>
            <a:off x="8127360" y="348948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ahoma"/>
              </a:rPr>
              <a:t>F(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AutoShape 53"/>
          <p:cNvCxnSpPr>
            <a:stCxn id="181" idx="2"/>
            <a:endCxn id="183" idx="0"/>
          </p:cNvCxnSpPr>
          <p:nvPr/>
        </p:nvCxnSpPr>
        <p:spPr>
          <a:xfrm>
            <a:off x="7968960" y="3153960"/>
            <a:ext cx="4006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AutoShape 54"/>
          <p:cNvCxnSpPr>
            <a:stCxn id="168" idx="2"/>
            <a:endCxn id="181" idx="0"/>
          </p:cNvCxnSpPr>
          <p:nvPr/>
        </p:nvCxnSpPr>
        <p:spPr>
          <a:xfrm>
            <a:off x="7583400" y="2521080"/>
            <a:ext cx="3866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6E3-2DF7-4B3A-82B5-4F5E41B9FB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onacci Number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summations are the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lden rat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recursion tree has only 0s and 1s as leaves, thus we hav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m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ning tim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nential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3484440" y="2119320"/>
          <a:ext cx="37134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4440" y="2119320"/>
                    <a:ext cx="37134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815C-3A44-475E-BE11-CDE8FCAE8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onacci Number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calcul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ime by remembering solutions to the solved subproblems –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solution in a bottom-up fash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space for tim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ase, only two values need to be remembered at any ti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571920" y="4826160"/>
            <a:ext cx="434340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-1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</a:rPr>
              <a:t>i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73B3-F751-404A-BA55-B9103FA942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to choose one solution out of many – a one with the optimal (minimum or maximum) val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lution exhibits a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onsists of a string of choices that were made – what choices have to be made to arrive at an optimal solu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lgorithms computes the optimal value plus, if needed, the optimal s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20:04Z</dcterms:modified>
  <cp:revision>106</cp:revision>
  <dc:subject/>
  <dc:title>Algorithms and Data Structures</dc:title>
</cp:coreProperties>
</file>