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ABF6-DE5C-4269-9BD6-72E606F6024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A0B2-1114-4B07-88D6-FC35A6AA37E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026E-A710-47BC-AA73-745C2E99DCB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6908-7174-4767-8226-859A47EC26C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DE4-3AD1-4DB1-9C73-8671526444F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3497-9409-4E2F-AE10-6BA795EC24B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FE44-D6FC-4258-ACEC-9A54564489F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B1B-597B-4444-9AAE-2B8755936E6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13E-227F-4EC2-892E-8212E66E736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3394-7F6C-41AA-ABF0-9EA0E08B2A5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7CBD-83EE-4467-95CD-526BEF2E96C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B74-473F-4934-B816-51B69491E28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9F4-4ACE-431E-869D-665D4D63636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8C6-1AAB-47E5-90BA-689EAF927EE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BD74-DDC4-489B-8466-488EE77BB07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86C-24FC-460E-AFC8-6941F83614D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0985-C339-437F-B1DF-62AB4DC6F75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797E-B35E-413A-8D6A-EDC32EAFC75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5AF3-4CA2-41A7-91D2-353F4643E9D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7C4-4FB9-442C-8097-32445F027CA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7453-BB85-448D-99F0-E991ADB4932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57C-501C-417A-A3DF-E15554F4018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A29-3550-436E-96C6-7F6BA0C3B17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A52C-D8B2-4786-9A39-5D0004D02A8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4609-8F39-4FC5-9C85-D05BE59D4CF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BB67-6E66-43A3-80B5-2AA4B9B4DF1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3DE-7F24-4C40-9140-0D398973A7D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FE42-D9C0-4F4E-950C-3C4D3627719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FA9-1062-4310-BD0F-1A41391237D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C0F-8FF7-4C33-8976-D77063FD043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FCFB-99E9-4BC7-9967-804FC334AE6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10DB-CAF5-4F84-A486-D556E7D44AB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EB4-CB99-45D5-B360-55F488D3181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0EC-5378-40DC-9797-51FA3197F4F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223E-0E2C-4866-A1E3-C1EF7E2DC5B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B93-2490-4095-B582-39D0CC10B0C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6F9-75C4-46F8-B85E-35248503B5D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E606-E763-4749-9A51-27E3460269D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07AB-2771-4CB7-80CC-151E2F202AD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9A8-125F-4798-A6DA-08C3D96D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091-70E3-49AD-B5ED-C264A538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432-30E9-4AD2-A951-2B5AB6FA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814-0A80-4F33-9949-43FC8D14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369D-6CFD-4062-A668-C023C178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CAA0-7C86-47CD-8C01-7E508FC2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37CB-FEC0-4A04-A4DA-FC9F2D7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CCE8-B6AD-41BC-AEA6-E80304F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C2F-5BCC-485F-B3EA-A7E6B5C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58C8-5B0D-4F14-9803-3578EF76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54B-A46D-40FB-B378-FCD0C0C6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424-98D4-4788-8331-2E88D9EF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1E9E-9A0A-477B-9652-4100C09F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119-2D11-4849-807D-4186FDB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A66-8E99-4560-ACAE-33122BA1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D1AF-ABBE-48A6-B4FB-682804F2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B0B6-C65D-41B2-828E-DF4507B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F3B-D5F3-4EA2-AE6B-A0AE7B41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809-A516-4B25-AFF7-90D823EF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B52-CB87-42D6-9A09-54430FB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56C-31B6-4219-AC37-CAE21B17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E49-0957-418B-BD00-66E2511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476-5F17-49C1-B057-70555C1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F3E-34F2-4EF0-9D21-244E3D0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567-3BB0-4A2C-AEFF-570D0C5BD2C9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12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0562-3C86-4A14-80D0-09E6A5F39CCD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38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40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0689-9539-4E2B-AEB7-11042E3CC8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IX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04DE-CA4F-4FA3-BA7A-12F2096082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-tree Defini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 leaf has the same dep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nodes except the root node have betwee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ildren (i.e. betwee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1 and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1 keys). A B-tree of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ot node has between 0 and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ildren (i.e. between 0 and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1 key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1874-643C-49D3-8E8D-6356417500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tre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heigh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keys and minimum degre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the following restriction on the height hol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ight of a B-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262400" y="2322360"/>
          <a:ext cx="1859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2400" y="2322360"/>
                    <a:ext cx="1859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1568520" y="5524560"/>
          <a:ext cx="39322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5524560"/>
                    <a:ext cx="3932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2895480" y="32097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219320" y="412416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029200" y="41241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AutoShape 9"/>
          <p:cNvCxnSpPr>
            <a:stCxn id="185" idx="2"/>
            <a:endCxn id="186" idx="0"/>
          </p:cNvCxnSpPr>
          <p:nvPr/>
        </p:nvCxnSpPr>
        <p:spPr>
          <a:xfrm flipH="1">
            <a:off x="1599480" y="3619440"/>
            <a:ext cx="167724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9" name="AutoShape 10"/>
          <p:cNvCxnSpPr>
            <a:stCxn id="185" idx="2"/>
            <a:endCxn id="187" idx="0"/>
          </p:cNvCxnSpPr>
          <p:nvPr/>
        </p:nvCxnSpPr>
        <p:spPr>
          <a:xfrm>
            <a:off x="3276720" y="3619440"/>
            <a:ext cx="213408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90" name="Text Box 11"/>
          <p:cNvSpPr/>
          <p:nvPr/>
        </p:nvSpPr>
        <p:spPr>
          <a:xfrm>
            <a:off x="533520" y="503856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47920" y="503856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971800" y="5038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209680" y="50385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AutoShape 15"/>
          <p:cNvCxnSpPr>
            <a:endCxn id="190" idx="0"/>
          </p:cNvCxnSpPr>
          <p:nvPr/>
        </p:nvCxnSpPr>
        <p:spPr>
          <a:xfrm flipH="1">
            <a:off x="913680" y="4533840"/>
            <a:ext cx="68652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5" name="AutoShape 16"/>
          <p:cNvCxnSpPr>
            <a:endCxn id="191" idx="0"/>
          </p:cNvCxnSpPr>
          <p:nvPr/>
        </p:nvCxnSpPr>
        <p:spPr>
          <a:xfrm>
            <a:off x="1599840" y="4533840"/>
            <a:ext cx="22932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6" name="AutoShape 17"/>
          <p:cNvCxnSpPr>
            <a:endCxn id="192" idx="0"/>
          </p:cNvCxnSpPr>
          <p:nvPr/>
        </p:nvCxnSpPr>
        <p:spPr>
          <a:xfrm>
            <a:off x="1600200" y="4533840"/>
            <a:ext cx="175320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97" name="AutoShape 18"/>
          <p:cNvCxnSpPr/>
          <p:nvPr/>
        </p:nvCxnSpPr>
        <p:spPr>
          <a:xfrm>
            <a:off x="1599840" y="4533480"/>
            <a:ext cx="229320" cy="27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8" name="AutoShape 19"/>
          <p:cNvCxnSpPr/>
          <p:nvPr/>
        </p:nvCxnSpPr>
        <p:spPr>
          <a:xfrm>
            <a:off x="1600200" y="4533480"/>
            <a:ext cx="381600" cy="27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9" name="AutoShape 20"/>
          <p:cNvCxnSpPr/>
          <p:nvPr/>
        </p:nvCxnSpPr>
        <p:spPr>
          <a:xfrm>
            <a:off x="1600200" y="4533840"/>
            <a:ext cx="534240" cy="200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00" name="Text Box 21"/>
          <p:cNvSpPr/>
          <p:nvPr/>
        </p:nvSpPr>
        <p:spPr>
          <a:xfrm>
            <a:off x="4343400" y="4581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685800" y="4581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4343400" y="5038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257800" y="5038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6400800" y="5038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t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5867280" y="50385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AutoShape 27"/>
          <p:cNvCxnSpPr>
            <a:endCxn id="202" idx="0"/>
          </p:cNvCxnSpPr>
          <p:nvPr/>
        </p:nvCxnSpPr>
        <p:spPr>
          <a:xfrm flipH="1">
            <a:off x="4723560" y="4533840"/>
            <a:ext cx="68652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7" name="AutoShape 28"/>
          <p:cNvCxnSpPr>
            <a:endCxn id="203" idx="0"/>
          </p:cNvCxnSpPr>
          <p:nvPr/>
        </p:nvCxnSpPr>
        <p:spPr>
          <a:xfrm>
            <a:off x="5409720" y="4533840"/>
            <a:ext cx="22932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8" name="AutoShape 29"/>
          <p:cNvCxnSpPr>
            <a:stCxn id="187" idx="2"/>
            <a:endCxn id="204" idx="0"/>
          </p:cNvCxnSpPr>
          <p:nvPr/>
        </p:nvCxnSpPr>
        <p:spPr>
          <a:xfrm>
            <a:off x="5410080" y="4533840"/>
            <a:ext cx="1372320" cy="505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9" name="AutoShape 30"/>
          <p:cNvCxnSpPr/>
          <p:nvPr/>
        </p:nvCxnSpPr>
        <p:spPr>
          <a:xfrm>
            <a:off x="5409720" y="4533480"/>
            <a:ext cx="229320" cy="27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0" name="AutoShape 31"/>
          <p:cNvCxnSpPr/>
          <p:nvPr/>
        </p:nvCxnSpPr>
        <p:spPr>
          <a:xfrm>
            <a:off x="5409720" y="4533480"/>
            <a:ext cx="381960" cy="27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1" name="AutoShape 32"/>
          <p:cNvCxnSpPr/>
          <p:nvPr/>
        </p:nvCxnSpPr>
        <p:spPr>
          <a:xfrm>
            <a:off x="5410080" y="4533840"/>
            <a:ext cx="534240" cy="200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aphicFrame>
        <p:nvGraphicFramePr>
          <p:cNvPr id="212" name=""/>
          <p:cNvGraphicFramePr/>
          <p:nvPr/>
        </p:nvGraphicFramePr>
        <p:xfrm>
          <a:off x="7162920" y="3133800"/>
          <a:ext cx="1447560" cy="2514600"/>
        </p:xfrm>
        <a:graphic>
          <a:graphicData uri="http://schemas.openxmlformats.org/drawingml/2006/table">
            <a:tbl>
              <a:tblPr/>
              <a:tblGrid>
                <a:gridCol w="647640"/>
                <a:gridCol w="79992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896160" y="2600280"/>
          <a:ext cx="1905120" cy="7016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#of n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FC55-1C04-494A-BB23-B2FFD1EB08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-Black-trees and B-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ng RB-trees and 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have a height of O(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RB-tree the log is of bas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-trees the base is ~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fference with respect to the height of the tree is l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=2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 are 2-3-4-trees (which are representations of red-black trees)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4A6A-41E1-438B-B277-9AC649ACF2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-tre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mplementation needs to suport the following B-tree oper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arc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si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a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empty tree (triv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ompl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comple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104-C1D9-4AEB-B218-D605B1251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ightforward generalization of tree search (e.g., binary search tre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143000" y="2871720"/>
            <a:ext cx="71629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TreeSear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 and k &gt; ke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 and k = ke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af[x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skRead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TtreeSearch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9B2-1CBF-4A78-BC26-8D7232497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ing an Empty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ty B-tree = create a ro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write it to dis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011240" y="2990880"/>
            <a:ext cx="7162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TreeCre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llocateNod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leaf[x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n[x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DiskWrite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root[T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D5D2-0A8E-44C2-A8B2-919E1A545A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ting N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des fill up and reach their maximum capacity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we can insert a new key, we have to “make room,” i.e., split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222-F23D-4AD3-BC11-30362A01D3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ting Nod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333440" y="4933800"/>
            <a:ext cx="2667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   Q   R   S   T   V  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"/>
          <p:cNvSpPr/>
          <p:nvPr/>
        </p:nvSpPr>
        <p:spPr>
          <a:xfrm flipH="1">
            <a:off x="1028880" y="523872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5"/>
          <p:cNvSpPr/>
          <p:nvPr/>
        </p:nvSpPr>
        <p:spPr>
          <a:xfrm flipH="1">
            <a:off x="1638000" y="5238720"/>
            <a:ext cx="1522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6"/>
          <p:cNvSpPr/>
          <p:nvPr/>
        </p:nvSpPr>
        <p:spPr>
          <a:xfrm flipH="1">
            <a:off x="2095560" y="52387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3543480" y="52387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3238560" y="52387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2857680" y="523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476440" y="5238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3924360" y="516240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723960" y="5848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000680" y="5848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2400480" y="5848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1333440" y="3867120"/>
            <a:ext cx="2667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  N   W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AutoShape 16"/>
          <p:cNvCxnSpPr>
            <a:stCxn id="251" idx="2"/>
            <a:endCxn id="239" idx="0"/>
          </p:cNvCxnSpPr>
          <p:nvPr/>
        </p:nvCxnSpPr>
        <p:spPr>
          <a:xfrm>
            <a:off x="2666520" y="4276440"/>
            <a:ext cx="1080" cy="657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53" name="Text Box 17"/>
          <p:cNvSpPr/>
          <p:nvPr/>
        </p:nvSpPr>
        <p:spPr>
          <a:xfrm>
            <a:off x="1257480" y="440064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 rot="19122600">
            <a:off x="2186280" y="309924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 rot="18945600">
            <a:off x="2720160" y="309852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1333440" y="3409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5600880" y="3943440"/>
            <a:ext cx="2666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  N   S   W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 rot="19122600">
            <a:off x="6072480" y="317556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 rot="18945600">
            <a:off x="6530400" y="317484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5600880" y="34862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5"/>
          <p:cNvSpPr/>
          <p:nvPr/>
        </p:nvSpPr>
        <p:spPr>
          <a:xfrm rot="18945600">
            <a:off x="7063560" y="317484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5448240" y="5086440"/>
            <a:ext cx="1219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   Q  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7277040" y="5086440"/>
            <a:ext cx="1219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T   V  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5143680" y="455292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7581960" y="455292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0"/>
          <p:cNvSpPr/>
          <p:nvPr/>
        </p:nvSpPr>
        <p:spPr>
          <a:xfrm>
            <a:off x="4381560" y="386712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one key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ves up to parent + 2 nodes wit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1 ke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32"/>
          <p:cNvSpPr/>
          <p:nvPr/>
        </p:nvSpPr>
        <p:spPr>
          <a:xfrm flipH="1">
            <a:off x="5981400" y="424800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7048440" y="4248000"/>
            <a:ext cx="83844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8D83-F5F5-4E22-9737-AD2D3A8BFF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ting Nod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5520" y="145404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TreeSplitChil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i,y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z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llocateNode(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leaf[z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af[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n[z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-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-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z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+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t leaf[y]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 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z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+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n[y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-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+1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wn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+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+1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+1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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z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wnto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  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+1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j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y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n[x]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+1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 DiskWrite(y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8 DiskWrite(z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 DiskWrite(x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143680" y="1679400"/>
            <a:ext cx="384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parent no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ode to be split and child of 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dex in 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ew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438880" y="5191200"/>
            <a:ext cx="2666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   Q   R   S   T   V  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H="1">
            <a:off x="5133960" y="549576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7"/>
          <p:cNvSpPr/>
          <p:nvPr/>
        </p:nvSpPr>
        <p:spPr>
          <a:xfrm flipH="1">
            <a:off x="5743440" y="5495760"/>
            <a:ext cx="15264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8"/>
          <p:cNvSpPr/>
          <p:nvPr/>
        </p:nvSpPr>
        <p:spPr>
          <a:xfrm flipH="1">
            <a:off x="6200640" y="549576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7648560" y="549576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7343640" y="549576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6962760" y="5495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6581880" y="5495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8029440" y="5419800"/>
            <a:ext cx="3812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4905360" y="6076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8248680" y="6076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505560" y="6105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438880" y="4124160"/>
            <a:ext cx="2666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  N   W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18"/>
          <p:cNvCxnSpPr>
            <a:stCxn id="287" idx="2"/>
            <a:endCxn id="275" idx="0"/>
          </p:cNvCxnSpPr>
          <p:nvPr/>
        </p:nvCxnSpPr>
        <p:spPr>
          <a:xfrm>
            <a:off x="6771960" y="4533840"/>
            <a:ext cx="1080" cy="658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89" name="Text Box 19"/>
          <p:cNvSpPr/>
          <p:nvPr/>
        </p:nvSpPr>
        <p:spPr>
          <a:xfrm>
            <a:off x="5362560" y="465768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0"/>
          <p:cNvSpPr/>
          <p:nvPr/>
        </p:nvSpPr>
        <p:spPr>
          <a:xfrm rot="19122600">
            <a:off x="6291360" y="335664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 rot="18945600">
            <a:off x="6825600" y="335592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x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5438880" y="3666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0232-04A5-48E7-945E-2441F323F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: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cal operation that does not traverse th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PU-time, since two loops ru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i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I/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3DEF-54EE-411A-81E7-2900DCE170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based data structures and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base Indices, Access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3C8-06EB-4FC1-AC77-076A5A14C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ng Ke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e recursively, by starting from the root and recursively traversing down the tree to the leaf le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descending to a lower level in the tree, make sure that the node contains &lt; 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1 key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8C39-F4D2-43E7-8426-CDD58A8B63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ng Key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case: root is full (BtreeIns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022400" y="247644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TreeInse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ot[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r] = 2t – 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llocateNod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 root[T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leaf[s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n[s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s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   BTreeSplitChild(s,1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BTreeInsertNonFull(s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TreeInsertNonFull(r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3E1F-F8AC-4D66-9A73-A5F667FE5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ting the root requires the creation of new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ree grows at the top instead of the bott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litting the Ro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143000" y="2533680"/>
            <a:ext cx="7162920" cy="2414880"/>
            <a:chOff x="1143000" y="2533680"/>
            <a:chExt cx="7162920" cy="2414880"/>
          </a:xfrm>
        </p:grpSpPr>
        <p:sp>
          <p:nvSpPr>
            <p:cNvPr id="311" name="Text Box 4"/>
            <p:cNvSpPr/>
            <p:nvPr/>
          </p:nvSpPr>
          <p:spPr>
            <a:xfrm>
              <a:off x="1752480" y="3524040"/>
              <a:ext cx="266724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Times New Roman"/>
                </a:rPr>
                <a:t>A   D   F   H   L   N  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2" name="AutoShape 5"/>
            <p:cNvCxnSpPr>
              <a:stCxn id="313" idx="3"/>
              <a:endCxn id="311" idx="0"/>
            </p:cNvCxnSpPr>
            <p:nvPr/>
          </p:nvCxnSpPr>
          <p:spPr>
            <a:xfrm>
              <a:off x="2514600" y="2990520"/>
              <a:ext cx="57240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314" name="Line 6"/>
            <p:cNvSpPr/>
            <p:nvPr/>
          </p:nvSpPr>
          <p:spPr>
            <a:xfrm flipH="1">
              <a:off x="1447920" y="3828960"/>
              <a:ext cx="3808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7"/>
            <p:cNvSpPr/>
            <p:nvPr/>
          </p:nvSpPr>
          <p:spPr>
            <a:xfrm flipH="1">
              <a:off x="2057040" y="3828960"/>
              <a:ext cx="15228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"/>
            <p:cNvSpPr/>
            <p:nvPr/>
          </p:nvSpPr>
          <p:spPr>
            <a:xfrm flipH="1">
              <a:off x="2514600" y="3828960"/>
              <a:ext cx="763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9"/>
            <p:cNvSpPr/>
            <p:nvPr/>
          </p:nvSpPr>
          <p:spPr>
            <a:xfrm>
              <a:off x="3962520" y="3828960"/>
              <a:ext cx="2286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10"/>
            <p:cNvSpPr/>
            <p:nvPr/>
          </p:nvSpPr>
          <p:spPr>
            <a:xfrm>
              <a:off x="3657600" y="3828960"/>
              <a:ext cx="763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1"/>
            <p:cNvSpPr/>
            <p:nvPr/>
          </p:nvSpPr>
          <p:spPr>
            <a:xfrm>
              <a:off x="3276720" y="38289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2"/>
            <p:cNvSpPr/>
            <p:nvPr/>
          </p:nvSpPr>
          <p:spPr>
            <a:xfrm>
              <a:off x="2895480" y="38289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3"/>
            <p:cNvSpPr/>
            <p:nvPr/>
          </p:nvSpPr>
          <p:spPr>
            <a:xfrm>
              <a:off x="4343400" y="3752640"/>
              <a:ext cx="380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14"/>
            <p:cNvSpPr/>
            <p:nvPr/>
          </p:nvSpPr>
          <p:spPr>
            <a:xfrm>
              <a:off x="1143000" y="443844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5"/>
            <p:cNvSpPr/>
            <p:nvPr/>
          </p:nvSpPr>
          <p:spPr>
            <a:xfrm>
              <a:off x="4419720" y="443844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16"/>
            <p:cNvSpPr/>
            <p:nvPr/>
          </p:nvSpPr>
          <p:spPr>
            <a:xfrm>
              <a:off x="2819520" y="44384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7"/>
            <p:cNvSpPr/>
            <p:nvPr/>
          </p:nvSpPr>
          <p:spPr>
            <a:xfrm>
              <a:off x="1219320" y="2762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t[T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8"/>
            <p:cNvSpPr/>
            <p:nvPr/>
          </p:nvSpPr>
          <p:spPr>
            <a:xfrm>
              <a:off x="3048120" y="30668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9"/>
            <p:cNvSpPr/>
            <p:nvPr/>
          </p:nvSpPr>
          <p:spPr>
            <a:xfrm>
              <a:off x="5562720" y="4286160"/>
              <a:ext cx="12189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Times New Roman"/>
                </a:rPr>
                <a:t>A   D  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7086600" y="4286160"/>
              <a:ext cx="12193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Times New Roman"/>
                </a:rPr>
                <a:t>L   N  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21"/>
            <p:cNvSpPr/>
            <p:nvPr/>
          </p:nvSpPr>
          <p:spPr>
            <a:xfrm>
              <a:off x="6248520" y="3295440"/>
              <a:ext cx="12189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9" name="AutoShape 22"/>
            <p:cNvCxnSpPr>
              <a:stCxn id="328" idx="2"/>
              <a:endCxn id="326" idx="0"/>
            </p:cNvCxnSpPr>
            <p:nvPr/>
          </p:nvCxnSpPr>
          <p:spPr>
            <a:xfrm flipH="1">
              <a:off x="6171480" y="3705120"/>
              <a:ext cx="686520" cy="58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30" name="AutoShape 23"/>
            <p:cNvCxnSpPr>
              <a:stCxn id="328" idx="2"/>
              <a:endCxn id="327" idx="0"/>
            </p:cNvCxnSpPr>
            <p:nvPr/>
          </p:nvCxnSpPr>
          <p:spPr>
            <a:xfrm>
              <a:off x="6858000" y="3705120"/>
              <a:ext cx="838800" cy="58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331" name="AutoShape 24"/>
            <p:cNvCxnSpPr>
              <a:stCxn id="332" idx="3"/>
            </p:cNvCxnSpPr>
            <p:nvPr/>
          </p:nvCxnSpPr>
          <p:spPr>
            <a:xfrm>
              <a:off x="6324480" y="2761920"/>
              <a:ext cx="572400" cy="53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332" name="Text Box 25"/>
            <p:cNvSpPr/>
            <p:nvPr/>
          </p:nvSpPr>
          <p:spPr>
            <a:xfrm>
              <a:off x="5029200" y="2533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t[T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26"/>
            <p:cNvSpPr/>
            <p:nvPr/>
          </p:nvSpPr>
          <p:spPr>
            <a:xfrm>
              <a:off x="6858000" y="2838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27"/>
            <p:cNvSpPr/>
            <p:nvPr/>
          </p:nvSpPr>
          <p:spPr>
            <a:xfrm>
              <a:off x="5715000" y="3905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337-C8B9-43EF-8CAB-55F14B7D83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ng Key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6160" y="14763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treeNonFull tries to insert a ke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o a nod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hch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sumed to be nonfu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n the procedure is cal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TreeInsert and the recursion in BTreeInsertNonFull guarantee that this assumption is tru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F8E-D97D-4427-A4F0-8707F63A29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952560" y="3848040"/>
            <a:ext cx="7772400" cy="2619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52560" y="1943280"/>
            <a:ext cx="7772400" cy="2176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ng Keys: Pseudo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TreeInsertNonFu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af[x]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and k &lt;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4      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+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   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-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+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 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   n[x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x] 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 DiskWrite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and k &lt;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   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-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DiskRead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[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] = 2t – 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      BTreeSplitChild(x,i,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 &gt; key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6          i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    BTreeInsertNonFull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],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6362640" y="255276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210360" y="43815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node: traversing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A8FF-8886-422C-8768-3F90DB2B4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581280" y="1886040"/>
            <a:ext cx="16765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G   M   P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371600" y="2647800"/>
            <a:ext cx="1523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C   D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971800" y="2647800"/>
            <a:ext cx="9144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4876920" y="2647800"/>
            <a:ext cx="1828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R   S   T   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962520" y="264780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6781680" y="264780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657600" y="3333600"/>
            <a:ext cx="16765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G   M   P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066680" y="4095720"/>
            <a:ext cx="19051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   C   D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3048120" y="4095720"/>
            <a:ext cx="9144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4952880" y="4095720"/>
            <a:ext cx="1828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R   S   T   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4038480" y="4095720"/>
            <a:ext cx="838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6858000" y="409572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3657600" y="5086440"/>
            <a:ext cx="198108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G   M   P   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1066680" y="5848200"/>
            <a:ext cx="1905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   C   D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3048120" y="5848200"/>
            <a:ext cx="9144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4952880" y="5848200"/>
            <a:ext cx="11430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4038480" y="5848200"/>
            <a:ext cx="838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7010280" y="584820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172200" y="5848200"/>
            <a:ext cx="7621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914400" y="150480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initial tree (t =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990720" y="30290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ins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1066680" y="48578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ins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25"/>
          <p:cNvSpPr/>
          <p:nvPr/>
        </p:nvSpPr>
        <p:spPr>
          <a:xfrm flipH="1">
            <a:off x="2057040" y="2114640"/>
            <a:ext cx="1600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26"/>
          <p:cNvSpPr/>
          <p:nvPr/>
        </p:nvSpPr>
        <p:spPr>
          <a:xfrm flipH="1">
            <a:off x="3428640" y="211464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4419720" y="219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28"/>
          <p:cNvSpPr/>
          <p:nvPr/>
        </p:nvSpPr>
        <p:spPr>
          <a:xfrm>
            <a:off x="4800600" y="219060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9"/>
          <p:cNvSpPr/>
          <p:nvPr/>
        </p:nvSpPr>
        <p:spPr>
          <a:xfrm>
            <a:off x="5181480" y="2114640"/>
            <a:ext cx="1981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30"/>
          <p:cNvSpPr/>
          <p:nvPr/>
        </p:nvSpPr>
        <p:spPr>
          <a:xfrm flipH="1">
            <a:off x="1980720" y="3638520"/>
            <a:ext cx="1752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31"/>
          <p:cNvSpPr/>
          <p:nvPr/>
        </p:nvSpPr>
        <p:spPr>
          <a:xfrm flipH="1">
            <a:off x="3504960" y="363852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32"/>
          <p:cNvSpPr/>
          <p:nvPr/>
        </p:nvSpPr>
        <p:spPr>
          <a:xfrm flipH="1">
            <a:off x="4419360" y="363852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3"/>
          <p:cNvSpPr/>
          <p:nvPr/>
        </p:nvSpPr>
        <p:spPr>
          <a:xfrm>
            <a:off x="4876920" y="363852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4"/>
          <p:cNvSpPr/>
          <p:nvPr/>
        </p:nvSpPr>
        <p:spPr>
          <a:xfrm>
            <a:off x="5257800" y="36385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35"/>
          <p:cNvSpPr/>
          <p:nvPr/>
        </p:nvSpPr>
        <p:spPr>
          <a:xfrm flipH="1">
            <a:off x="1980720" y="5391000"/>
            <a:ext cx="1752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6"/>
          <p:cNvSpPr/>
          <p:nvPr/>
        </p:nvSpPr>
        <p:spPr>
          <a:xfrm flipH="1">
            <a:off x="3504960" y="5391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7"/>
          <p:cNvSpPr/>
          <p:nvPr/>
        </p:nvSpPr>
        <p:spPr>
          <a:xfrm>
            <a:off x="4495680" y="531504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8"/>
          <p:cNvSpPr/>
          <p:nvPr/>
        </p:nvSpPr>
        <p:spPr>
          <a:xfrm>
            <a:off x="4876920" y="531504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9"/>
          <p:cNvSpPr/>
          <p:nvPr/>
        </p:nvSpPr>
        <p:spPr>
          <a:xfrm>
            <a:off x="5257800" y="5315040"/>
            <a:ext cx="12952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40"/>
          <p:cNvSpPr/>
          <p:nvPr/>
        </p:nvSpPr>
        <p:spPr>
          <a:xfrm>
            <a:off x="5562720" y="531504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490B-0524-4B26-8EE7-7798E29928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276720" y="2362320"/>
            <a:ext cx="83808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G 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219320" y="3124080"/>
            <a:ext cx="1904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   C   D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200400" y="3124080"/>
            <a:ext cx="11430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  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334120" y="312408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4419720" y="312408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7391520" y="312408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6553080" y="312408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5791320" y="2362320"/>
            <a:ext cx="83808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648320" y="1600200"/>
            <a:ext cx="6858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3124080" y="4876920"/>
            <a:ext cx="12193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C   G 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1143000" y="5638680"/>
            <a:ext cx="7621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200400" y="563868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  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5334120" y="563868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4419720" y="563868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7391520" y="563868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553080" y="563868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9"/>
          <p:cNvSpPr/>
          <p:nvPr/>
        </p:nvSpPr>
        <p:spPr>
          <a:xfrm>
            <a:off x="5791320" y="487692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4648320" y="4114800"/>
            <a:ext cx="685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1"/>
          <p:cNvSpPr/>
          <p:nvPr/>
        </p:nvSpPr>
        <p:spPr>
          <a:xfrm>
            <a:off x="1981080" y="5638680"/>
            <a:ext cx="11430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D   E  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1295280" y="1676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ins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37160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ins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24"/>
          <p:cNvSpPr/>
          <p:nvPr/>
        </p:nvSpPr>
        <p:spPr>
          <a:xfrm flipH="1">
            <a:off x="3657240" y="18288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5"/>
          <p:cNvSpPr/>
          <p:nvPr/>
        </p:nvSpPr>
        <p:spPr>
          <a:xfrm>
            <a:off x="5181480" y="182880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6"/>
          <p:cNvSpPr/>
          <p:nvPr/>
        </p:nvSpPr>
        <p:spPr>
          <a:xfrm flipH="1">
            <a:off x="2133720" y="259092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7"/>
          <p:cNvSpPr/>
          <p:nvPr/>
        </p:nvSpPr>
        <p:spPr>
          <a:xfrm>
            <a:off x="3657600" y="2590920"/>
            <a:ext cx="1522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8"/>
          <p:cNvSpPr/>
          <p:nvPr/>
        </p:nvSpPr>
        <p:spPr>
          <a:xfrm>
            <a:off x="4038480" y="2590920"/>
            <a:ext cx="8384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9"/>
          <p:cNvSpPr/>
          <p:nvPr/>
        </p:nvSpPr>
        <p:spPr>
          <a:xfrm>
            <a:off x="5867280" y="2590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0"/>
          <p:cNvSpPr/>
          <p:nvPr/>
        </p:nvSpPr>
        <p:spPr>
          <a:xfrm>
            <a:off x="6172200" y="2590920"/>
            <a:ext cx="762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31"/>
          <p:cNvSpPr/>
          <p:nvPr/>
        </p:nvSpPr>
        <p:spPr>
          <a:xfrm>
            <a:off x="6553080" y="2590920"/>
            <a:ext cx="12193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32"/>
          <p:cNvSpPr/>
          <p:nvPr/>
        </p:nvSpPr>
        <p:spPr>
          <a:xfrm flipH="1">
            <a:off x="3657240" y="43434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33"/>
          <p:cNvSpPr/>
          <p:nvPr/>
        </p:nvSpPr>
        <p:spPr>
          <a:xfrm>
            <a:off x="5181480" y="434340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34"/>
          <p:cNvSpPr/>
          <p:nvPr/>
        </p:nvSpPr>
        <p:spPr>
          <a:xfrm flipH="1">
            <a:off x="1523520" y="5181480"/>
            <a:ext cx="1676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35"/>
          <p:cNvSpPr/>
          <p:nvPr/>
        </p:nvSpPr>
        <p:spPr>
          <a:xfrm flipH="1">
            <a:off x="2514600" y="51814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36"/>
          <p:cNvSpPr/>
          <p:nvPr/>
        </p:nvSpPr>
        <p:spPr>
          <a:xfrm flipH="1">
            <a:off x="3733560" y="518148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7"/>
          <p:cNvSpPr/>
          <p:nvPr/>
        </p:nvSpPr>
        <p:spPr>
          <a:xfrm>
            <a:off x="4267080" y="518148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38"/>
          <p:cNvSpPr/>
          <p:nvPr/>
        </p:nvSpPr>
        <p:spPr>
          <a:xfrm>
            <a:off x="5943600" y="5181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39"/>
          <p:cNvSpPr/>
          <p:nvPr/>
        </p:nvSpPr>
        <p:spPr>
          <a:xfrm>
            <a:off x="6172200" y="51814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0"/>
          <p:cNvSpPr/>
          <p:nvPr/>
        </p:nvSpPr>
        <p:spPr>
          <a:xfrm>
            <a:off x="6553080" y="5105520"/>
            <a:ext cx="12193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8138-D4A2-40FC-ADDE-0EF17537D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I/O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 since onl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disk accesses are performed during recursive calls of BTreeInsertNonF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U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any given time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number of disk pages in ma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838F-5663-44BE-82DF-B378BD1937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recursively, by starting from the root and recursively traversing down the tree to the leaf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fore descending to a lower level in the tree, make sure that the node contai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eys (cf. insertion &lt; 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1 ke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treeDelete distinguishes three different stages/scenarios for dele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1: ke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 in leaf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2: ke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 internal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3: ke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cted in lower level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778-0962-43DD-AFA8-3C2F31614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1: If the ke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 no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leaf, delet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2581200" y="2143080"/>
            <a:ext cx="1165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   G 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722160" y="2819520"/>
            <a:ext cx="728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2690640" y="2819520"/>
            <a:ext cx="10922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J   K  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4730760" y="2819520"/>
            <a:ext cx="1093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3855960" y="2819520"/>
            <a:ext cx="801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6699240" y="2819520"/>
            <a:ext cx="728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5897520" y="2819520"/>
            <a:ext cx="728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5132520" y="2143080"/>
            <a:ext cx="801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4038480" y="1447920"/>
            <a:ext cx="655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1523880" y="2819520"/>
            <a:ext cx="1094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D   E 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9144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initial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2670120" y="4011480"/>
            <a:ext cx="11620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   G 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1144440" y="4648320"/>
            <a:ext cx="72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2743200" y="4648320"/>
            <a:ext cx="1090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J   K  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4780080" y="4648320"/>
            <a:ext cx="1090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3906720" y="4648320"/>
            <a:ext cx="800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6742080" y="4648320"/>
            <a:ext cx="727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5942160" y="4648320"/>
            <a:ext cx="726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5213520" y="4011480"/>
            <a:ext cx="7999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124160" y="3352680"/>
            <a:ext cx="6541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AutoShape 24"/>
          <p:cNvCxnSpPr>
            <a:stCxn id="460" idx="2"/>
            <a:endCxn id="452" idx="0"/>
          </p:cNvCxnSpPr>
          <p:nvPr/>
        </p:nvCxnSpPr>
        <p:spPr>
          <a:xfrm flipH="1">
            <a:off x="3250800" y="3706920"/>
            <a:ext cx="120096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62" name="AutoShape 25"/>
          <p:cNvCxnSpPr>
            <a:stCxn id="460" idx="2"/>
            <a:endCxn id="459" idx="0"/>
          </p:cNvCxnSpPr>
          <p:nvPr/>
        </p:nvCxnSpPr>
        <p:spPr>
          <a:xfrm>
            <a:off x="4451400" y="3706920"/>
            <a:ext cx="116244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63" name="Text Box 26"/>
          <p:cNvSpPr/>
          <p:nvPr/>
        </p:nvSpPr>
        <p:spPr>
          <a:xfrm>
            <a:off x="1944720" y="4648320"/>
            <a:ext cx="72720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990720" y="3352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deleted: 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8"/>
          <p:cNvSpPr/>
          <p:nvPr/>
        </p:nvSpPr>
        <p:spPr>
          <a:xfrm flipH="1">
            <a:off x="1523520" y="426708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9"/>
          <p:cNvSpPr/>
          <p:nvPr/>
        </p:nvSpPr>
        <p:spPr>
          <a:xfrm flipH="1">
            <a:off x="2285640" y="4267080"/>
            <a:ext cx="762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>
            <a:off x="3276360" y="4267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3733920" y="42670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533412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5562720" y="4267080"/>
            <a:ext cx="76176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34"/>
          <p:cNvSpPr/>
          <p:nvPr/>
        </p:nvSpPr>
        <p:spPr>
          <a:xfrm>
            <a:off x="5943600" y="42670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2104920" y="495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6"/>
          <p:cNvSpPr/>
          <p:nvPr/>
        </p:nvSpPr>
        <p:spPr>
          <a:xfrm flipH="1">
            <a:off x="3200400" y="16002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7"/>
          <p:cNvSpPr/>
          <p:nvPr/>
        </p:nvSpPr>
        <p:spPr>
          <a:xfrm>
            <a:off x="4572000" y="167652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38"/>
          <p:cNvSpPr/>
          <p:nvPr/>
        </p:nvSpPr>
        <p:spPr>
          <a:xfrm flipH="1">
            <a:off x="1066680" y="2362320"/>
            <a:ext cx="15242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39"/>
          <p:cNvSpPr/>
          <p:nvPr/>
        </p:nvSpPr>
        <p:spPr>
          <a:xfrm flipH="1">
            <a:off x="2057400" y="236232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0"/>
          <p:cNvSpPr/>
          <p:nvPr/>
        </p:nvSpPr>
        <p:spPr>
          <a:xfrm>
            <a:off x="3276720" y="236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1"/>
          <p:cNvSpPr/>
          <p:nvPr/>
        </p:nvSpPr>
        <p:spPr>
          <a:xfrm>
            <a:off x="3657600" y="236232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2"/>
          <p:cNvSpPr/>
          <p:nvPr/>
        </p:nvSpPr>
        <p:spPr>
          <a:xfrm>
            <a:off x="5181480" y="236232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3"/>
          <p:cNvSpPr/>
          <p:nvPr/>
        </p:nvSpPr>
        <p:spPr>
          <a:xfrm>
            <a:off x="5562720" y="2362320"/>
            <a:ext cx="7617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44"/>
          <p:cNvSpPr/>
          <p:nvPr/>
        </p:nvSpPr>
        <p:spPr>
          <a:xfrm>
            <a:off x="5867280" y="236232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AF0-6A1E-4EEE-B8A1-095B08A10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k Based Data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far search trees were limited to main memory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the dataset organized in a search tree fits in main memory (including the tree overhe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er-example: transaction data of a bank &gt; 1 GB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main memory size by 1GB per day (power failur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econdary storage media (punch cards, hard disks, magnetic tap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quence: make a search tree structure secondary-storage-ena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A0F8-7C93-4A3F-B09A-0E93B07BF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263760" y="5052960"/>
            <a:ext cx="113040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   G  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133720" y="57420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3687840" y="5742000"/>
            <a:ext cx="70632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J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311800" y="5742000"/>
            <a:ext cx="1058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464000" y="5742000"/>
            <a:ext cx="7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7218360" y="57420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6442200" y="57420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5735520" y="5052960"/>
            <a:ext cx="776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4676760" y="43624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2909880" y="57420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D  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1600200" y="4362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deleted: case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2: If the ke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 no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 a leaf, delet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If the chil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ece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t leas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s, then find the predecess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sub-tree rooted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Recursively dele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, and replac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’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Symmetrically for successor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15"/>
          <p:cNvSpPr/>
          <p:nvPr/>
        </p:nvSpPr>
        <p:spPr>
          <a:xfrm>
            <a:off x="4572000" y="4971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6"/>
          <p:cNvSpPr/>
          <p:nvPr/>
        </p:nvSpPr>
        <p:spPr>
          <a:xfrm>
            <a:off x="3886200" y="6114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14600" y="5276880"/>
            <a:ext cx="838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 flipH="1">
            <a:off x="3809880" y="45910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5105520" y="4591080"/>
            <a:ext cx="1066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0"/>
          <p:cNvSpPr/>
          <p:nvPr/>
        </p:nvSpPr>
        <p:spPr>
          <a:xfrm flipH="1">
            <a:off x="3276720" y="52768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3962520" y="527688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2"/>
          <p:cNvSpPr/>
          <p:nvPr/>
        </p:nvSpPr>
        <p:spPr>
          <a:xfrm>
            <a:off x="4267080" y="52768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3"/>
          <p:cNvSpPr/>
          <p:nvPr/>
        </p:nvSpPr>
        <p:spPr>
          <a:xfrm flipH="1">
            <a:off x="5790960" y="527688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24"/>
          <p:cNvSpPr/>
          <p:nvPr/>
        </p:nvSpPr>
        <p:spPr>
          <a:xfrm>
            <a:off x="6172200" y="527688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5"/>
          <p:cNvSpPr/>
          <p:nvPr/>
        </p:nvSpPr>
        <p:spPr>
          <a:xfrm>
            <a:off x="6400800" y="520056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905-6727-4549-9C76-B2CE04A637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o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on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1 keys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e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the content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o th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ses bo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w contains 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1 keys. Fre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cursively dele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3200400" y="4438800"/>
            <a:ext cx="77796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  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738440" y="51246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2514600" y="5124600"/>
            <a:ext cx="148428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D   E   J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916520" y="5124600"/>
            <a:ext cx="1058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068720" y="5124600"/>
            <a:ext cx="7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823080" y="51246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6046920" y="512460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319720" y="4438800"/>
            <a:ext cx="7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4295880" y="375300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1219320" y="375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deleted: case 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2424240" y="5610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4079880" y="4406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-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6"/>
          <p:cNvSpPr/>
          <p:nvPr/>
        </p:nvSpPr>
        <p:spPr>
          <a:xfrm flipH="1">
            <a:off x="3580920" y="3981600"/>
            <a:ext cx="8384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7"/>
          <p:cNvSpPr/>
          <p:nvPr/>
        </p:nvSpPr>
        <p:spPr>
          <a:xfrm>
            <a:off x="4800600" y="398160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8"/>
          <p:cNvSpPr/>
          <p:nvPr/>
        </p:nvSpPr>
        <p:spPr>
          <a:xfrm flipH="1">
            <a:off x="2133360" y="46674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 flipH="1">
            <a:off x="3276720" y="466740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886200" y="46674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1"/>
          <p:cNvSpPr/>
          <p:nvPr/>
        </p:nvSpPr>
        <p:spPr>
          <a:xfrm>
            <a:off x="5410080" y="466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22"/>
          <p:cNvSpPr/>
          <p:nvPr/>
        </p:nvSpPr>
        <p:spPr>
          <a:xfrm>
            <a:off x="5638680" y="466740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23"/>
          <p:cNvSpPr/>
          <p:nvPr/>
        </p:nvSpPr>
        <p:spPr>
          <a:xfrm>
            <a:off x="6019920" y="45910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082-FF0F-43B9-8501-642A69E692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-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ending down the tree: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t found in current no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find the sub-tre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that has to contain 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has onl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1 keys take action to ensure that we descent to a node of size at lea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encounter two ca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has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keys, but a sibling wi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eys, gi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an extra key by moving a key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 moving a key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’s immediate left and right sibling up in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moving the appropriate child from the sibling in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-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DFDA-1246-4044-9DAC-E6DD18CBD1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– Distribution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3954600" y="3457440"/>
            <a:ext cx="20574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C   L   P   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973160" y="4219560"/>
            <a:ext cx="7621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2811600" y="421956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E   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4944960" y="421956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4030560" y="4219560"/>
            <a:ext cx="838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9"/>
          <p:cNvSpPr/>
          <p:nvPr/>
        </p:nvSpPr>
        <p:spPr>
          <a:xfrm>
            <a:off x="7002360" y="4219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6164280" y="4219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1139400" y="414324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2"/>
          <p:cNvSpPr/>
          <p:nvPr/>
        </p:nvSpPr>
        <p:spPr>
          <a:xfrm flipV="1">
            <a:off x="2354400" y="3686040"/>
            <a:ext cx="17524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3"/>
          <p:cNvSpPr/>
          <p:nvPr/>
        </p:nvSpPr>
        <p:spPr>
          <a:xfrm flipV="1">
            <a:off x="3421080" y="3686040"/>
            <a:ext cx="9907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4"/>
          <p:cNvSpPr/>
          <p:nvPr/>
        </p:nvSpPr>
        <p:spPr>
          <a:xfrm flipV="1">
            <a:off x="4487760" y="36860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5"/>
          <p:cNvSpPr/>
          <p:nvPr/>
        </p:nvSpPr>
        <p:spPr>
          <a:xfrm flipH="1" flipV="1">
            <a:off x="5173200" y="3686040"/>
            <a:ext cx="3812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6"/>
          <p:cNvSpPr/>
          <p:nvPr/>
        </p:nvSpPr>
        <p:spPr>
          <a:xfrm flipH="1" flipV="1">
            <a:off x="5554440" y="3686040"/>
            <a:ext cx="9903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7"/>
          <p:cNvSpPr/>
          <p:nvPr/>
        </p:nvSpPr>
        <p:spPr>
          <a:xfrm flipH="1" flipV="1">
            <a:off x="5935680" y="3686040"/>
            <a:ext cx="1447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8"/>
          <p:cNvSpPr/>
          <p:nvPr/>
        </p:nvSpPr>
        <p:spPr>
          <a:xfrm>
            <a:off x="5306760" y="1560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9"/>
          <p:cNvSpPr/>
          <p:nvPr/>
        </p:nvSpPr>
        <p:spPr>
          <a:xfrm>
            <a:off x="3116160" y="4600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1211400" y="3610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delete </a:t>
            </a: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1109520" y="5238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dele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3"/>
          <p:cNvSpPr/>
          <p:nvPr/>
        </p:nvSpPr>
        <p:spPr>
          <a:xfrm>
            <a:off x="4309920" y="5238720"/>
            <a:ext cx="20574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E   L   P   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2557440" y="6000840"/>
            <a:ext cx="76212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5"/>
          <p:cNvSpPr/>
          <p:nvPr/>
        </p:nvSpPr>
        <p:spPr>
          <a:xfrm>
            <a:off x="3395520" y="6000840"/>
            <a:ext cx="9144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5300640" y="600084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4386240" y="6000840"/>
            <a:ext cx="8380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7358040" y="600084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6519960" y="6000840"/>
            <a:ext cx="761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30"/>
          <p:cNvSpPr/>
          <p:nvPr/>
        </p:nvSpPr>
        <p:spPr>
          <a:xfrm flipH="1" flipV="1">
            <a:off x="6214680" y="5467320"/>
            <a:ext cx="1523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31"/>
          <p:cNvSpPr/>
          <p:nvPr/>
        </p:nvSpPr>
        <p:spPr>
          <a:xfrm flipH="1" flipV="1">
            <a:off x="5833800" y="546732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32"/>
          <p:cNvSpPr/>
          <p:nvPr/>
        </p:nvSpPr>
        <p:spPr>
          <a:xfrm flipH="1" flipV="1">
            <a:off x="5529240" y="546732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33"/>
          <p:cNvSpPr/>
          <p:nvPr/>
        </p:nvSpPr>
        <p:spPr>
          <a:xfrm flipV="1">
            <a:off x="4843440" y="546732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34"/>
          <p:cNvSpPr/>
          <p:nvPr/>
        </p:nvSpPr>
        <p:spPr>
          <a:xfrm flipV="1">
            <a:off x="3929040" y="5467320"/>
            <a:ext cx="8380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35"/>
          <p:cNvSpPr/>
          <p:nvPr/>
        </p:nvSpPr>
        <p:spPr>
          <a:xfrm flipV="1">
            <a:off x="2938320" y="5467320"/>
            <a:ext cx="14479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1"/>
          <p:cNvSpPr/>
          <p:nvPr/>
        </p:nvSpPr>
        <p:spPr>
          <a:xfrm>
            <a:off x="5734080" y="1601640"/>
            <a:ext cx="2666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k’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6"/>
          <p:cNvSpPr/>
          <p:nvPr/>
        </p:nvSpPr>
        <p:spPr>
          <a:xfrm>
            <a:off x="5581800" y="2392200"/>
            <a:ext cx="12189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k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7"/>
          <p:cNvSpPr/>
          <p:nvPr/>
        </p:nvSpPr>
        <p:spPr>
          <a:xfrm>
            <a:off x="7410600" y="2386080"/>
            <a:ext cx="121896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60"/>
          <p:cNvSpPr/>
          <p:nvPr/>
        </p:nvSpPr>
        <p:spPr>
          <a:xfrm>
            <a:off x="4205160" y="1882800"/>
            <a:ext cx="60984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1"/>
          <p:cNvSpPr/>
          <p:nvPr/>
        </p:nvSpPr>
        <p:spPr>
          <a:xfrm flipH="1">
            <a:off x="6422760" y="1906560"/>
            <a:ext cx="37764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62"/>
          <p:cNvSpPr/>
          <p:nvPr/>
        </p:nvSpPr>
        <p:spPr>
          <a:xfrm>
            <a:off x="7267680" y="1930320"/>
            <a:ext cx="44136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63"/>
          <p:cNvSpPr/>
          <p:nvPr/>
        </p:nvSpPr>
        <p:spPr>
          <a:xfrm flipH="1">
            <a:off x="6380280" y="2684520"/>
            <a:ext cx="6984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64"/>
          <p:cNvSpPr/>
          <p:nvPr/>
        </p:nvSpPr>
        <p:spPr>
          <a:xfrm>
            <a:off x="6700680" y="2652840"/>
            <a:ext cx="270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6"/>
          <p:cNvSpPr/>
          <p:nvPr/>
        </p:nvSpPr>
        <p:spPr>
          <a:xfrm>
            <a:off x="6121440" y="29541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7"/>
          <p:cNvSpPr/>
          <p:nvPr/>
        </p:nvSpPr>
        <p:spPr>
          <a:xfrm>
            <a:off x="4908240" y="234000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8"/>
          <p:cNvSpPr/>
          <p:nvPr/>
        </p:nvSpPr>
        <p:spPr>
          <a:xfrm>
            <a:off x="558360" y="1617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9"/>
          <p:cNvSpPr/>
          <p:nvPr/>
        </p:nvSpPr>
        <p:spPr>
          <a:xfrm>
            <a:off x="985680" y="1658880"/>
            <a:ext cx="2667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k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0"/>
          <p:cNvSpPr/>
          <p:nvPr/>
        </p:nvSpPr>
        <p:spPr>
          <a:xfrm>
            <a:off x="833400" y="2449440"/>
            <a:ext cx="12193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1"/>
          <p:cNvSpPr/>
          <p:nvPr/>
        </p:nvSpPr>
        <p:spPr>
          <a:xfrm>
            <a:off x="2662200" y="2443320"/>
            <a:ext cx="1219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72"/>
          <p:cNvSpPr/>
          <p:nvPr/>
        </p:nvSpPr>
        <p:spPr>
          <a:xfrm flipH="1">
            <a:off x="1674720" y="1963800"/>
            <a:ext cx="37800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73"/>
          <p:cNvSpPr/>
          <p:nvPr/>
        </p:nvSpPr>
        <p:spPr>
          <a:xfrm>
            <a:off x="2519280" y="1987560"/>
            <a:ext cx="44136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4"/>
          <p:cNvSpPr/>
          <p:nvPr/>
        </p:nvSpPr>
        <p:spPr>
          <a:xfrm flipH="1">
            <a:off x="2654280" y="2720880"/>
            <a:ext cx="698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75"/>
          <p:cNvSpPr/>
          <p:nvPr/>
        </p:nvSpPr>
        <p:spPr>
          <a:xfrm>
            <a:off x="1952640" y="2709720"/>
            <a:ext cx="27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6"/>
          <p:cNvSpPr/>
          <p:nvPr/>
        </p:nvSpPr>
        <p:spPr>
          <a:xfrm>
            <a:off x="1336680" y="2995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77"/>
          <p:cNvSpPr/>
          <p:nvPr/>
        </p:nvSpPr>
        <p:spPr>
          <a:xfrm>
            <a:off x="160200" y="239724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8"/>
          <p:cNvSpPr/>
          <p:nvPr/>
        </p:nvSpPr>
        <p:spPr>
          <a:xfrm>
            <a:off x="2479680" y="2992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8C7-DDF4-455C-AC45-608DF233F9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- Merg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 and both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’s siblings have t – 1 keys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e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one sibling, which involves moving a key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wn into the new merged node to become the median key for that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40"/>
          <p:cNvSpPr/>
          <p:nvPr/>
        </p:nvSpPr>
        <p:spPr>
          <a:xfrm>
            <a:off x="5306760" y="4172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734080" y="4213080"/>
            <a:ext cx="26668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l’ m’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2"/>
          <p:cNvSpPr/>
          <p:nvPr/>
        </p:nvSpPr>
        <p:spPr>
          <a:xfrm>
            <a:off x="5581800" y="5003640"/>
            <a:ext cx="12189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l k m ...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44"/>
          <p:cNvSpPr/>
          <p:nvPr/>
        </p:nvSpPr>
        <p:spPr>
          <a:xfrm>
            <a:off x="4451400" y="4468680"/>
            <a:ext cx="60948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45"/>
          <p:cNvSpPr/>
          <p:nvPr/>
        </p:nvSpPr>
        <p:spPr>
          <a:xfrm flipH="1">
            <a:off x="6422760" y="4457880"/>
            <a:ext cx="563400" cy="56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47"/>
          <p:cNvSpPr/>
          <p:nvPr/>
        </p:nvSpPr>
        <p:spPr>
          <a:xfrm flipH="1">
            <a:off x="5875200" y="5295960"/>
            <a:ext cx="6984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8"/>
          <p:cNvSpPr/>
          <p:nvPr/>
        </p:nvSpPr>
        <p:spPr>
          <a:xfrm>
            <a:off x="6195960" y="5264280"/>
            <a:ext cx="270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9"/>
          <p:cNvSpPr/>
          <p:nvPr/>
        </p:nvSpPr>
        <p:spPr>
          <a:xfrm>
            <a:off x="5616720" y="5565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1"/>
          <p:cNvSpPr/>
          <p:nvPr/>
        </p:nvSpPr>
        <p:spPr>
          <a:xfrm>
            <a:off x="701280" y="4229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2"/>
          <p:cNvSpPr/>
          <p:nvPr/>
        </p:nvSpPr>
        <p:spPr>
          <a:xfrm>
            <a:off x="1128600" y="4270320"/>
            <a:ext cx="26672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l’ k m’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3"/>
          <p:cNvSpPr/>
          <p:nvPr/>
        </p:nvSpPr>
        <p:spPr>
          <a:xfrm>
            <a:off x="976320" y="5060880"/>
            <a:ext cx="12193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.. l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4"/>
          <p:cNvSpPr/>
          <p:nvPr/>
        </p:nvSpPr>
        <p:spPr>
          <a:xfrm>
            <a:off x="2805120" y="5054760"/>
            <a:ext cx="1219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55"/>
          <p:cNvSpPr/>
          <p:nvPr/>
        </p:nvSpPr>
        <p:spPr>
          <a:xfrm flipH="1">
            <a:off x="1817640" y="4575240"/>
            <a:ext cx="46512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6"/>
          <p:cNvSpPr/>
          <p:nvPr/>
        </p:nvSpPr>
        <p:spPr>
          <a:xfrm>
            <a:off x="2525760" y="4565520"/>
            <a:ext cx="600120" cy="482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57"/>
          <p:cNvSpPr/>
          <p:nvPr/>
        </p:nvSpPr>
        <p:spPr>
          <a:xfrm flipH="1">
            <a:off x="2797200" y="5332320"/>
            <a:ext cx="69840" cy="3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58"/>
          <p:cNvSpPr/>
          <p:nvPr/>
        </p:nvSpPr>
        <p:spPr>
          <a:xfrm>
            <a:off x="2095560" y="5321160"/>
            <a:ext cx="27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9"/>
          <p:cNvSpPr/>
          <p:nvPr/>
        </p:nvSpPr>
        <p:spPr>
          <a:xfrm>
            <a:off x="1479600" y="5607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0"/>
          <p:cNvSpPr/>
          <p:nvPr/>
        </p:nvSpPr>
        <p:spPr>
          <a:xfrm>
            <a:off x="2622600" y="5603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B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2"/>
          <p:cNvSpPr/>
          <p:nvPr/>
        </p:nvSpPr>
        <p:spPr>
          <a:xfrm>
            <a:off x="253800" y="5030640"/>
            <a:ext cx="7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6F16-DB76-4CF5-99F5-96C55C4033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ng Keys – Merg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0120" y="558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tree shrinks in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11280" y="41054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 delet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3795840" y="4330800"/>
            <a:ext cx="20574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C   L   P   T  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814400" y="5092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652840" y="5092560"/>
            <a:ext cx="1143000" cy="398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E   J  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4786200" y="5092560"/>
            <a:ext cx="11430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871800" y="5092560"/>
            <a:ext cx="8384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6843600" y="5092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005520" y="5092560"/>
            <a:ext cx="762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710240" y="3720960"/>
            <a:ext cx="22860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7" name="AutoShape 14"/>
          <p:cNvCxnSpPr>
            <a:stCxn id="626" idx="2"/>
            <a:endCxn id="619" idx="0"/>
          </p:cNvCxnSpPr>
          <p:nvPr/>
        </p:nvCxnSpPr>
        <p:spPr>
          <a:xfrm>
            <a:off x="4824000" y="4130640"/>
            <a:ext cx="1080" cy="200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28" name="Line 15"/>
          <p:cNvSpPr/>
          <p:nvPr/>
        </p:nvSpPr>
        <p:spPr>
          <a:xfrm flipV="1">
            <a:off x="2195640" y="4635360"/>
            <a:ext cx="17524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3262320" y="4559040"/>
            <a:ext cx="106668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7"/>
          <p:cNvSpPr/>
          <p:nvPr/>
        </p:nvSpPr>
        <p:spPr>
          <a:xfrm flipV="1">
            <a:off x="4329000" y="455904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18"/>
          <p:cNvSpPr/>
          <p:nvPr/>
        </p:nvSpPr>
        <p:spPr>
          <a:xfrm flipH="1" flipV="1">
            <a:off x="5014440" y="455904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9"/>
          <p:cNvSpPr/>
          <p:nvPr/>
        </p:nvSpPr>
        <p:spPr>
          <a:xfrm flipH="1" flipV="1">
            <a:off x="5395680" y="463536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H="1" flipV="1">
            <a:off x="5700600" y="4559040"/>
            <a:ext cx="152424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3241800" y="2109960"/>
            <a:ext cx="777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  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6"/>
          <p:cNvSpPr/>
          <p:nvPr/>
        </p:nvSpPr>
        <p:spPr>
          <a:xfrm>
            <a:off x="1717560" y="2795760"/>
            <a:ext cx="706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A 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7"/>
          <p:cNvSpPr/>
          <p:nvPr/>
        </p:nvSpPr>
        <p:spPr>
          <a:xfrm>
            <a:off x="2494080" y="2795760"/>
            <a:ext cx="1484280" cy="368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D   E   J  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58"/>
          <p:cNvSpPr/>
          <p:nvPr/>
        </p:nvSpPr>
        <p:spPr>
          <a:xfrm>
            <a:off x="4896000" y="2795760"/>
            <a:ext cx="1058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Q   R 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9"/>
          <p:cNvSpPr/>
          <p:nvPr/>
        </p:nvSpPr>
        <p:spPr>
          <a:xfrm>
            <a:off x="4048200" y="2795760"/>
            <a:ext cx="7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N 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0"/>
          <p:cNvSpPr/>
          <p:nvPr/>
        </p:nvSpPr>
        <p:spPr>
          <a:xfrm>
            <a:off x="6802560" y="2795760"/>
            <a:ext cx="706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Y  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61"/>
          <p:cNvSpPr/>
          <p:nvPr/>
        </p:nvSpPr>
        <p:spPr>
          <a:xfrm>
            <a:off x="6026040" y="2795760"/>
            <a:ext cx="7066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U  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2"/>
          <p:cNvSpPr/>
          <p:nvPr/>
        </p:nvSpPr>
        <p:spPr>
          <a:xfrm>
            <a:off x="5361120" y="2109960"/>
            <a:ext cx="776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  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63"/>
          <p:cNvSpPr/>
          <p:nvPr/>
        </p:nvSpPr>
        <p:spPr>
          <a:xfrm>
            <a:off x="4260960" y="150012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4"/>
          <p:cNvSpPr/>
          <p:nvPr/>
        </p:nvSpPr>
        <p:spPr>
          <a:xfrm>
            <a:off x="636480" y="201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cc"/>
                </a:solidFill>
                <a:latin typeface="Times New Roman"/>
              </a:rPr>
              <a:t>delete </a:t>
            </a:r>
            <a:r>
              <a:rPr b="1" lang="da-DK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65"/>
          <p:cNvSpPr/>
          <p:nvPr/>
        </p:nvSpPr>
        <p:spPr>
          <a:xfrm>
            <a:off x="2535120" y="19605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66"/>
          <p:cNvSpPr/>
          <p:nvPr/>
        </p:nvSpPr>
        <p:spPr>
          <a:xfrm>
            <a:off x="4361040" y="19987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68"/>
          <p:cNvSpPr/>
          <p:nvPr/>
        </p:nvSpPr>
        <p:spPr>
          <a:xfrm flipH="1">
            <a:off x="3622320" y="1728720"/>
            <a:ext cx="685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69"/>
          <p:cNvSpPr/>
          <p:nvPr/>
        </p:nvSpPr>
        <p:spPr>
          <a:xfrm>
            <a:off x="4765680" y="1728720"/>
            <a:ext cx="1066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70"/>
          <p:cNvSpPr/>
          <p:nvPr/>
        </p:nvSpPr>
        <p:spPr>
          <a:xfrm flipH="1">
            <a:off x="2022480" y="2338560"/>
            <a:ext cx="12952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71"/>
          <p:cNvSpPr/>
          <p:nvPr/>
        </p:nvSpPr>
        <p:spPr>
          <a:xfrm flipH="1">
            <a:off x="3241800" y="2414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72"/>
          <p:cNvSpPr/>
          <p:nvPr/>
        </p:nvSpPr>
        <p:spPr>
          <a:xfrm>
            <a:off x="3927600" y="233856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73"/>
          <p:cNvSpPr/>
          <p:nvPr/>
        </p:nvSpPr>
        <p:spPr>
          <a:xfrm flipH="1">
            <a:off x="5375160" y="23385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74"/>
          <p:cNvSpPr/>
          <p:nvPr/>
        </p:nvSpPr>
        <p:spPr>
          <a:xfrm>
            <a:off x="5756400" y="233856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75"/>
          <p:cNvSpPr/>
          <p:nvPr/>
        </p:nvSpPr>
        <p:spPr>
          <a:xfrm>
            <a:off x="6060960" y="233856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AF2-440E-4E5D-A394-A29C1DEAE9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: 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f the keys are in the leaf, thus deletion most often occurs the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case deletion happens in one downward pass to the leaf level of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ion from an internal node might require “backing up” (cas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k I/O: O(h), since only O(1) disk operations are produced during recursiv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E0A0-9150-4987-94ED-743A1316E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-pass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r, practical versions of algorithms use two passes (down and up the tree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Find the node where deletion or insertion should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If needed, split, merge, or distribute; propagate splits or merges up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avoid reading the same nodes twice, use a buffer of nod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69FE-8AF1-48E0-9E78-B1A2D6A13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Access Meth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-tree variants: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rees,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rees used in data base managemen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Scheme for access methods (used in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rees, to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keys stored only in leav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s are grouped into lea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ntry in a non-leaf node st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a sub-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mpact description of the set of keys stored in this sub-tre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F64-8980-42E9-BDAD-44A5D07C4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C:\My Documents\My Pictures\hd-schematic.gif"/>
          <p:cNvPicPr/>
          <p:nvPr/>
        </p:nvPicPr>
        <p:blipFill>
          <a:blip r:embed="rId1"/>
          <a:stretch/>
        </p:blipFill>
        <p:spPr>
          <a:xfrm>
            <a:off x="4863960" y="1500120"/>
            <a:ext cx="4280040" cy="4716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rd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0200" y="1638360"/>
            <a:ext cx="42706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 amounts of storage, but slow acces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ing a page takes a long time (seek time plus rotational delay – 5-10ms), reading it is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pays off to read or write data i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blocks) of 2-16 Kb in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9AF-076E-4643-815A-E17D8239DE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rithm analysi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unning time of disk-based algorithms is measured in term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ing time (CPU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disk accesse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 main-memory algorithms that work one data element at a time can not be “ported” to secondary storage in a straight-forward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462E-13FB-4A1E-B310-5A52ADAFAC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0240" y="15796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ers in data structures are no longer addresses in main memory but locations i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pointer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 main memor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refers to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DiskRead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ads the object from disk into main memory (DiskWrite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– writes it back to di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3BB-D3E3-4CA8-9477-295314D53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ncip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3160" y="1464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ypical working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311120" y="2108160"/>
            <a:ext cx="7067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 pointer to som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iskRea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ions that access and/or modify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DiskWrite(x) //omitted if nothing 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other operations, only access no mod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5DE-2259-47FF-A370-3EE033F0B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ary-trees vs. B-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1066680" y="4019400"/>
            <a:ext cx="7391520" cy="2608560"/>
            <a:chOff x="1066680" y="4019400"/>
            <a:chExt cx="7391520" cy="2608560"/>
          </a:xfrm>
        </p:grpSpPr>
        <p:sp>
          <p:nvSpPr>
            <p:cNvPr id="140" name="Text Box 4"/>
            <p:cNvSpPr/>
            <p:nvPr/>
          </p:nvSpPr>
          <p:spPr>
            <a:xfrm>
              <a:off x="2743200" y="42480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5"/>
            <p:cNvSpPr/>
            <p:nvPr/>
          </p:nvSpPr>
          <p:spPr>
            <a:xfrm>
              <a:off x="1066680" y="51624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6"/>
            <p:cNvSpPr/>
            <p:nvPr/>
          </p:nvSpPr>
          <p:spPr>
            <a:xfrm>
              <a:off x="2286000" y="51624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4876920" y="5162400"/>
              <a:ext cx="7617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3581280" y="51624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AutoShape 9"/>
            <p:cNvCxnSpPr>
              <a:stCxn id="140" idx="2"/>
              <a:endCxn id="141" idx="0"/>
            </p:cNvCxnSpPr>
            <p:nvPr/>
          </p:nvCxnSpPr>
          <p:spPr>
            <a:xfrm flipH="1">
              <a:off x="1447560" y="4656960"/>
              <a:ext cx="167688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46" name="AutoShape 10"/>
            <p:cNvCxnSpPr>
              <a:stCxn id="140" idx="2"/>
              <a:endCxn id="142" idx="0"/>
            </p:cNvCxnSpPr>
            <p:nvPr/>
          </p:nvCxnSpPr>
          <p:spPr>
            <a:xfrm flipH="1">
              <a:off x="2666520" y="4656960"/>
              <a:ext cx="45792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47" name="AutoShape 11"/>
            <p:cNvCxnSpPr>
              <a:stCxn id="140" idx="2"/>
              <a:endCxn id="143" idx="0"/>
            </p:cNvCxnSpPr>
            <p:nvPr/>
          </p:nvCxnSpPr>
          <p:spPr>
            <a:xfrm>
              <a:off x="3123720" y="4656960"/>
              <a:ext cx="213444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48" name="Text Box 12"/>
            <p:cNvSpPr/>
            <p:nvPr/>
          </p:nvSpPr>
          <p:spPr>
            <a:xfrm>
              <a:off x="2971800" y="4781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AutoShape 13"/>
            <p:cNvCxnSpPr>
              <a:stCxn id="140" idx="2"/>
            </p:cNvCxnSpPr>
            <p:nvPr/>
          </p:nvCxnSpPr>
          <p:spPr>
            <a:xfrm>
              <a:off x="3123720" y="4656960"/>
              <a:ext cx="1080" cy="353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0" name="AutoShape 14"/>
            <p:cNvCxnSpPr>
              <a:stCxn id="140" idx="2"/>
            </p:cNvCxnSpPr>
            <p:nvPr/>
          </p:nvCxnSpPr>
          <p:spPr>
            <a:xfrm>
              <a:off x="3123720" y="4657320"/>
              <a:ext cx="229320" cy="27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51" name="AutoShape 15"/>
            <p:cNvCxnSpPr>
              <a:stCxn id="140" idx="2"/>
            </p:cNvCxnSpPr>
            <p:nvPr/>
          </p:nvCxnSpPr>
          <p:spPr>
            <a:xfrm>
              <a:off x="3124080" y="4657320"/>
              <a:ext cx="534240" cy="27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52" name="Text Box 16"/>
            <p:cNvSpPr/>
            <p:nvPr/>
          </p:nvSpPr>
          <p:spPr>
            <a:xfrm>
              <a:off x="1600200" y="60768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2514600" y="60768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>
              <a:off x="4038480" y="6076800"/>
              <a:ext cx="762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3276720" y="60768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AutoShape 20"/>
            <p:cNvCxnSpPr>
              <a:stCxn id="142" idx="2"/>
              <a:endCxn id="152" idx="0"/>
            </p:cNvCxnSpPr>
            <p:nvPr/>
          </p:nvCxnSpPr>
          <p:spPr>
            <a:xfrm flipH="1">
              <a:off x="1980360" y="5571360"/>
              <a:ext cx="68652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57" name="AutoShape 21"/>
            <p:cNvCxnSpPr>
              <a:stCxn id="142" idx="2"/>
              <a:endCxn id="153" idx="0"/>
            </p:cNvCxnSpPr>
            <p:nvPr/>
          </p:nvCxnSpPr>
          <p:spPr>
            <a:xfrm>
              <a:off x="2666520" y="5571360"/>
              <a:ext cx="22932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58" name="AutoShape 22"/>
            <p:cNvCxnSpPr>
              <a:stCxn id="142" idx="2"/>
              <a:endCxn id="154" idx="0"/>
            </p:cNvCxnSpPr>
            <p:nvPr/>
          </p:nvCxnSpPr>
          <p:spPr>
            <a:xfrm>
              <a:off x="2666520" y="5571360"/>
              <a:ext cx="1753560" cy="505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9" name="Text Box 23"/>
            <p:cNvSpPr/>
            <p:nvPr/>
          </p:nvSpPr>
          <p:spPr>
            <a:xfrm>
              <a:off x="2895480" y="56955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AutoShape 24"/>
            <p:cNvCxnSpPr>
              <a:stCxn id="142" idx="2"/>
            </p:cNvCxnSpPr>
            <p:nvPr/>
          </p:nvCxnSpPr>
          <p:spPr>
            <a:xfrm>
              <a:off x="2666520" y="5571720"/>
              <a:ext cx="229320" cy="27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1" name="AutoShape 25"/>
            <p:cNvCxnSpPr>
              <a:stCxn id="142" idx="2"/>
            </p:cNvCxnSpPr>
            <p:nvPr/>
          </p:nvCxnSpPr>
          <p:spPr>
            <a:xfrm>
              <a:off x="2666520" y="5571720"/>
              <a:ext cx="381960" cy="27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2" name="AutoShape 26"/>
            <p:cNvCxnSpPr>
              <a:stCxn id="142" idx="2"/>
            </p:cNvCxnSpPr>
            <p:nvPr/>
          </p:nvCxnSpPr>
          <p:spPr>
            <a:xfrm>
              <a:off x="2666880" y="5571720"/>
              <a:ext cx="534240" cy="200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63" name="Text Box 27"/>
            <p:cNvSpPr/>
            <p:nvPr/>
          </p:nvSpPr>
          <p:spPr>
            <a:xfrm>
              <a:off x="4876920" y="5619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8"/>
            <p:cNvSpPr/>
            <p:nvPr/>
          </p:nvSpPr>
          <p:spPr>
            <a:xfrm>
              <a:off x="1066680" y="56196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8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9"/>
            <p:cNvSpPr/>
            <p:nvPr/>
          </p:nvSpPr>
          <p:spPr>
            <a:xfrm>
              <a:off x="6095880" y="4019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 node</a:t>
              </a:r>
              <a:br>
                <a:rPr sz="2000"/>
              </a:b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0 ke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30"/>
            <p:cNvSpPr/>
            <p:nvPr/>
          </p:nvSpPr>
          <p:spPr>
            <a:xfrm>
              <a:off x="6095880" y="50097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001 nodes,</a:t>
              </a:r>
              <a:br>
                <a:rPr sz="2000"/>
              </a:b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,001,000 ke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1"/>
            <p:cNvSpPr/>
            <p:nvPr/>
          </p:nvSpPr>
          <p:spPr>
            <a:xfrm>
              <a:off x="6095880" y="5924160"/>
              <a:ext cx="23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,002,001 nodes,</a:t>
              </a:r>
              <a:br>
                <a:rPr sz="2000"/>
              </a:br>
              <a:r>
                <a:rPr b="0" lang="da-DK" sz="2000" spc="-1" strike="noStrike">
                  <a:solidFill>
                    <a:srgbClr val="000000"/>
                  </a:solidFill>
                  <a:latin typeface="Times New Roman"/>
                </a:rPr>
                <a:t>1,002,001,000 ke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of B-tree nodes is determined by the page size. One page – one n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-tree of height 2 containing &gt; 1 Billion ke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ights of Binary-tree and B-tree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arith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-tree: logarithm of base, e.g., 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-tree: logarithm of bas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2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0C8-7CC5-4461-A0B9-5E5F072056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-tree 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s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: the number of keys of that th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[x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: the keys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f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: true if leaf node, false if internal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rnal node, 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,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[x]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: pointers t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s separate the ranges of keys in the sub-trees.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arbitrary key in the subtre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the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omicSans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18:29Z</dcterms:modified>
  <cp:revision>86</cp:revision>
  <dc:subject/>
  <dc:title>Algorithms and Data Structures</dc:title>
</cp:coreProperties>
</file>