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9.png" ContentType="image/png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.wmf" ContentType="image/x-wmf"/>
  <Override PartName="/ppt/media/image10.png" ContentType="image/png"/>
  <Override PartName="/ppt/media/image47.png" ContentType="image/png"/>
  <Override PartName="/ppt/media/image5.wmf" ContentType="image/x-wmf"/>
  <Override PartName="/ppt/media/image11.png" ContentType="image/png"/>
  <Override PartName="/ppt/media/image48.png" ContentType="image/png"/>
  <Override PartName="/ppt/media/image45.png" ContentType="image/png"/>
  <Override PartName="/ppt/media/image46.png" ContentType="image/png"/>
  <Override PartName="/ppt/media/image6.wmf" ContentType="image/x-wmf"/>
  <Override PartName="/ppt/media/image50.png" ContentType="image/png"/>
  <Override PartName="/ppt/media/image13.png" ContentType="image/png"/>
  <Override PartName="/ppt/media/image51.png" ContentType="image/png"/>
  <Override PartName="/ppt/media/image14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9.png" ContentType="image/png"/>
  <Override PartName="/ppt/media/image9.wmf" ContentType="image/x-wmf"/>
  <Override PartName="/ppt/media/image41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0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27825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28400" cy="9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1312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07920" y="745920"/>
            <a:ext cx="4913280" cy="368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B885-42EF-4C67-9CEC-01E269789EF8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6D6C-865E-4849-ACBA-9417755DCB83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992D-8786-485A-ADB7-17BD1CFB844E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0888-D3EF-4A70-A43A-4225DFF5176F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875B-A2FE-461A-80B2-9C3BDCB64CAE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7EE9-4C6C-4FA8-A777-315852F2A7B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33AC-82D9-4836-BAD9-4FE60B4BBD09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76BD-640E-4842-B81E-434FD11BA25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AD1A-5E6D-436A-B44C-1D3C5B08D45B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7F3A-2D92-4050-BBBE-D3097D5540D2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7AC8-EAAD-46EF-9DDC-272ACE67EC48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77A1-AD4E-45BD-8734-9DE437BF554A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249F-F5BE-49D9-913C-BA255744ED1F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5645-2D34-4D7E-98B9-D99FEE8ADD3B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9B53-A42D-421D-AD64-B4BCE10D5B6C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6729-1E50-46B0-BBDD-6E2D0FC9B3BA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9E19-DC9E-49F0-B615-7A43FA45C451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0043-9F8F-412F-9EB3-847BEB602003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9087-5E73-45FE-A0BF-C74AA71F614E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D95E-0035-4206-BBFF-79461694A35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421E-F6FB-4A09-929C-1ECB9D68AEDE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F669-2143-411E-A7AE-005B14BAC3AA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0303-0075-4797-AE5B-4698EAF1B7EE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B1D5-E57F-4F3D-A8FB-3137B359FA4A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1C64-8153-47F9-96EA-58016869ECD6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1F2C-81F8-4B56-A86C-D8350E248A9C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8F3C-66A6-42AE-A647-D4736AD0FAED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ACB5-9CF9-4165-ADBE-4BBC38940142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6CC2-51E4-4DF1-83E4-ABB2F314DB2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6F89-FD8D-4D69-B72D-4233F412EB0B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D3EF-A602-47B8-A403-B94B319BE6A3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BBED-56F5-433D-A111-474237865C05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984D-1EF6-4810-BD64-B090F1860186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E420-C4F8-47A0-8B9D-F059D8ADEE17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9CAB-409E-4F5E-A753-B526A8A55CD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1F5F-2C2F-4B66-9D06-B3EA35CE1EDC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CF8F-6BD5-479E-B4C9-A02830F9E9E4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A7BC-2B69-4AB2-95D8-73D2D7412BB3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5652-A224-4C2F-972F-E40B7817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7478-2958-43AB-BFB9-18B2F1B3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FCFA-891A-4B56-8D1B-44073F20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22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48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96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22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48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D923-4962-4024-B1EE-B10B6FF8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A80D-5153-4B4E-9B0F-67E96A80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6C48-9A45-4B9B-B329-264A4983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59D1-E8DA-48E5-B3F1-69853ABC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B412-5DCB-4FFB-85D2-4C09B209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3873-45E4-416E-B0C3-E75F647D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1011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28A6-1DE7-4A67-81A1-31C18CD5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5DD6-BCBC-47A5-BB0E-BC67AC93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5369-69FC-4016-AA2F-688533CA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87A4-2096-4A22-AEC3-9B8908FA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042E-783B-4354-92DF-4FA07BED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BF70-4E39-41A7-8AA8-E55DC981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BB75-123A-4D4E-85E0-E4D792C0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22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48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96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422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48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BA25-6B0E-4882-AACE-FF687520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8E34-9912-4F5A-B5D4-9A456960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28AA-48BA-484B-A0CC-311176F7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5260-0C61-416D-9EDF-75F9CB1D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1011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72DA-598A-4749-821D-EE19CA94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D640-5E18-4F8E-BD4C-AE996ABC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DAB0-3941-4EFD-8722-09801126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E654-795E-4392-A447-867BBB6E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5824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58248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047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0476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932040"/>
            <a:ext cx="560160" cy="42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47484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26540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B26C-3593-4DC5-9844-6C8CBC584793}" type="slidenum">
              <a:rPr b="0" lang="en-U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081160"/>
            <a:ext cx="9009000" cy="1052640"/>
            <a:chOff x="0" y="208116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189160"/>
              <a:ext cx="712440" cy="474840"/>
              <a:chOff x="293760" y="218916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18916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18916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611440"/>
              <a:ext cx="739800" cy="474840"/>
              <a:chOff x="417600" y="261144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61144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61144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53836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08116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290340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November 5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CHO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E637-11F9-4E5A-8643-8C5127F8D611}" type="slidenum">
              <a:rPr b="0" lang="en-US" sz="2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4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BAEA-C995-40C1-A3BC-72DFA920B2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76240" y="128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lgorithms and Data Structures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Lecture VIII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848960" y="2768400"/>
            <a:ext cx="56977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Simonas </a:t>
            </a:r>
            <a:r>
              <a:rPr b="1" lang="lt-LT" sz="3200" spc="-1" strike="noStrike">
                <a:solidFill>
                  <a:srgbClr val="000000"/>
                </a:solidFill>
                <a:latin typeface="Tahoma"/>
              </a:rPr>
              <a:t>Šalte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ykredit Center for Database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alborg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imas@cs.auc.d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D38B-D488-4285-A487-6F51AC562F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ertion, Plain and Si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51577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 the new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s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g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s grand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se 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coming edge of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b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3" name="Object 4"/>
          <p:cNvGraphicFramePr/>
          <p:nvPr/>
        </p:nvGraphicFramePr>
        <p:xfrm>
          <a:off x="6087960" y="1596960"/>
          <a:ext cx="2486160" cy="31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7960" y="1596960"/>
                    <a:ext cx="24861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5"/>
          <p:cNvSpPr/>
          <p:nvPr/>
        </p:nvSpPr>
        <p:spPr>
          <a:xfrm>
            <a:off x="5618160" y="4713120"/>
            <a:ext cx="3470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Insertion algorithm stops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No further manipulation of the tree necessar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DEF3-6980-4C4D-9B0F-45A2E73641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ertion: Cas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11200" y="1638360"/>
            <a:ext cx="8547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coming edge of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its sibling (uncle of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has 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oming 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ree rooted at </a:t>
            </a:r>
            <a:r>
              <a:rPr b="0" lang="en-US" sz="2800" spc="-1" strike="noStrike">
                <a:solidFill>
                  <a:srgbClr val="ff3399"/>
                </a:solidFill>
                <a:latin typeface="Tahoma"/>
              </a:rPr>
              <a:t>g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balanced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0" name="Object 4"/>
          <p:cNvGraphicFramePr/>
          <p:nvPr/>
        </p:nvGraphicFramePr>
        <p:xfrm>
          <a:off x="2222640" y="3244680"/>
          <a:ext cx="5045040" cy="317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2640" y="3244680"/>
                    <a:ext cx="5045040" cy="31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10E4-BFDA-456F-847F-0BEF294893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ertion: Case 1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ll this 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mo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 how the black depth remains unchanged for all of the descendants o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process will continue upward beyo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necessary; rena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repe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259D-1352-4D99-AF7C-4441FD60EF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ertion: Case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3: Incoming edge of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its sibling is black and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lef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hild of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3846600" y="2944800"/>
          <a:ext cx="2284200" cy="30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6600" y="2944800"/>
                    <a:ext cx="228420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5"/>
          <p:cNvGraphicFramePr/>
          <p:nvPr/>
        </p:nvGraphicFramePr>
        <p:xfrm>
          <a:off x="6188040" y="2644920"/>
          <a:ext cx="2378160" cy="37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88040" y="2644920"/>
                    <a:ext cx="2378160" cy="37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Text Box 6"/>
          <p:cNvSpPr/>
          <p:nvPr/>
        </p:nvSpPr>
        <p:spPr>
          <a:xfrm>
            <a:off x="777960" y="2801880"/>
            <a:ext cx="2860560" cy="33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 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ght rot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further work on tree is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order remains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ee becomes mor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two consecutiv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d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6078600" y="2725560"/>
            <a:ext cx="761760" cy="304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B21A-E1D5-4926-AB85-79BE5ADBC9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ertion: Cases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2: Incoming edge of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its sibling is black and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igh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hild of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 must perform a “double rotation”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 rotation around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we end in case 3) followed by right rotation around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2730600" y="4226040"/>
          <a:ext cx="476712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0600" y="4226040"/>
                    <a:ext cx="476712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1686-62DB-451F-9780-F7ADFE8CC3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ertion: Mirror ca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three cases are handled analogously if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right chil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, case 2 and 3 –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ight-left  double r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6" name="Object 4"/>
          <p:cNvGraphicFramePr/>
          <p:nvPr/>
        </p:nvGraphicFramePr>
        <p:xfrm>
          <a:off x="2155680" y="3720960"/>
          <a:ext cx="522144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5680" y="3720960"/>
                    <a:ext cx="522144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52D5-6EEA-4656-B10C-6893D6ACA2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2"/>
          <p:cNvGrpSpPr/>
          <p:nvPr/>
        </p:nvGrpSpPr>
        <p:grpSpPr>
          <a:xfrm>
            <a:off x="966960" y="2554200"/>
            <a:ext cx="5020920" cy="2903760"/>
            <a:chOff x="966960" y="2554200"/>
            <a:chExt cx="5020920" cy="2903760"/>
          </a:xfrm>
        </p:grpSpPr>
        <p:sp>
          <p:nvSpPr>
            <p:cNvPr id="211" name="Rectangle 3"/>
            <p:cNvSpPr/>
            <p:nvPr/>
          </p:nvSpPr>
          <p:spPr>
            <a:xfrm>
              <a:off x="966960" y="2554200"/>
              <a:ext cx="5020920" cy="146700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4"/>
            <p:cNvSpPr/>
            <p:nvPr/>
          </p:nvSpPr>
          <p:spPr>
            <a:xfrm>
              <a:off x="966960" y="4287960"/>
              <a:ext cx="5020920" cy="45072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966960" y="4732200"/>
              <a:ext cx="5020920" cy="725760"/>
            </a:xfrm>
            <a:prstGeom prst="rect">
              <a:avLst/>
            </a:prstGeom>
            <a:solidFill>
              <a:srgbClr val="33cccc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4" name="Object 6"/>
          <p:cNvGraphicFramePr/>
          <p:nvPr/>
        </p:nvGraphicFramePr>
        <p:xfrm>
          <a:off x="596880" y="1638360"/>
          <a:ext cx="5572080" cy="44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1638360"/>
                    <a:ext cx="557208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Insertion: Pseudo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AutoShape 8"/>
          <p:cNvSpPr/>
          <p:nvPr/>
        </p:nvSpPr>
        <p:spPr>
          <a:xfrm>
            <a:off x="6067440" y="2552760"/>
            <a:ext cx="88920" cy="1466640"/>
          </a:xfrm>
          <a:custGeom>
            <a:avLst/>
            <a:gdLst>
              <a:gd name="textAreaLeft" fmla="*/ 0 w 88920"/>
              <a:gd name="textAreaRight" fmla="*/ 32040 w 88920"/>
              <a:gd name="textAreaTop" fmla="*/ 38160 h 1466640"/>
              <a:gd name="textAreaBottom" fmla="*/ 1428480 h 146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9"/>
          <p:cNvSpPr/>
          <p:nvPr/>
        </p:nvSpPr>
        <p:spPr>
          <a:xfrm>
            <a:off x="6067440" y="4286160"/>
            <a:ext cx="88920" cy="447840"/>
          </a:xfrm>
          <a:custGeom>
            <a:avLst/>
            <a:gdLst>
              <a:gd name="textAreaLeft" fmla="*/ 0 w 88920"/>
              <a:gd name="textAreaRight" fmla="*/ 32040 w 88920"/>
              <a:gd name="textAreaTop" fmla="*/ 11520 h 447840"/>
              <a:gd name="textAreaBottom" fmla="*/ 436320 h 44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10"/>
          <p:cNvSpPr/>
          <p:nvPr/>
        </p:nvSpPr>
        <p:spPr>
          <a:xfrm>
            <a:off x="6067440" y="4743360"/>
            <a:ext cx="88920" cy="723960"/>
          </a:xfrm>
          <a:custGeom>
            <a:avLst/>
            <a:gdLst>
              <a:gd name="textAreaLeft" fmla="*/ 0 w 88920"/>
              <a:gd name="textAreaRight" fmla="*/ 32040 w 8892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286680" y="30481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6286680" y="42768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6286680" y="485784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Cas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5070-0AE7-45F4-8422-8B2871A61C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ertion 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w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re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edg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present, we do eith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restructuring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with a simple or double rotation) an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op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ases 2 and 3),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promo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in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ase 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tructu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akes constant time and is performed at most once. It reorganizes an off-balanced section of the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mo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ay continue up the tree and are executed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 (height of the tre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unning tim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an insertion is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log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58E9-B2B2-4BC7-B869-A06D87DD7F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Inserting "REDSOX" into an empty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Now, let us insert "CUB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Insertion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3159000" y="2147760"/>
          <a:ext cx="3108600" cy="37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9000" y="2147760"/>
                    <a:ext cx="3108600" cy="37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5D66-18C7-479A-AACF-FEB43AE83C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6" name="Object 3"/>
          <p:cNvGraphicFramePr/>
          <p:nvPr/>
        </p:nvGraphicFramePr>
        <p:xfrm>
          <a:off x="700200" y="1598760"/>
          <a:ext cx="4054320" cy="42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200" y="1598760"/>
                    <a:ext cx="4054320" cy="42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4"/>
          <p:cNvGraphicFramePr/>
          <p:nvPr/>
        </p:nvGraphicFramePr>
        <p:xfrm>
          <a:off x="5513400" y="1781280"/>
          <a:ext cx="3132000" cy="360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13400" y="1781280"/>
                    <a:ext cx="3132000" cy="36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5"/>
          <p:cNvGraphicFramePr/>
          <p:nvPr/>
        </p:nvGraphicFramePr>
        <p:xfrm>
          <a:off x="4514760" y="2598840"/>
          <a:ext cx="806400" cy="128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14760" y="2598840"/>
                    <a:ext cx="80640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4295-229E-4D63-803E-B231E1F099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0000"/>
                </a:solidFill>
                <a:latin typeface="Tahoma"/>
              </a:rPr>
              <a:t>Red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-Black Tre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Rot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Inse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Dele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5C62-262B-4323-8558-3F7224329F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5" name="Object 3"/>
          <p:cNvGraphicFramePr/>
          <p:nvPr/>
        </p:nvGraphicFramePr>
        <p:xfrm>
          <a:off x="795240" y="1525680"/>
          <a:ext cx="4394160" cy="379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1525680"/>
                    <a:ext cx="4394160" cy="37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4"/>
          <p:cNvGraphicFramePr/>
          <p:nvPr/>
        </p:nvGraphicFramePr>
        <p:xfrm>
          <a:off x="5504040" y="1609560"/>
          <a:ext cx="3065400" cy="460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4040" y="1609560"/>
                    <a:ext cx="3065400" cy="46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5"/>
          <p:cNvGraphicFramePr/>
          <p:nvPr/>
        </p:nvGraphicFramePr>
        <p:xfrm>
          <a:off x="4775040" y="2368440"/>
          <a:ext cx="660600" cy="104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75040" y="2368440"/>
                    <a:ext cx="66060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4448-29D6-4AD8-B120-8347A32E1F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U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4" name="Group 3"/>
          <p:cNvGrpSpPr/>
          <p:nvPr/>
        </p:nvGrpSpPr>
        <p:grpSpPr>
          <a:xfrm>
            <a:off x="969840" y="1512720"/>
            <a:ext cx="2965320" cy="4626000"/>
            <a:chOff x="969840" y="1512720"/>
            <a:chExt cx="2965320" cy="4626000"/>
          </a:xfrm>
        </p:grpSpPr>
        <p:graphicFrame>
          <p:nvGraphicFramePr>
            <p:cNvPr id="255" name="Object 4"/>
            <p:cNvGraphicFramePr/>
            <p:nvPr/>
          </p:nvGraphicFramePr>
          <p:xfrm>
            <a:off x="969840" y="1512720"/>
            <a:ext cx="2965320" cy="462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1512720"/>
                      <a:ext cx="2965320" cy="462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7" name="Text Box 5"/>
            <p:cNvSpPr/>
            <p:nvPr/>
          </p:nvSpPr>
          <p:spPr>
            <a:xfrm>
              <a:off x="974520" y="4383000"/>
              <a:ext cx="1379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400" spc="-1" strike="noStrike">
                  <a:solidFill>
                    <a:srgbClr val="ff0000"/>
                  </a:solidFill>
                  <a:latin typeface="Times New Roman"/>
                </a:rPr>
                <a:t>Double Ro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58" name="Object 6"/>
          <p:cNvGraphicFramePr/>
          <p:nvPr/>
        </p:nvGraphicFramePr>
        <p:xfrm>
          <a:off x="4021200" y="2819520"/>
          <a:ext cx="660240" cy="104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21200" y="2819520"/>
                    <a:ext cx="66024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7"/>
          <p:cNvGraphicFramePr/>
          <p:nvPr/>
        </p:nvGraphicFramePr>
        <p:xfrm>
          <a:off x="4846680" y="1465200"/>
          <a:ext cx="3041640" cy="344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46680" y="1465200"/>
                    <a:ext cx="3041640" cy="34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3B27-6BFC-4151-B2CB-0B6C0E4255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65" name="Object 3"/>
          <p:cNvGraphicFramePr/>
          <p:nvPr/>
        </p:nvGraphicFramePr>
        <p:xfrm>
          <a:off x="1238400" y="1643040"/>
          <a:ext cx="326232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0" y="1643040"/>
                    <a:ext cx="326232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4"/>
          <p:cNvGraphicFramePr/>
          <p:nvPr/>
        </p:nvGraphicFramePr>
        <p:xfrm>
          <a:off x="723960" y="1595520"/>
          <a:ext cx="1600200" cy="70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960" y="1595520"/>
                    <a:ext cx="16002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5"/>
          <p:cNvGraphicFramePr/>
          <p:nvPr/>
        </p:nvGraphicFramePr>
        <p:xfrm>
          <a:off x="4851360" y="1630440"/>
          <a:ext cx="3902040" cy="372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1360" y="1630440"/>
                    <a:ext cx="3902040" cy="37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6"/>
          <p:cNvGraphicFramePr/>
          <p:nvPr/>
        </p:nvGraphicFramePr>
        <p:xfrm>
          <a:off x="4370400" y="2384280"/>
          <a:ext cx="660240" cy="104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70400" y="2384280"/>
                    <a:ext cx="66024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7"/>
          <p:cNvGraphicFramePr/>
          <p:nvPr/>
        </p:nvGraphicFramePr>
        <p:xfrm>
          <a:off x="5810400" y="4098960"/>
          <a:ext cx="1006200" cy="105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4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10400" y="4098960"/>
                    <a:ext cx="100620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Text Box 8"/>
          <p:cNvSpPr/>
          <p:nvPr/>
        </p:nvSpPr>
        <p:spPr>
          <a:xfrm>
            <a:off x="5530680" y="5181480"/>
            <a:ext cx="16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0000"/>
                </a:solidFill>
                <a:latin typeface="Times New Roman"/>
              </a:rPr>
              <a:t>What 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693F-9475-47A6-A834-677A87AA7B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B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79" name="Object 3"/>
          <p:cNvGraphicFramePr/>
          <p:nvPr/>
        </p:nvGraphicFramePr>
        <p:xfrm>
          <a:off x="5218200" y="1606680"/>
          <a:ext cx="3521160" cy="40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8200" y="1606680"/>
                    <a:ext cx="3521160" cy="40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4"/>
          <p:cNvGraphicFramePr/>
          <p:nvPr/>
        </p:nvGraphicFramePr>
        <p:xfrm>
          <a:off x="1224000" y="1954080"/>
          <a:ext cx="4394160" cy="362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4000" y="1954080"/>
                    <a:ext cx="4394160" cy="36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5"/>
          <p:cNvGraphicFramePr/>
          <p:nvPr/>
        </p:nvGraphicFramePr>
        <p:xfrm>
          <a:off x="4805280" y="2108160"/>
          <a:ext cx="660600" cy="104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5280" y="2108160"/>
                    <a:ext cx="66060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6"/>
          <p:cNvSpPr/>
          <p:nvPr/>
        </p:nvSpPr>
        <p:spPr>
          <a:xfrm>
            <a:off x="395280" y="3110040"/>
            <a:ext cx="20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0000"/>
                </a:solidFill>
                <a:latin typeface="Times New Roman"/>
              </a:rPr>
              <a:t>Right Rotation on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F3E0-28DC-4D55-A377-A8B51BD26C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89" name="Object 3"/>
          <p:cNvGraphicFramePr/>
          <p:nvPr/>
        </p:nvGraphicFramePr>
        <p:xfrm>
          <a:off x="303120" y="1523880"/>
          <a:ext cx="2208240" cy="10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1523880"/>
                    <a:ext cx="220824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4"/>
          <p:cNvGraphicFramePr/>
          <p:nvPr/>
        </p:nvGraphicFramePr>
        <p:xfrm>
          <a:off x="1582560" y="1401840"/>
          <a:ext cx="3483000" cy="40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82560" y="1401840"/>
                    <a:ext cx="348300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5"/>
          <p:cNvGraphicFramePr/>
          <p:nvPr/>
        </p:nvGraphicFramePr>
        <p:xfrm>
          <a:off x="5581800" y="1332000"/>
          <a:ext cx="3412800" cy="493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81800" y="1332000"/>
                    <a:ext cx="3412800" cy="49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6"/>
          <p:cNvGraphicFramePr/>
          <p:nvPr/>
        </p:nvGraphicFramePr>
        <p:xfrm>
          <a:off x="4649760" y="1595520"/>
          <a:ext cx="660600" cy="104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9760" y="1595520"/>
                    <a:ext cx="66060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Text Box 7"/>
          <p:cNvSpPr/>
          <p:nvPr/>
        </p:nvSpPr>
        <p:spPr>
          <a:xfrm>
            <a:off x="5045040" y="435780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0000"/>
                </a:solidFill>
                <a:latin typeface="Times New Roman"/>
              </a:rPr>
              <a:t>two red edges and red uncle X- </a:t>
            </a:r>
            <a:r>
              <a:rPr b="1" lang="da-DK" sz="2400" spc="-1" strike="noStrike">
                <a:solidFill>
                  <a:srgbClr val="ff0000"/>
                </a:solidFill>
                <a:latin typeface="Times New Roman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5359320" y="60786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could have placed it on either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9AB5-943C-46D1-A8AD-CD32CB7167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02" name="Object 3"/>
          <p:cNvGraphicFramePr/>
          <p:nvPr/>
        </p:nvGraphicFramePr>
        <p:xfrm>
          <a:off x="576360" y="1398600"/>
          <a:ext cx="3564000" cy="47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398600"/>
                    <a:ext cx="3564000" cy="47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 Box 4"/>
          <p:cNvSpPr/>
          <p:nvPr/>
        </p:nvSpPr>
        <p:spPr>
          <a:xfrm>
            <a:off x="4062240" y="1508040"/>
            <a:ext cx="168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0000"/>
                </a:solidFill>
                <a:latin typeface="Times New Roman"/>
              </a:rPr>
              <a:t>again two red edges - </a:t>
            </a:r>
            <a:r>
              <a:rPr b="1" lang="da-DK" sz="2400" spc="-1" strike="noStrike">
                <a:solidFill>
                  <a:srgbClr val="ff0000"/>
                </a:solidFill>
                <a:latin typeface="Times New Roman"/>
              </a:rPr>
              <a:t>r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Object 5"/>
          <p:cNvGraphicFramePr/>
          <p:nvPr/>
        </p:nvGraphicFramePr>
        <p:xfrm>
          <a:off x="4978440" y="1382760"/>
          <a:ext cx="3378240" cy="378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78440" y="1382760"/>
                    <a:ext cx="3378240" cy="37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6"/>
          <p:cNvGraphicFramePr/>
          <p:nvPr/>
        </p:nvGraphicFramePr>
        <p:xfrm>
          <a:off x="4414680" y="2936880"/>
          <a:ext cx="660600" cy="104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4680" y="2936880"/>
                    <a:ext cx="66060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1DC3-63EC-4D32-8641-4D8A02E9DF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e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27100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with binary search trees, we can always delete a node that has at least one external chi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key to be deleted is stored at a node that has no external children, we move there the key of its inorder predecessor (or successor), and delete that node inst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lete key 7, we move key 5 to node u, and delete node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13" name="Object 4"/>
          <p:cNvGraphicFramePr/>
          <p:nvPr/>
        </p:nvGraphicFramePr>
        <p:xfrm>
          <a:off x="3549600" y="4619520"/>
          <a:ext cx="4459320" cy="19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9600" y="4619520"/>
                    <a:ext cx="445932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D70F-7342-4F93-80B6-3BCF05C4E0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etion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Remove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If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we are done. Else, color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u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uble blac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19" name="Object 4"/>
          <p:cNvGraphicFramePr/>
          <p:nvPr/>
        </p:nvGraphicFramePr>
        <p:xfrm>
          <a:off x="3743280" y="2913120"/>
          <a:ext cx="4289400" cy="18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3280" y="2913120"/>
                    <a:ext cx="428940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Object 5"/>
          <p:cNvGraphicFramePr/>
          <p:nvPr/>
        </p:nvGraphicFramePr>
        <p:xfrm>
          <a:off x="3741840" y="4829040"/>
          <a:ext cx="4413240" cy="165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41840" y="4829040"/>
                    <a:ext cx="441324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BD11-FC7D-43E4-A62D-D436A9F99D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etion Algorithm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eliminate double black edg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tuitive idea is to perform a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or compens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a red edge nearby, and change the pair (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 bla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into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lack, bla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for insertion, we have two c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structu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olo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ructuring resolves the problem locally, whil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loring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it two level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ghtly more complicated than inse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5601-29F2-4EF9-A999-D9916C7096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etion Cas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96520" y="1638000"/>
            <a:ext cx="83581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bling and its children are black, perform 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col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rent become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uble bl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tinue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w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1" name="Object 4"/>
          <p:cNvGraphicFramePr/>
          <p:nvPr/>
        </p:nvGraphicFramePr>
        <p:xfrm>
          <a:off x="2425680" y="2952720"/>
          <a:ext cx="4276800" cy="18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5680" y="2952720"/>
                    <a:ext cx="4276800" cy="18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5"/>
          <p:cNvGraphicFramePr/>
          <p:nvPr/>
        </p:nvGraphicFramePr>
        <p:xfrm>
          <a:off x="2589120" y="4676760"/>
          <a:ext cx="3989520" cy="199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89120" y="4676760"/>
                    <a:ext cx="3989520" cy="19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4194-803E-4FC3-91FD-C8A67D0239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lanced Binary Search Tre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: worst-case execution time for dynamic set operations i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ution: balanced search trees guarantee small (logarithmic) heigh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1460520" y="4019400"/>
          <a:ext cx="6202440" cy="23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4019400"/>
                    <a:ext cx="6202440" cy="23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6CBA-75F5-4808-9032-E48AEB2887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etion: Cases 3 and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ibling is black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one of its children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perform 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structu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9" name="Object 4"/>
          <p:cNvGraphicFramePr/>
          <p:nvPr/>
        </p:nvGraphicFramePr>
        <p:xfrm>
          <a:off x="2360520" y="2766960"/>
          <a:ext cx="4473720" cy="17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0520" y="2766960"/>
                    <a:ext cx="4473720" cy="17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5"/>
          <p:cNvGraphicFramePr/>
          <p:nvPr/>
        </p:nvGraphicFramePr>
        <p:xfrm>
          <a:off x="2670120" y="4635360"/>
          <a:ext cx="4372200" cy="210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70120" y="4635360"/>
                    <a:ext cx="4372200" cy="21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874E-105D-44EF-ADCE-B314943B70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letion Cas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ibling is red, perform a rotation to get into one of cases 2, 3, and 4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 next case is 2 (recoloring), there is no propagation upward (parent is no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7" name="Object 4"/>
          <p:cNvGraphicFramePr/>
          <p:nvPr/>
        </p:nvGraphicFramePr>
        <p:xfrm>
          <a:off x="1587600" y="3825720"/>
          <a:ext cx="5852880" cy="24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0" y="3825720"/>
                    <a:ext cx="585288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19AF-4349-48E6-922A-3B88782EDB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Deletion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ete 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3" name="Object 4"/>
          <p:cNvGraphicFramePr/>
          <p:nvPr/>
        </p:nvGraphicFramePr>
        <p:xfrm>
          <a:off x="1008000" y="2098800"/>
          <a:ext cx="318312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2098800"/>
                    <a:ext cx="318312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5"/>
          <p:cNvGraphicFramePr/>
          <p:nvPr/>
        </p:nvGraphicFramePr>
        <p:xfrm>
          <a:off x="5318280" y="1995480"/>
          <a:ext cx="2728800" cy="374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18280" y="1995480"/>
                    <a:ext cx="272880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6"/>
          <p:cNvGraphicFramePr/>
          <p:nvPr/>
        </p:nvGraphicFramePr>
        <p:xfrm>
          <a:off x="4441680" y="3108240"/>
          <a:ext cx="660600" cy="104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41680" y="3108240"/>
                    <a:ext cx="66060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EC98-5341-43C1-9B16-9D414A3A13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Deletion Example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2 (sibling is black with black children) – rec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ol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3" name="Object 4"/>
          <p:cNvGraphicFramePr/>
          <p:nvPr/>
        </p:nvGraphicFramePr>
        <p:xfrm>
          <a:off x="1398600" y="2754360"/>
          <a:ext cx="2627280" cy="36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8600" y="2754360"/>
                    <a:ext cx="2627280" cy="36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5"/>
          <p:cNvGraphicFramePr/>
          <p:nvPr/>
        </p:nvGraphicFramePr>
        <p:xfrm>
          <a:off x="5272200" y="2773440"/>
          <a:ext cx="2612880" cy="365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72200" y="2773440"/>
                    <a:ext cx="2612880" cy="36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6"/>
          <p:cNvGraphicFramePr/>
          <p:nvPr/>
        </p:nvGraphicFramePr>
        <p:xfrm>
          <a:off x="4297320" y="3522600"/>
          <a:ext cx="660600" cy="104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97320" y="3522600"/>
                    <a:ext cx="66060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1BA1-96F2-4D85-AC81-E6D4F15318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Deletion Example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ete 8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: no double b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3" name="Object 4"/>
          <p:cNvGraphicFramePr/>
          <p:nvPr/>
        </p:nvGraphicFramePr>
        <p:xfrm>
          <a:off x="1336680" y="2319480"/>
          <a:ext cx="2730600" cy="38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2319480"/>
                    <a:ext cx="2730600" cy="38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5"/>
          <p:cNvGraphicFramePr/>
          <p:nvPr/>
        </p:nvGraphicFramePr>
        <p:xfrm>
          <a:off x="5199120" y="2249640"/>
          <a:ext cx="2759040" cy="386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9120" y="2249640"/>
                    <a:ext cx="2759040" cy="38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Object 6"/>
          <p:cNvGraphicFramePr/>
          <p:nvPr/>
        </p:nvGraphicFramePr>
        <p:xfrm>
          <a:off x="4584600" y="3313080"/>
          <a:ext cx="660600" cy="104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84600" y="3313080"/>
                    <a:ext cx="66060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E258-91D7-44F5-856E-D8B155EB56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Deletion Example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ete 7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: restructu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83" name="Object 4"/>
          <p:cNvGraphicFramePr/>
          <p:nvPr/>
        </p:nvGraphicFramePr>
        <p:xfrm>
          <a:off x="633240" y="2335320"/>
          <a:ext cx="2840040" cy="401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240" y="2335320"/>
                    <a:ext cx="2840040" cy="40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5"/>
          <p:cNvGraphicFramePr/>
          <p:nvPr/>
        </p:nvGraphicFramePr>
        <p:xfrm>
          <a:off x="3313080" y="2413080"/>
          <a:ext cx="660600" cy="104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13080" y="2413080"/>
                    <a:ext cx="66060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6"/>
          <p:cNvGraphicFramePr/>
          <p:nvPr/>
        </p:nvGraphicFramePr>
        <p:xfrm>
          <a:off x="3433680" y="2363760"/>
          <a:ext cx="2481480" cy="394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33680" y="2363760"/>
                    <a:ext cx="2481480" cy="39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7"/>
          <p:cNvGraphicFramePr/>
          <p:nvPr/>
        </p:nvGraphicFramePr>
        <p:xfrm>
          <a:off x="6278400" y="2386080"/>
          <a:ext cx="2465640" cy="3616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78400" y="2386080"/>
                    <a:ext cx="2465640" cy="36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8"/>
          <p:cNvGraphicFramePr/>
          <p:nvPr/>
        </p:nvGraphicFramePr>
        <p:xfrm>
          <a:off x="5845320" y="2362320"/>
          <a:ext cx="660240" cy="104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2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45320" y="2362320"/>
                    <a:ext cx="66024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22E0-884B-4694-B3FA-C403A2E88D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long does it tak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etion in a RB-tree tak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log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um three rotations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g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recolor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C4BB-25E2-4F05-9EFE-26F173573E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596520" y="1638000"/>
            <a:ext cx="8358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-Black trees are related to 2-3-4 trees (non-binary tre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balanced tre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01" name="Object 3"/>
          <p:cNvGraphicFramePr/>
          <p:nvPr/>
        </p:nvGraphicFramePr>
        <p:xfrm>
          <a:off x="4286160" y="4067280"/>
          <a:ext cx="4513320" cy="13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6160" y="4067280"/>
                    <a:ext cx="4513320" cy="13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4"/>
          <p:cNvGraphicFramePr/>
          <p:nvPr/>
        </p:nvGraphicFramePr>
        <p:xfrm>
          <a:off x="4214880" y="5335560"/>
          <a:ext cx="3895560" cy="13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4880" y="5335560"/>
                    <a:ext cx="389556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5"/>
          <p:cNvGraphicFramePr/>
          <p:nvPr/>
        </p:nvGraphicFramePr>
        <p:xfrm>
          <a:off x="4165560" y="2795760"/>
          <a:ext cx="4307040" cy="38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65560" y="2795760"/>
                    <a:ext cx="430704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Object 6"/>
          <p:cNvGraphicFramePr/>
          <p:nvPr/>
        </p:nvGraphicFramePr>
        <p:xfrm>
          <a:off x="4424400" y="3170160"/>
          <a:ext cx="3273480" cy="973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24400" y="3170160"/>
                    <a:ext cx="327348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Rectangle 8"/>
          <p:cNvSpPr/>
          <p:nvPr/>
        </p:nvSpPr>
        <p:spPr>
          <a:xfrm>
            <a:off x="596880" y="2752560"/>
            <a:ext cx="358308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L-trees have simpler algorithms, but may perform a lot of ro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9CE3-593D-4F07-A6DB-5BB492817B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d/Black Tre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34880" y="1638000"/>
            <a:ext cx="83232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red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-black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binary search tree with th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ges (nodes) are colored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dges connecting leaves are bl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4572000" y="3589200"/>
          <a:ext cx="4454640" cy="26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589200"/>
                    <a:ext cx="4454640" cy="26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6"/>
          <p:cNvSpPr/>
          <p:nvPr/>
        </p:nvSpPr>
        <p:spPr>
          <a:xfrm>
            <a:off x="428760" y="3355920"/>
            <a:ext cx="4049640" cy="30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two consecutive red edges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ny root-leaf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me number of black edges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ny root-leaf pa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lack height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the tr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56B6-E558-4651-952A-1E6D6555EE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RB-Tree Poper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24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meas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 of interna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 leav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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 + 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lack he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erty 1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2714760" y="4230720"/>
          <a:ext cx="55530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4230720"/>
                    <a:ext cx="55530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5"/>
          <p:cNvGraphicFramePr/>
          <p:nvPr/>
        </p:nvGraphicFramePr>
        <p:xfrm>
          <a:off x="2871720" y="3710160"/>
          <a:ext cx="209232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1720" y="3710160"/>
                    <a:ext cx="2092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41C1-C190-4685-9782-1ABE50208B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erty 2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erty 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ions in the binary-search tree (search, insert, delete, ...) can be accomplished i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equently, the RB-tree is a binary search tree, whose height is bound by 2 log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1), the operations run i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RB-Tree Popertie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2911320" y="1898640"/>
          <a:ext cx="34862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1320" y="1898640"/>
                    <a:ext cx="3486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5"/>
          <p:cNvGraphicFramePr/>
          <p:nvPr/>
        </p:nvGraphicFramePr>
        <p:xfrm>
          <a:off x="2954160" y="3087720"/>
          <a:ext cx="3270600" cy="43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54160" y="3087720"/>
                    <a:ext cx="32706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E21E-0689-4DD1-8057-D4286A16B9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752400" y="1828800"/>
          <a:ext cx="396252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1828800"/>
                    <a:ext cx="396252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4"/>
          <p:cNvGraphicFramePr/>
          <p:nvPr/>
        </p:nvGraphicFramePr>
        <p:xfrm>
          <a:off x="5059440" y="1846440"/>
          <a:ext cx="3763800" cy="258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59440" y="1846440"/>
                    <a:ext cx="3763800" cy="25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Group 5"/>
          <p:cNvGrpSpPr/>
          <p:nvPr/>
        </p:nvGrpSpPr>
        <p:grpSpPr>
          <a:xfrm>
            <a:off x="2017800" y="4730760"/>
            <a:ext cx="2568600" cy="668160"/>
            <a:chOff x="2017800" y="4730760"/>
            <a:chExt cx="2568600" cy="668160"/>
          </a:xfrm>
        </p:grpSpPr>
        <p:sp>
          <p:nvSpPr>
            <p:cNvPr id="151" name="AutoShape 6"/>
            <p:cNvSpPr/>
            <p:nvPr/>
          </p:nvSpPr>
          <p:spPr>
            <a:xfrm>
              <a:off x="2017800" y="4730760"/>
              <a:ext cx="2568600" cy="668160"/>
            </a:xfrm>
            <a:prstGeom prst="rightArrow">
              <a:avLst>
                <a:gd name="adj1" fmla="val 50000"/>
                <a:gd name="adj2" fmla="val 9610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7"/>
            <p:cNvSpPr/>
            <p:nvPr/>
          </p:nvSpPr>
          <p:spPr>
            <a:xfrm>
              <a:off x="2119320" y="4817880"/>
              <a:ext cx="21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400" spc="-1" strike="noStrike">
                  <a:solidFill>
                    <a:srgbClr val="000000"/>
                  </a:solidFill>
                  <a:latin typeface="Times New Roman"/>
                </a:rPr>
                <a:t>right ro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8"/>
          <p:cNvGrpSpPr/>
          <p:nvPr/>
        </p:nvGrpSpPr>
        <p:grpSpPr>
          <a:xfrm>
            <a:off x="5246280" y="4738680"/>
            <a:ext cx="2816640" cy="668160"/>
            <a:chOff x="5246280" y="4738680"/>
            <a:chExt cx="2816640" cy="668160"/>
          </a:xfrm>
        </p:grpSpPr>
        <p:sp>
          <p:nvSpPr>
            <p:cNvPr id="154" name="AutoShape 9"/>
            <p:cNvSpPr/>
            <p:nvPr/>
          </p:nvSpPr>
          <p:spPr>
            <a:xfrm flipH="1">
              <a:off x="5245920" y="4738680"/>
              <a:ext cx="2568600" cy="668160"/>
            </a:xfrm>
            <a:prstGeom prst="rightArrow">
              <a:avLst>
                <a:gd name="adj1" fmla="val 50000"/>
                <a:gd name="adj2" fmla="val 9610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5927760" y="4838760"/>
              <a:ext cx="21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400" spc="-1" strike="noStrike">
                  <a:solidFill>
                    <a:srgbClr val="000000"/>
                  </a:solidFill>
                  <a:latin typeface="Times New Roman"/>
                </a:rPr>
                <a:t>left ro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8857-8A3B-4AE8-BFD4-315A46D2E6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tation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34568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asic operation for maintaining balanced tr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s inorder key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left rotation (right rotation has the opposite effect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th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decreases by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th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tays the s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th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creases by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tation tak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1)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Object 4"/>
          <p:cNvGraphicFramePr/>
          <p:nvPr/>
        </p:nvGraphicFramePr>
        <p:xfrm>
          <a:off x="6275520" y="2141640"/>
          <a:ext cx="2692440" cy="149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5520" y="2141640"/>
                    <a:ext cx="2692440" cy="1490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1B28-D5B1-4FA3-9DA6-53974F1143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ertion in the RB-Tre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96680" y="1336320"/>
            <a:ext cx="77994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 a standard search to find the lea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the leaf with an internal node with the new key. The new node has two children (leaves) with black incomi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2679840" y="4911840"/>
          <a:ext cx="4281480" cy="170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9840" y="4911840"/>
                    <a:ext cx="4281480" cy="17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Rectangle 5"/>
          <p:cNvSpPr/>
          <p:nvPr/>
        </p:nvSpPr>
        <p:spPr>
          <a:xfrm>
            <a:off x="770040" y="3170160"/>
            <a:ext cx="798192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or the incoming edge of the new nod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parent has an incom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dge, we have two consecutiv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dges! We mus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-organi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tree to remove that viol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1:17:52Z</dcterms:created>
  <dc:creator>Simonas Saltenis</dc:creator>
  <dc:description>Produced using Dieter Pfoser's slides as basis</dc:description>
  <dc:language>en-US</dc:language>
  <cp:lastModifiedBy>mautner</cp:lastModifiedBy>
  <dcterms:modified xsi:type="dcterms:W3CDTF">2009-02-17T09:16:38Z</dcterms:modified>
  <cp:revision>75</cp:revision>
  <dc:subject/>
  <dc:title>Algorithms and Data Structures</dc:title>
</cp:coreProperties>
</file>