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BC5F-A08E-4675-9255-0CA23D8EFB8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DEA0-41AB-4422-AA54-E34ABB7E557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876F-F11B-4F3D-8288-425250F2AB7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3BE8-A707-4515-B8D0-081E602E25F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CD6-571A-4D12-9EDA-660230F4085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A071-80DD-4515-8535-12AA518222E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D8F6-082E-4654-BA05-71986F7490A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12B-D42F-41DF-9AEA-019C7D3AEA0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2170-3FF4-419D-857D-E0B84EB7873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051-3782-4568-9B89-8FC4BE2909B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3F0A-CC60-4A41-868B-DE9FEA7F821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D7B3-E148-4806-A77E-7CD37E9458B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59E0-BB4E-4872-9E43-8BE31473051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1A18-EA51-4BE4-9EB9-2609BBD88B1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BD61-272C-42B4-A189-CC55F749E22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807-D8C5-49D4-951F-C0BABBE1F87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83B1-83F7-4DC2-860F-58722D51181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30C3-9F56-4F8D-BD6E-D5F5B4B9DD1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7D47-89DF-49C6-83C2-F266628AE66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C1A8-EDBA-42A4-9CBB-202F519CD5C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E51E-8099-488B-9220-518167B15C1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788-7C1F-4524-92B9-A561F2A5EBD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F906-F328-4E9C-A890-04D1E782469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6D9-196B-4A7B-B3CC-2DF965A54AB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F859-C8C4-453A-BF02-547C56322FB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561-5B5F-46D6-B884-0FBF4027C18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7919-1736-4F63-B9FF-B29DF129C0C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C4E-D505-4E01-A1FD-2577590C6EA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CBC-2A29-4B7F-894D-48787E5BBA9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231-0484-4A47-803E-7F966A97443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7D6-A183-46A2-89BE-6276322A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6D6-F7E4-4A48-A9A3-C3B3B68F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CB1-61B0-4B6A-8E41-348861F7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77A-3D18-406E-8CF4-B1A4AAD7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1DD7-8640-436B-8AB1-AABFC3E3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F38F-08BF-4C03-AAA9-D73F202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A4AF-F8AD-4DE0-89B9-24D8CA78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7695-E1DB-462D-8937-583BAA26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07AD-642A-4CEF-A583-A13DE272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198E-6831-45AD-AA3C-1D9C7F4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86CB-BCFF-4361-B428-12E7D17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132-5864-441E-B46E-17C5DB52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72C5-CC26-4F0C-B257-F64BCFDE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7CA-1C51-45AA-AB06-27210BF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B32D-E9EB-43B3-BA31-0CB96E42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2AC8-FD13-4E6E-BEF4-01D577DC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F182-2BDF-442F-AFF1-E476E196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DA0-CB7E-42D8-92B7-C56DB19E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13D-584D-49A6-8693-80100412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C59-FC9A-4831-8D63-02BD7F30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DD1-B4C2-4AD8-A29E-1A761A58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17A-16FC-4B6B-8B3A-D78C981E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F04-A12C-4B6D-B39A-88D8F937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AD2-1A94-4E92-91D4-08E80114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73AE-E207-4A18-B2FE-FA80C4C4EF1D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22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A11D-4137-460B-891C-B8AEE82EFB06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8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35D1-A209-4CF6-869C-D4497F7C88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XI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0E47-6303-4139-A48A-DBC8342A72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Minimum Spanning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53420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irected, connected grap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ight fun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signing cost or length or other values to ed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5792760" y="1685880"/>
          <a:ext cx="29638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2760" y="1685880"/>
                    <a:ext cx="296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5"/>
          <p:cNvGraphicFramePr/>
          <p:nvPr/>
        </p:nvGraphicFramePr>
        <p:xfrm>
          <a:off x="5665680" y="5576760"/>
          <a:ext cx="24386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5680" y="5576760"/>
                    <a:ext cx="24386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6"/>
          <p:cNvSpPr/>
          <p:nvPr/>
        </p:nvSpPr>
        <p:spPr>
          <a:xfrm>
            <a:off x="596880" y="4162320"/>
            <a:ext cx="83581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nning tree: tree that connects all the vertices (abov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spanning tree: tree that connects all the vertices and min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19D-652A-4F63-B8E8-053A082707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Optimal Sub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201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MS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emoving the edge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partition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t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e claim tha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the MST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=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, the subgraph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nduced by vertices i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lso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the MST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943360" y="1549440"/>
          <a:ext cx="543708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3360" y="1549440"/>
                    <a:ext cx="543708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1920960" y="4159080"/>
          <a:ext cx="439236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0960" y="4159080"/>
                    <a:ext cx="4392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Freeform 8"/>
          <p:cNvSpPr/>
          <p:nvPr/>
        </p:nvSpPr>
        <p:spPr>
          <a:xfrm>
            <a:off x="2752560" y="1430280"/>
            <a:ext cx="3368880" cy="2067120"/>
          </a:xfrm>
          <a:prstGeom prst="pi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10"/>
          <p:cNvSpPr/>
          <p:nvPr/>
        </p:nvSpPr>
        <p:spPr>
          <a:xfrm>
            <a:off x="5483160" y="1193760"/>
            <a:ext cx="3033720" cy="2328840"/>
          </a:xfrm>
          <a:prstGeom prst="pi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941640" y="262404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864120" y="1519200"/>
            <a:ext cx="47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3333cc"/>
                </a:solidFill>
                <a:latin typeface="Tahoma"/>
              </a:rPr>
              <a:t>T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BAB8-41FB-4DAC-B266-74AF216878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eedy Cho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reedy choice property: locally optimal (greedy) choice yields a globally optimal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or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=(V, E)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and le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et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be min-weight edge i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connecting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n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– some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MST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A1F-C80B-483D-8743-78605177C4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eedy Choic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42004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uppose 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look at path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wap 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, y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– the first edge on path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hat crosses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this improves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– contradiction 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supposed to be MST)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2" name="AutoShape 8"/>
          <p:cNvCxnSpPr/>
          <p:nvPr/>
        </p:nvCxnSpPr>
        <p:spPr>
          <a:xfrm>
            <a:off x="2552400" y="5118120"/>
            <a:ext cx="756360" cy="311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3" name="AutoShape 9"/>
          <p:cNvCxnSpPr/>
          <p:nvPr/>
        </p:nvCxnSpPr>
        <p:spPr>
          <a:xfrm flipV="1">
            <a:off x="3308400" y="5091840"/>
            <a:ext cx="286560" cy="337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AutoShape 10"/>
          <p:cNvCxnSpPr/>
          <p:nvPr/>
        </p:nvCxnSpPr>
        <p:spPr>
          <a:xfrm>
            <a:off x="3581280" y="5092200"/>
            <a:ext cx="35640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AutoShape 11"/>
          <p:cNvCxnSpPr/>
          <p:nvPr/>
        </p:nvCxnSpPr>
        <p:spPr>
          <a:xfrm>
            <a:off x="3314520" y="5428800"/>
            <a:ext cx="35604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6" name="AutoShape 12"/>
          <p:cNvCxnSpPr/>
          <p:nvPr/>
        </p:nvCxnSpPr>
        <p:spPr>
          <a:xfrm flipH="1" flipV="1">
            <a:off x="3212280" y="4965480"/>
            <a:ext cx="89640" cy="444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AutoShape 13"/>
          <p:cNvCxnSpPr/>
          <p:nvPr/>
        </p:nvCxnSpPr>
        <p:spPr>
          <a:xfrm flipH="1" flipV="1">
            <a:off x="3670200" y="5695560"/>
            <a:ext cx="70200" cy="489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AutoShape 14"/>
          <p:cNvCxnSpPr/>
          <p:nvPr/>
        </p:nvCxnSpPr>
        <p:spPr>
          <a:xfrm flipV="1">
            <a:off x="3219120" y="4743000"/>
            <a:ext cx="267120" cy="223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9" name="AutoShape 15"/>
          <p:cNvCxnSpPr/>
          <p:nvPr/>
        </p:nvCxnSpPr>
        <p:spPr>
          <a:xfrm flipV="1">
            <a:off x="3600000" y="5029200"/>
            <a:ext cx="267120" cy="70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0" name="AutoShape 16"/>
          <p:cNvCxnSpPr/>
          <p:nvPr/>
        </p:nvCxnSpPr>
        <p:spPr>
          <a:xfrm>
            <a:off x="2558880" y="5117760"/>
            <a:ext cx="178200" cy="578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1" name="AutoShape 17"/>
          <p:cNvCxnSpPr/>
          <p:nvPr/>
        </p:nvCxnSpPr>
        <p:spPr>
          <a:xfrm flipH="1" flipV="1" rot="5400000">
            <a:off x="2501280" y="4818960"/>
            <a:ext cx="356400" cy="24228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AutoShape 18"/>
          <p:cNvCxnSpPr/>
          <p:nvPr/>
        </p:nvCxnSpPr>
        <p:spPr>
          <a:xfrm flipV="1" rot="10800000">
            <a:off x="2310840" y="5694840"/>
            <a:ext cx="425880" cy="13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AutoShape 19"/>
          <p:cNvCxnSpPr/>
          <p:nvPr/>
        </p:nvCxnSpPr>
        <p:spPr>
          <a:xfrm flipH="1" rot="16200000">
            <a:off x="2698560" y="5720760"/>
            <a:ext cx="508680" cy="41976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AutoShape 20"/>
          <p:cNvCxnSpPr/>
          <p:nvPr/>
        </p:nvCxnSpPr>
        <p:spPr>
          <a:xfrm>
            <a:off x="5194080" y="5315040"/>
            <a:ext cx="756360" cy="311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AutoShape 21"/>
          <p:cNvCxnSpPr/>
          <p:nvPr/>
        </p:nvCxnSpPr>
        <p:spPr>
          <a:xfrm flipV="1">
            <a:off x="5949720" y="5288760"/>
            <a:ext cx="286200" cy="337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AutoShape 22"/>
          <p:cNvCxnSpPr/>
          <p:nvPr/>
        </p:nvCxnSpPr>
        <p:spPr>
          <a:xfrm>
            <a:off x="6222960" y="5289120"/>
            <a:ext cx="35640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7" name="AutoShape 23"/>
          <p:cNvCxnSpPr/>
          <p:nvPr/>
        </p:nvCxnSpPr>
        <p:spPr>
          <a:xfrm>
            <a:off x="5956200" y="5625720"/>
            <a:ext cx="35640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8" name="AutoShape 24"/>
          <p:cNvCxnSpPr/>
          <p:nvPr/>
        </p:nvCxnSpPr>
        <p:spPr>
          <a:xfrm flipH="1" flipV="1">
            <a:off x="5853960" y="5161680"/>
            <a:ext cx="89640" cy="445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9" name="AutoShape 25"/>
          <p:cNvCxnSpPr/>
          <p:nvPr/>
        </p:nvCxnSpPr>
        <p:spPr>
          <a:xfrm flipH="1" flipV="1">
            <a:off x="6311520" y="5892120"/>
            <a:ext cx="267120" cy="292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0" name="AutoShape 26"/>
          <p:cNvCxnSpPr/>
          <p:nvPr/>
        </p:nvCxnSpPr>
        <p:spPr>
          <a:xfrm flipV="1">
            <a:off x="6311520" y="5695200"/>
            <a:ext cx="267120" cy="222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AutoShape 27"/>
          <p:cNvCxnSpPr/>
          <p:nvPr/>
        </p:nvCxnSpPr>
        <p:spPr>
          <a:xfrm flipV="1">
            <a:off x="5682960" y="5619600"/>
            <a:ext cx="267120" cy="70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AutoShape 28"/>
          <p:cNvCxnSpPr/>
          <p:nvPr/>
        </p:nvCxnSpPr>
        <p:spPr>
          <a:xfrm>
            <a:off x="5200560" y="5314680"/>
            <a:ext cx="178200" cy="578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AutoShape 29"/>
          <p:cNvCxnSpPr/>
          <p:nvPr/>
        </p:nvCxnSpPr>
        <p:spPr>
          <a:xfrm flipV="1">
            <a:off x="5200560" y="5092200"/>
            <a:ext cx="356400" cy="223200"/>
          </a:xfrm>
          <a:prstGeom prst="curvedConnector5">
            <a:avLst>
              <a:gd name="adj1" fmla="val 49949"/>
              <a:gd name="adj2" fmla="val 49919"/>
              <a:gd name="adj3" fmla="val 499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AutoShape 30"/>
          <p:cNvCxnSpPr/>
          <p:nvPr/>
        </p:nvCxnSpPr>
        <p:spPr>
          <a:xfrm rot="5400000">
            <a:off x="5085720" y="5892480"/>
            <a:ext cx="292680" cy="292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AutoShape 31"/>
          <p:cNvCxnSpPr/>
          <p:nvPr/>
        </p:nvCxnSpPr>
        <p:spPr>
          <a:xfrm>
            <a:off x="5384880" y="5873760"/>
            <a:ext cx="483120" cy="311760"/>
          </a:xfrm>
          <a:prstGeom prst="curvedConnector5">
            <a:avLst>
              <a:gd name="adj1" fmla="val 49962"/>
              <a:gd name="adj2" fmla="val 49942"/>
              <a:gd name="adj3" fmla="val 49962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AutoShape 32"/>
          <p:cNvCxnSpPr/>
          <p:nvPr/>
        </p:nvCxnSpPr>
        <p:spPr>
          <a:xfrm flipH="1" flipV="1" rot="5400000">
            <a:off x="5025960" y="5088960"/>
            <a:ext cx="400680" cy="64080"/>
          </a:xfrm>
          <a:prstGeom prst="curvedConnector5">
            <a:avLst>
              <a:gd name="adj1" fmla="val 50000"/>
              <a:gd name="adj2" fmla="val 49717"/>
              <a:gd name="adj3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7" name="AutoShape 33"/>
          <p:cNvCxnSpPr/>
          <p:nvPr/>
        </p:nvCxnSpPr>
        <p:spPr>
          <a:xfrm flipH="1">
            <a:off x="4990680" y="4921200"/>
            <a:ext cx="267120" cy="178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8" name="AutoShape 34"/>
          <p:cNvCxnSpPr/>
          <p:nvPr/>
        </p:nvCxnSpPr>
        <p:spPr>
          <a:xfrm flipH="1" flipV="1">
            <a:off x="4908240" y="4788000"/>
            <a:ext cx="356400" cy="133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9" name="AutoShape 35"/>
          <p:cNvCxnSpPr/>
          <p:nvPr/>
        </p:nvCxnSpPr>
        <p:spPr>
          <a:xfrm flipV="1">
            <a:off x="5549400" y="4450680"/>
            <a:ext cx="8964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0" name="Freeform 36"/>
          <p:cNvSpPr/>
          <p:nvPr/>
        </p:nvSpPr>
        <p:spPr>
          <a:xfrm>
            <a:off x="1963800" y="4484520"/>
            <a:ext cx="2281320" cy="2000520"/>
          </a:xfrm>
          <a:prstGeom prst="pi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37"/>
          <p:cNvSpPr/>
          <p:nvPr/>
        </p:nvSpPr>
        <p:spPr>
          <a:xfrm>
            <a:off x="4602240" y="4145040"/>
            <a:ext cx="2314440" cy="2428920"/>
          </a:xfrm>
          <a:prstGeom prst="pi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9"/>
          <p:cNvSpPr/>
          <p:nvPr/>
        </p:nvSpPr>
        <p:spPr>
          <a:xfrm>
            <a:off x="3740040" y="6184800"/>
            <a:ext cx="13525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1"/>
          <p:cNvSpPr/>
          <p:nvPr/>
        </p:nvSpPr>
        <p:spPr>
          <a:xfrm flipV="1">
            <a:off x="3936960" y="5098680"/>
            <a:ext cx="1066680" cy="2667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2"/>
          <p:cNvSpPr/>
          <p:nvPr/>
        </p:nvSpPr>
        <p:spPr>
          <a:xfrm flipV="1">
            <a:off x="3848040" y="4788000"/>
            <a:ext cx="1047960" cy="2412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3"/>
          <p:cNvSpPr/>
          <p:nvPr/>
        </p:nvSpPr>
        <p:spPr>
          <a:xfrm flipV="1">
            <a:off x="3486240" y="4470120"/>
            <a:ext cx="2165400" cy="2667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3678120" y="57754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4815360" y="578484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3832200" y="524844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4775760" y="50166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1687320" y="462456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3333cc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9"/>
          <p:cNvSpPr/>
          <p:nvPr/>
        </p:nvSpPr>
        <p:spPr>
          <a:xfrm>
            <a:off x="6577560" y="44308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3333cc"/>
                </a:solidFill>
                <a:latin typeface="Tahoma"/>
              </a:rPr>
              <a:t>V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B56-C4E1-4254-8E8B-4127C9AE5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ic MST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6520" y="1672920"/>
            <a:ext cx="6799320" cy="183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neric-M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, 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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// Contains edges that belong to a M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does not form a spanning tre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    Find an edge (u,v) that is safe for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(u,v)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87520" y="3621240"/>
            <a:ext cx="749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96880" y="3701880"/>
            <a:ext cx="84200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000000"/>
                </a:solidFill>
                <a:latin typeface="Tahoma"/>
              </a:rPr>
              <a:t>Safe edge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edge that does not destroy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’s property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44400" y="4352760"/>
            <a:ext cx="8066160" cy="204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reSpecific-M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G, 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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// Contains edges that belong to a M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does not form a spanning tre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.1    Make a cut (S, V-S) of G that respect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3.2    Take the min-weight edge (u,v) connecting S to V-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(u,v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00F7-E48E-4BFE-BF2B-D4542C39C5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m-Jarnik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Vertex based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rows one tree T, </a:t>
            </a:r>
            <a:r>
              <a:rPr b="1" lang="da-DK" sz="3200" spc="-1" strike="noStrike">
                <a:solidFill>
                  <a:srgbClr val="000000"/>
                </a:solidFill>
                <a:latin typeface="Tahoma"/>
              </a:rPr>
              <a:t>one vertex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 cloud covering the portion of T already comp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Label the vertice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outside the cloud with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] – the minimum weigth of an edge connecting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o a vertex in the cloud,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] = </a:t>
            </a:r>
            <a:r>
              <a:rPr b="0" lang="da-DK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if no such edge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0DF-624C-45BE-B0B3-05E07B44F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669960" y="4694400"/>
            <a:ext cx="6905520" cy="1015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96520" y="1638000"/>
            <a:ext cx="8358120" cy="31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T-Pri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G,w,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[G]  // Q – vertices out of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key[u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key[r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r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xtractMin(Q)  // making u part of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j[u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 and w(u,v) &lt; key[v]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v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         key[v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(u,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m-Jarnik Algorith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620120" y="468324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1372-6E64-43D2-8318-BD454968AB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m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685800" y="1523880"/>
          <a:ext cx="39718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39718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4"/>
          <p:cNvGraphicFramePr/>
          <p:nvPr/>
        </p:nvGraphicFramePr>
        <p:xfrm>
          <a:off x="4724280" y="1523880"/>
          <a:ext cx="398160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398160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685800" y="3809880"/>
          <a:ext cx="397188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09880"/>
                    <a:ext cx="3971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6"/>
          <p:cNvGraphicFramePr/>
          <p:nvPr/>
        </p:nvGraphicFramePr>
        <p:xfrm>
          <a:off x="4724280" y="3809880"/>
          <a:ext cx="3962520" cy="17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809880"/>
                    <a:ext cx="39625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7FCE-E194-4E17-A754-13C0BB66F5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m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685800" y="1676520"/>
          <a:ext cx="396252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9625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800600" y="1676520"/>
          <a:ext cx="3971880" cy="16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676520"/>
                    <a:ext cx="397188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5"/>
          <p:cNvGraphicFramePr/>
          <p:nvPr/>
        </p:nvGraphicFramePr>
        <p:xfrm>
          <a:off x="685800" y="3962520"/>
          <a:ext cx="3981600" cy="16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962520"/>
                    <a:ext cx="39816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6"/>
          <p:cNvGraphicFramePr/>
          <p:nvPr/>
        </p:nvGraphicFramePr>
        <p:xfrm>
          <a:off x="4724280" y="3962520"/>
          <a:ext cx="3962520" cy="1714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962520"/>
                    <a:ext cx="39625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E64C-44F6-4722-A084-AFE785ABDD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m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762120" y="1600200"/>
          <a:ext cx="397188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71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31C5-7290-46FA-B5E8-C141EE26AA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inish up Topological 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Weighted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Minimum Spanning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reedy Choice Theor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Kruskal’s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im’s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673-DABC-45D3-A4AE-E823B2963B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ority Que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riority queue is a data structure for maintaining a set S of elements, each with an associated value called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PQ to support the following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PQ(S) – initializes PQ to contain elements of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Min(S) returns and removes the element of S with the smalles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Key(S,x,newkey) – changes the key of x in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inary heap can be used to implement a P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PQ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ctMin and ModifyKey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88E8-00FA-428E-A0E2-8D3E0C09F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im’s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ime =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ExtractMin) +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ModifyK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ime =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V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g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g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g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89040" y="3036960"/>
          <a:ext cx="8223120" cy="2193840"/>
        </p:xfrm>
        <a:graphic>
          <a:graphicData uri="http://schemas.openxmlformats.org/drawingml/2006/table">
            <a:tbl>
              <a:tblPr/>
              <a:tblGrid>
                <a:gridCol w="1857240"/>
                <a:gridCol w="2027160"/>
                <a:gridCol w="2345040"/>
                <a:gridCol w="1993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(ExtractM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(DecreaseKe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 </a:t>
                      </a:r>
                      <a:r>
                        <a:rPr b="0" lang="da-DK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he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g 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bonacci he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 amortiz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lg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+</a:t>
                      </a:r>
                      <a:r>
                        <a:rPr b="0" i="1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 </a:t>
                      </a:r>
                      <a:r>
                        <a:rPr b="0" lang="da-DK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D127-E281-443D-8B4E-3071E5CE13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's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Edge base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dd the edges one at a time, in increasing weight or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algorithm maintain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A –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forest of tree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. An edge is accepted it if connects vertices of distinct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e need a data structure that maintains a partition, i.e.,a collection of disjoint 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MakeSet(S,x):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{{x}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Union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– {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da-DK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FindSet(S, x): returns unique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,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9F3F-DE8B-48B7-A4C6-3CFEA078AF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's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 algorithm adds the cheapest edge that connects two trees of the for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219320" y="2805120"/>
            <a:ext cx="69339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ST-Krusk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G,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rtex v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[G]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ke-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 the edges of E by non-decreasing weight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ach edge (u,v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, in order by non-decreasing weight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d-Set(u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nd-Set(v)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 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</a:t>
            </a:r>
            <a:r>
              <a:rPr b="0" lang="da-DK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(u,v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  Union(u,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7300-A51D-45C8-A0B7-2D4B039B5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7" name="Object 3"/>
          <p:cNvGraphicFramePr/>
          <p:nvPr/>
        </p:nvGraphicFramePr>
        <p:xfrm>
          <a:off x="685800" y="1600200"/>
          <a:ext cx="4010040" cy="18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401004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4"/>
          <p:cNvGraphicFramePr/>
          <p:nvPr/>
        </p:nvGraphicFramePr>
        <p:xfrm>
          <a:off x="4800600" y="1600200"/>
          <a:ext cx="40006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600200"/>
                    <a:ext cx="40006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5"/>
          <p:cNvGraphicFramePr/>
          <p:nvPr/>
        </p:nvGraphicFramePr>
        <p:xfrm>
          <a:off x="685800" y="3962520"/>
          <a:ext cx="4000680" cy="18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962520"/>
                    <a:ext cx="4000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6"/>
          <p:cNvGraphicFramePr/>
          <p:nvPr/>
        </p:nvGraphicFramePr>
        <p:xfrm>
          <a:off x="4724280" y="3962520"/>
          <a:ext cx="4077000" cy="173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962520"/>
                    <a:ext cx="40770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A1B4-D940-4638-96D3-357913D58A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685800" y="1600200"/>
          <a:ext cx="398160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39816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4"/>
          <p:cNvGraphicFramePr/>
          <p:nvPr/>
        </p:nvGraphicFramePr>
        <p:xfrm>
          <a:off x="4724280" y="1600200"/>
          <a:ext cx="396252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600200"/>
                    <a:ext cx="39625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5"/>
          <p:cNvGraphicFramePr/>
          <p:nvPr/>
        </p:nvGraphicFramePr>
        <p:xfrm>
          <a:off x="685800" y="3809880"/>
          <a:ext cx="4010040" cy="186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09880"/>
                    <a:ext cx="401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6"/>
          <p:cNvGraphicFramePr/>
          <p:nvPr/>
        </p:nvGraphicFramePr>
        <p:xfrm>
          <a:off x="4724280" y="3962520"/>
          <a:ext cx="3981600" cy="17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962520"/>
                    <a:ext cx="3981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4D8B-8EE1-49B7-B6EB-BFC236F86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685800" y="1523880"/>
          <a:ext cx="39718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39718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4"/>
          <p:cNvGraphicFramePr/>
          <p:nvPr/>
        </p:nvGraphicFramePr>
        <p:xfrm>
          <a:off x="4648320" y="1371600"/>
          <a:ext cx="40003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40003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5"/>
          <p:cNvGraphicFramePr/>
          <p:nvPr/>
        </p:nvGraphicFramePr>
        <p:xfrm>
          <a:off x="685800" y="3886200"/>
          <a:ext cx="398160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39816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6"/>
          <p:cNvGraphicFramePr/>
          <p:nvPr/>
        </p:nvGraphicFramePr>
        <p:xfrm>
          <a:off x="4724280" y="3886200"/>
          <a:ext cx="4000680" cy="171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886200"/>
                    <a:ext cx="40006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52C8-6528-46AB-A9BB-73651556F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 Exampl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20" name="Object 3"/>
          <p:cNvGraphicFramePr/>
          <p:nvPr/>
        </p:nvGraphicFramePr>
        <p:xfrm>
          <a:off x="685800" y="1523880"/>
          <a:ext cx="396252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39625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4"/>
          <p:cNvGraphicFramePr/>
          <p:nvPr/>
        </p:nvGraphicFramePr>
        <p:xfrm>
          <a:off x="4724280" y="1523880"/>
          <a:ext cx="3962520" cy="17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396252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4F8F-1441-4D31-8844-6140BAAA45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joint Sets as 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et – a list of elements identified by the first element, all elements in the list point to the first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on – add a smaller list to a large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Set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, Union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,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in{|C(u)|, C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}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1389240" y="4192560"/>
            <a:ext cx="563400" cy="511200"/>
            <a:chOff x="1389240" y="4192560"/>
            <a:chExt cx="563400" cy="511200"/>
          </a:xfrm>
        </p:grpSpPr>
        <p:grpSp>
          <p:nvGrpSpPr>
            <p:cNvPr id="329" name="Group 4"/>
            <p:cNvGrpSpPr/>
            <p:nvPr/>
          </p:nvGrpSpPr>
          <p:grpSpPr>
            <a:xfrm>
              <a:off x="1389240" y="4211640"/>
              <a:ext cx="563400" cy="492120"/>
              <a:chOff x="1389240" y="4211640"/>
              <a:chExt cx="563400" cy="492120"/>
            </a:xfrm>
          </p:grpSpPr>
          <p:sp>
            <p:nvSpPr>
              <p:cNvPr id="330" name="AutoShape 5"/>
              <p:cNvSpPr/>
              <p:nvPr/>
            </p:nvSpPr>
            <p:spPr>
              <a:xfrm>
                <a:off x="1398600" y="421164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6"/>
              <p:cNvSpPr/>
              <p:nvPr/>
            </p:nvSpPr>
            <p:spPr>
              <a:xfrm>
                <a:off x="1389240" y="445752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7"/>
              <p:cNvSpPr/>
              <p:nvPr/>
            </p:nvSpPr>
            <p:spPr>
              <a:xfrm>
                <a:off x="1692360" y="44496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Text Box 8"/>
            <p:cNvSpPr/>
            <p:nvPr/>
          </p:nvSpPr>
          <p:spPr>
            <a:xfrm>
              <a:off x="1513440" y="4192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20"/>
          <p:cNvGrpSpPr/>
          <p:nvPr/>
        </p:nvGrpSpPr>
        <p:grpSpPr>
          <a:xfrm>
            <a:off x="2265480" y="4192560"/>
            <a:ext cx="563400" cy="511200"/>
            <a:chOff x="2265480" y="4192560"/>
            <a:chExt cx="563400" cy="511200"/>
          </a:xfrm>
        </p:grpSpPr>
        <p:grpSp>
          <p:nvGrpSpPr>
            <p:cNvPr id="335" name="Group 9"/>
            <p:cNvGrpSpPr/>
            <p:nvPr/>
          </p:nvGrpSpPr>
          <p:grpSpPr>
            <a:xfrm>
              <a:off x="2265480" y="4211640"/>
              <a:ext cx="563400" cy="492120"/>
              <a:chOff x="2265480" y="4211640"/>
              <a:chExt cx="563400" cy="492120"/>
            </a:xfrm>
          </p:grpSpPr>
          <p:sp>
            <p:nvSpPr>
              <p:cNvPr id="336" name="AutoShape 10"/>
              <p:cNvSpPr/>
              <p:nvPr/>
            </p:nvSpPr>
            <p:spPr>
              <a:xfrm>
                <a:off x="2274840" y="421164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2265480" y="445752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2568600" y="44496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3"/>
            <p:cNvSpPr/>
            <p:nvPr/>
          </p:nvSpPr>
          <p:spPr>
            <a:xfrm>
              <a:off x="2389680" y="4192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21"/>
          <p:cNvGrpSpPr/>
          <p:nvPr/>
        </p:nvGrpSpPr>
        <p:grpSpPr>
          <a:xfrm>
            <a:off x="3152880" y="4192560"/>
            <a:ext cx="563400" cy="511200"/>
            <a:chOff x="3152880" y="4192560"/>
            <a:chExt cx="563400" cy="511200"/>
          </a:xfrm>
        </p:grpSpPr>
        <p:grpSp>
          <p:nvGrpSpPr>
            <p:cNvPr id="341" name="Group 14"/>
            <p:cNvGrpSpPr/>
            <p:nvPr/>
          </p:nvGrpSpPr>
          <p:grpSpPr>
            <a:xfrm>
              <a:off x="3152880" y="4211640"/>
              <a:ext cx="563400" cy="492120"/>
              <a:chOff x="3152880" y="4211640"/>
              <a:chExt cx="563400" cy="492120"/>
            </a:xfrm>
          </p:grpSpPr>
          <p:sp>
            <p:nvSpPr>
              <p:cNvPr id="342" name="AutoShape 15"/>
              <p:cNvSpPr/>
              <p:nvPr/>
            </p:nvSpPr>
            <p:spPr>
              <a:xfrm>
                <a:off x="3162240" y="421164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Line 16"/>
              <p:cNvSpPr/>
              <p:nvPr/>
            </p:nvSpPr>
            <p:spPr>
              <a:xfrm>
                <a:off x="3152880" y="445752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17"/>
              <p:cNvSpPr/>
              <p:nvPr/>
            </p:nvSpPr>
            <p:spPr>
              <a:xfrm>
                <a:off x="3456000" y="44496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Text Box 18"/>
            <p:cNvSpPr/>
            <p:nvPr/>
          </p:nvSpPr>
          <p:spPr>
            <a:xfrm>
              <a:off x="3277080" y="41925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Line 22"/>
          <p:cNvSpPr/>
          <p:nvPr/>
        </p:nvSpPr>
        <p:spPr>
          <a:xfrm>
            <a:off x="1838160" y="4564080"/>
            <a:ext cx="41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2751120" y="456264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1"/>
          <p:cNvSpPr/>
          <p:nvPr/>
        </p:nvSpPr>
        <p:spPr>
          <a:xfrm>
            <a:off x="1776240" y="4545000"/>
            <a:ext cx="660600" cy="3175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33"/>
          <p:cNvSpPr/>
          <p:nvPr/>
        </p:nvSpPr>
        <p:spPr>
          <a:xfrm>
            <a:off x="1674720" y="4537080"/>
            <a:ext cx="1621080" cy="417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34"/>
          <p:cNvSpPr/>
          <p:nvPr/>
        </p:nvSpPr>
        <p:spPr>
          <a:xfrm>
            <a:off x="1319040" y="4681440"/>
            <a:ext cx="201960" cy="244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35"/>
          <p:cNvGrpSpPr/>
          <p:nvPr/>
        </p:nvGrpSpPr>
        <p:grpSpPr>
          <a:xfrm>
            <a:off x="5697360" y="4197240"/>
            <a:ext cx="563400" cy="511200"/>
            <a:chOff x="5697360" y="4197240"/>
            <a:chExt cx="563400" cy="511200"/>
          </a:xfrm>
        </p:grpSpPr>
        <p:grpSp>
          <p:nvGrpSpPr>
            <p:cNvPr id="352" name="Group 36"/>
            <p:cNvGrpSpPr/>
            <p:nvPr/>
          </p:nvGrpSpPr>
          <p:grpSpPr>
            <a:xfrm>
              <a:off x="5697360" y="4216320"/>
              <a:ext cx="563400" cy="492120"/>
              <a:chOff x="5697360" y="4216320"/>
              <a:chExt cx="563400" cy="492120"/>
            </a:xfrm>
          </p:grpSpPr>
          <p:sp>
            <p:nvSpPr>
              <p:cNvPr id="353" name="AutoShape 37"/>
              <p:cNvSpPr/>
              <p:nvPr/>
            </p:nvSpPr>
            <p:spPr>
              <a:xfrm>
                <a:off x="5706720" y="421632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Line 38"/>
              <p:cNvSpPr/>
              <p:nvPr/>
            </p:nvSpPr>
            <p:spPr>
              <a:xfrm>
                <a:off x="5697360" y="446220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39"/>
              <p:cNvSpPr/>
              <p:nvPr/>
            </p:nvSpPr>
            <p:spPr>
              <a:xfrm>
                <a:off x="6000480" y="44542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Text Box 40"/>
            <p:cNvSpPr/>
            <p:nvPr/>
          </p:nvSpPr>
          <p:spPr>
            <a:xfrm>
              <a:off x="5815800" y="419724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1"/>
          <p:cNvGrpSpPr/>
          <p:nvPr/>
        </p:nvGrpSpPr>
        <p:grpSpPr>
          <a:xfrm>
            <a:off x="6573960" y="4197240"/>
            <a:ext cx="563400" cy="511200"/>
            <a:chOff x="6573960" y="4197240"/>
            <a:chExt cx="563400" cy="511200"/>
          </a:xfrm>
        </p:grpSpPr>
        <p:grpSp>
          <p:nvGrpSpPr>
            <p:cNvPr id="358" name="Group 42"/>
            <p:cNvGrpSpPr/>
            <p:nvPr/>
          </p:nvGrpSpPr>
          <p:grpSpPr>
            <a:xfrm>
              <a:off x="6573960" y="4216320"/>
              <a:ext cx="563400" cy="492120"/>
              <a:chOff x="6573960" y="4216320"/>
              <a:chExt cx="563400" cy="492120"/>
            </a:xfrm>
          </p:grpSpPr>
          <p:sp>
            <p:nvSpPr>
              <p:cNvPr id="359" name="AutoShape 43"/>
              <p:cNvSpPr/>
              <p:nvPr/>
            </p:nvSpPr>
            <p:spPr>
              <a:xfrm>
                <a:off x="6583320" y="421632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44"/>
              <p:cNvSpPr/>
              <p:nvPr/>
            </p:nvSpPr>
            <p:spPr>
              <a:xfrm>
                <a:off x="6573960" y="446220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45"/>
              <p:cNvSpPr/>
              <p:nvPr/>
            </p:nvSpPr>
            <p:spPr>
              <a:xfrm>
                <a:off x="6877080" y="44542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Text Box 46"/>
            <p:cNvSpPr/>
            <p:nvPr/>
          </p:nvSpPr>
          <p:spPr>
            <a:xfrm>
              <a:off x="6693840" y="41972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47"/>
          <p:cNvGrpSpPr/>
          <p:nvPr/>
        </p:nvGrpSpPr>
        <p:grpSpPr>
          <a:xfrm>
            <a:off x="7461360" y="4197240"/>
            <a:ext cx="563400" cy="511200"/>
            <a:chOff x="7461360" y="4197240"/>
            <a:chExt cx="563400" cy="511200"/>
          </a:xfrm>
        </p:grpSpPr>
        <p:grpSp>
          <p:nvGrpSpPr>
            <p:cNvPr id="364" name="Group 48"/>
            <p:cNvGrpSpPr/>
            <p:nvPr/>
          </p:nvGrpSpPr>
          <p:grpSpPr>
            <a:xfrm>
              <a:off x="7461360" y="4216320"/>
              <a:ext cx="563400" cy="492120"/>
              <a:chOff x="7461360" y="4216320"/>
              <a:chExt cx="563400" cy="492120"/>
            </a:xfrm>
          </p:grpSpPr>
          <p:sp>
            <p:nvSpPr>
              <p:cNvPr id="365" name="AutoShape 49"/>
              <p:cNvSpPr/>
              <p:nvPr/>
            </p:nvSpPr>
            <p:spPr>
              <a:xfrm>
                <a:off x="7470720" y="421632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0"/>
              <p:cNvSpPr/>
              <p:nvPr/>
            </p:nvSpPr>
            <p:spPr>
              <a:xfrm>
                <a:off x="7461360" y="446220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1"/>
              <p:cNvSpPr/>
              <p:nvPr/>
            </p:nvSpPr>
            <p:spPr>
              <a:xfrm>
                <a:off x="7764480" y="445428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Text Box 52"/>
            <p:cNvSpPr/>
            <p:nvPr/>
          </p:nvSpPr>
          <p:spPr>
            <a:xfrm>
              <a:off x="7582680" y="419724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Line 53"/>
          <p:cNvSpPr/>
          <p:nvPr/>
        </p:nvSpPr>
        <p:spPr>
          <a:xfrm>
            <a:off x="6146640" y="4568760"/>
            <a:ext cx="41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4"/>
          <p:cNvSpPr/>
          <p:nvPr/>
        </p:nvSpPr>
        <p:spPr>
          <a:xfrm>
            <a:off x="7059600" y="456732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5"/>
          <p:cNvSpPr/>
          <p:nvPr/>
        </p:nvSpPr>
        <p:spPr>
          <a:xfrm>
            <a:off x="7737840" y="441180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6"/>
          <p:cNvSpPr/>
          <p:nvPr/>
        </p:nvSpPr>
        <p:spPr>
          <a:xfrm>
            <a:off x="6056280" y="4559400"/>
            <a:ext cx="660600" cy="253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57"/>
          <p:cNvSpPr/>
          <p:nvPr/>
        </p:nvSpPr>
        <p:spPr>
          <a:xfrm>
            <a:off x="5956200" y="4541760"/>
            <a:ext cx="1648080" cy="417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8"/>
          <p:cNvSpPr/>
          <p:nvPr/>
        </p:nvSpPr>
        <p:spPr>
          <a:xfrm>
            <a:off x="5627520" y="4686480"/>
            <a:ext cx="201960" cy="244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59"/>
          <p:cNvGrpSpPr/>
          <p:nvPr/>
        </p:nvGrpSpPr>
        <p:grpSpPr>
          <a:xfrm>
            <a:off x="4038480" y="4191120"/>
            <a:ext cx="563400" cy="511200"/>
            <a:chOff x="4038480" y="4191120"/>
            <a:chExt cx="563400" cy="511200"/>
          </a:xfrm>
        </p:grpSpPr>
        <p:grpSp>
          <p:nvGrpSpPr>
            <p:cNvPr id="376" name="Group 60"/>
            <p:cNvGrpSpPr/>
            <p:nvPr/>
          </p:nvGrpSpPr>
          <p:grpSpPr>
            <a:xfrm>
              <a:off x="4038480" y="4210200"/>
              <a:ext cx="563400" cy="492120"/>
              <a:chOff x="4038480" y="4210200"/>
              <a:chExt cx="563400" cy="492120"/>
            </a:xfrm>
          </p:grpSpPr>
          <p:sp>
            <p:nvSpPr>
              <p:cNvPr id="377" name="AutoShape 61"/>
              <p:cNvSpPr/>
              <p:nvPr/>
            </p:nvSpPr>
            <p:spPr>
              <a:xfrm>
                <a:off x="4047840" y="421020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62"/>
              <p:cNvSpPr/>
              <p:nvPr/>
            </p:nvSpPr>
            <p:spPr>
              <a:xfrm>
                <a:off x="4038480" y="445608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63"/>
              <p:cNvSpPr/>
              <p:nvPr/>
            </p:nvSpPr>
            <p:spPr>
              <a:xfrm>
                <a:off x="4341600" y="444816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Text Box 64"/>
            <p:cNvSpPr/>
            <p:nvPr/>
          </p:nvSpPr>
          <p:spPr>
            <a:xfrm>
              <a:off x="4162680" y="41911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Text Box 65"/>
          <p:cNvSpPr/>
          <p:nvPr/>
        </p:nvSpPr>
        <p:spPr>
          <a:xfrm>
            <a:off x="4291560" y="44146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6"/>
          <p:cNvSpPr/>
          <p:nvPr/>
        </p:nvSpPr>
        <p:spPr>
          <a:xfrm>
            <a:off x="3638520" y="455148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67"/>
          <p:cNvSpPr/>
          <p:nvPr/>
        </p:nvSpPr>
        <p:spPr>
          <a:xfrm>
            <a:off x="1582560" y="4514760"/>
            <a:ext cx="2689560" cy="5079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68"/>
          <p:cNvGrpSpPr/>
          <p:nvPr/>
        </p:nvGrpSpPr>
        <p:grpSpPr>
          <a:xfrm>
            <a:off x="1379520" y="5243400"/>
            <a:ext cx="563400" cy="511200"/>
            <a:chOff x="1379520" y="5243400"/>
            <a:chExt cx="563400" cy="511200"/>
          </a:xfrm>
        </p:grpSpPr>
        <p:grpSp>
          <p:nvGrpSpPr>
            <p:cNvPr id="385" name="Group 69"/>
            <p:cNvGrpSpPr/>
            <p:nvPr/>
          </p:nvGrpSpPr>
          <p:grpSpPr>
            <a:xfrm>
              <a:off x="1379520" y="5262480"/>
              <a:ext cx="563400" cy="492120"/>
              <a:chOff x="1379520" y="5262480"/>
              <a:chExt cx="563400" cy="492120"/>
            </a:xfrm>
          </p:grpSpPr>
          <p:sp>
            <p:nvSpPr>
              <p:cNvPr id="386" name="AutoShape 70"/>
              <p:cNvSpPr/>
              <p:nvPr/>
            </p:nvSpPr>
            <p:spPr>
              <a:xfrm>
                <a:off x="1388880" y="526248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71"/>
              <p:cNvSpPr/>
              <p:nvPr/>
            </p:nvSpPr>
            <p:spPr>
              <a:xfrm>
                <a:off x="1379520" y="550836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72"/>
              <p:cNvSpPr/>
              <p:nvPr/>
            </p:nvSpPr>
            <p:spPr>
              <a:xfrm>
                <a:off x="1682640" y="550044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Text Box 73"/>
            <p:cNvSpPr/>
            <p:nvPr/>
          </p:nvSpPr>
          <p:spPr>
            <a:xfrm>
              <a:off x="1503720" y="52434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74"/>
          <p:cNvGrpSpPr/>
          <p:nvPr/>
        </p:nvGrpSpPr>
        <p:grpSpPr>
          <a:xfrm>
            <a:off x="2255760" y="5243400"/>
            <a:ext cx="563400" cy="511200"/>
            <a:chOff x="2255760" y="5243400"/>
            <a:chExt cx="563400" cy="511200"/>
          </a:xfrm>
        </p:grpSpPr>
        <p:grpSp>
          <p:nvGrpSpPr>
            <p:cNvPr id="391" name="Group 75"/>
            <p:cNvGrpSpPr/>
            <p:nvPr/>
          </p:nvGrpSpPr>
          <p:grpSpPr>
            <a:xfrm>
              <a:off x="2255760" y="5262480"/>
              <a:ext cx="563400" cy="492120"/>
              <a:chOff x="2255760" y="5262480"/>
              <a:chExt cx="563400" cy="492120"/>
            </a:xfrm>
          </p:grpSpPr>
          <p:sp>
            <p:nvSpPr>
              <p:cNvPr id="392" name="AutoShape 76"/>
              <p:cNvSpPr/>
              <p:nvPr/>
            </p:nvSpPr>
            <p:spPr>
              <a:xfrm>
                <a:off x="2265120" y="526248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77"/>
              <p:cNvSpPr/>
              <p:nvPr/>
            </p:nvSpPr>
            <p:spPr>
              <a:xfrm>
                <a:off x="2255760" y="550836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78"/>
              <p:cNvSpPr/>
              <p:nvPr/>
            </p:nvSpPr>
            <p:spPr>
              <a:xfrm>
                <a:off x="2558880" y="550044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Text Box 79"/>
            <p:cNvSpPr/>
            <p:nvPr/>
          </p:nvSpPr>
          <p:spPr>
            <a:xfrm>
              <a:off x="2379960" y="52434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80"/>
          <p:cNvGrpSpPr/>
          <p:nvPr/>
        </p:nvGrpSpPr>
        <p:grpSpPr>
          <a:xfrm>
            <a:off x="3143160" y="5243400"/>
            <a:ext cx="563400" cy="511200"/>
            <a:chOff x="3143160" y="5243400"/>
            <a:chExt cx="563400" cy="511200"/>
          </a:xfrm>
        </p:grpSpPr>
        <p:grpSp>
          <p:nvGrpSpPr>
            <p:cNvPr id="397" name="Group 81"/>
            <p:cNvGrpSpPr/>
            <p:nvPr/>
          </p:nvGrpSpPr>
          <p:grpSpPr>
            <a:xfrm>
              <a:off x="3143160" y="5262480"/>
              <a:ext cx="563400" cy="492120"/>
              <a:chOff x="3143160" y="5262480"/>
              <a:chExt cx="563400" cy="492120"/>
            </a:xfrm>
          </p:grpSpPr>
          <p:sp>
            <p:nvSpPr>
              <p:cNvPr id="398" name="AutoShape 82"/>
              <p:cNvSpPr/>
              <p:nvPr/>
            </p:nvSpPr>
            <p:spPr>
              <a:xfrm>
                <a:off x="3152520" y="526248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83"/>
              <p:cNvSpPr/>
              <p:nvPr/>
            </p:nvSpPr>
            <p:spPr>
              <a:xfrm>
                <a:off x="3143160" y="550836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84"/>
              <p:cNvSpPr/>
              <p:nvPr/>
            </p:nvSpPr>
            <p:spPr>
              <a:xfrm>
                <a:off x="3446280" y="550044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Text Box 85"/>
            <p:cNvSpPr/>
            <p:nvPr/>
          </p:nvSpPr>
          <p:spPr>
            <a:xfrm>
              <a:off x="3267360" y="52434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Line 86"/>
          <p:cNvSpPr/>
          <p:nvPr/>
        </p:nvSpPr>
        <p:spPr>
          <a:xfrm>
            <a:off x="1828800" y="561492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87"/>
          <p:cNvSpPr/>
          <p:nvPr/>
        </p:nvSpPr>
        <p:spPr>
          <a:xfrm>
            <a:off x="2741760" y="561348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88"/>
          <p:cNvSpPr/>
          <p:nvPr/>
        </p:nvSpPr>
        <p:spPr>
          <a:xfrm>
            <a:off x="1766880" y="5595840"/>
            <a:ext cx="660240" cy="3175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89"/>
          <p:cNvSpPr/>
          <p:nvPr/>
        </p:nvSpPr>
        <p:spPr>
          <a:xfrm>
            <a:off x="1665360" y="5587920"/>
            <a:ext cx="1620720" cy="417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91"/>
          <p:cNvGrpSpPr/>
          <p:nvPr/>
        </p:nvGrpSpPr>
        <p:grpSpPr>
          <a:xfrm>
            <a:off x="5688000" y="5248440"/>
            <a:ext cx="563400" cy="510480"/>
            <a:chOff x="5688000" y="5248440"/>
            <a:chExt cx="563400" cy="510480"/>
          </a:xfrm>
        </p:grpSpPr>
        <p:grpSp>
          <p:nvGrpSpPr>
            <p:cNvPr id="407" name="Group 92"/>
            <p:cNvGrpSpPr/>
            <p:nvPr/>
          </p:nvGrpSpPr>
          <p:grpSpPr>
            <a:xfrm>
              <a:off x="5688000" y="5267160"/>
              <a:ext cx="563400" cy="491760"/>
              <a:chOff x="5688000" y="5267160"/>
              <a:chExt cx="563400" cy="491760"/>
            </a:xfrm>
          </p:grpSpPr>
          <p:sp>
            <p:nvSpPr>
              <p:cNvPr id="408" name="AutoShape 93"/>
              <p:cNvSpPr/>
              <p:nvPr/>
            </p:nvSpPr>
            <p:spPr>
              <a:xfrm>
                <a:off x="5697360" y="5267160"/>
                <a:ext cx="554040" cy="4917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94"/>
              <p:cNvSpPr/>
              <p:nvPr/>
            </p:nvSpPr>
            <p:spPr>
              <a:xfrm>
                <a:off x="5688000" y="551268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95"/>
              <p:cNvSpPr/>
              <p:nvPr/>
            </p:nvSpPr>
            <p:spPr>
              <a:xfrm>
                <a:off x="5991120" y="5504760"/>
                <a:ext cx="0" cy="24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Text Box 96"/>
            <p:cNvSpPr/>
            <p:nvPr/>
          </p:nvSpPr>
          <p:spPr>
            <a:xfrm>
              <a:off x="5806440" y="524844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97"/>
          <p:cNvGrpSpPr/>
          <p:nvPr/>
        </p:nvGrpSpPr>
        <p:grpSpPr>
          <a:xfrm>
            <a:off x="6564240" y="5248440"/>
            <a:ext cx="563400" cy="510480"/>
            <a:chOff x="6564240" y="5248440"/>
            <a:chExt cx="563400" cy="510480"/>
          </a:xfrm>
        </p:grpSpPr>
        <p:grpSp>
          <p:nvGrpSpPr>
            <p:cNvPr id="413" name="Group 98"/>
            <p:cNvGrpSpPr/>
            <p:nvPr/>
          </p:nvGrpSpPr>
          <p:grpSpPr>
            <a:xfrm>
              <a:off x="6564240" y="5267160"/>
              <a:ext cx="563400" cy="491760"/>
              <a:chOff x="6564240" y="5267160"/>
              <a:chExt cx="563400" cy="491760"/>
            </a:xfrm>
          </p:grpSpPr>
          <p:sp>
            <p:nvSpPr>
              <p:cNvPr id="414" name="AutoShape 99"/>
              <p:cNvSpPr/>
              <p:nvPr/>
            </p:nvSpPr>
            <p:spPr>
              <a:xfrm>
                <a:off x="6573600" y="5267160"/>
                <a:ext cx="554040" cy="4917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100"/>
              <p:cNvSpPr/>
              <p:nvPr/>
            </p:nvSpPr>
            <p:spPr>
              <a:xfrm>
                <a:off x="6564240" y="551268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101"/>
              <p:cNvSpPr/>
              <p:nvPr/>
            </p:nvSpPr>
            <p:spPr>
              <a:xfrm>
                <a:off x="6867360" y="5504760"/>
                <a:ext cx="0" cy="24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Text Box 102"/>
            <p:cNvSpPr/>
            <p:nvPr/>
          </p:nvSpPr>
          <p:spPr>
            <a:xfrm>
              <a:off x="6684120" y="524844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103"/>
          <p:cNvGrpSpPr/>
          <p:nvPr/>
        </p:nvGrpSpPr>
        <p:grpSpPr>
          <a:xfrm>
            <a:off x="7451640" y="5248440"/>
            <a:ext cx="563400" cy="510480"/>
            <a:chOff x="7451640" y="5248440"/>
            <a:chExt cx="563400" cy="510480"/>
          </a:xfrm>
        </p:grpSpPr>
        <p:grpSp>
          <p:nvGrpSpPr>
            <p:cNvPr id="419" name="Group 104"/>
            <p:cNvGrpSpPr/>
            <p:nvPr/>
          </p:nvGrpSpPr>
          <p:grpSpPr>
            <a:xfrm>
              <a:off x="7451640" y="5267160"/>
              <a:ext cx="563400" cy="491760"/>
              <a:chOff x="7451640" y="5267160"/>
              <a:chExt cx="563400" cy="491760"/>
            </a:xfrm>
          </p:grpSpPr>
          <p:sp>
            <p:nvSpPr>
              <p:cNvPr id="420" name="AutoShape 105"/>
              <p:cNvSpPr/>
              <p:nvPr/>
            </p:nvSpPr>
            <p:spPr>
              <a:xfrm>
                <a:off x="7461000" y="5267160"/>
                <a:ext cx="554040" cy="4917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Line 106"/>
              <p:cNvSpPr/>
              <p:nvPr/>
            </p:nvSpPr>
            <p:spPr>
              <a:xfrm>
                <a:off x="7451640" y="551268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07"/>
              <p:cNvSpPr/>
              <p:nvPr/>
            </p:nvSpPr>
            <p:spPr>
              <a:xfrm>
                <a:off x="7754760" y="5504760"/>
                <a:ext cx="0" cy="24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Text Box 108"/>
            <p:cNvSpPr/>
            <p:nvPr/>
          </p:nvSpPr>
          <p:spPr>
            <a:xfrm>
              <a:off x="7572960" y="5248440"/>
              <a:ext cx="29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Line 109"/>
          <p:cNvSpPr/>
          <p:nvPr/>
        </p:nvSpPr>
        <p:spPr>
          <a:xfrm>
            <a:off x="6137280" y="561960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0"/>
          <p:cNvSpPr/>
          <p:nvPr/>
        </p:nvSpPr>
        <p:spPr>
          <a:xfrm>
            <a:off x="7050240" y="561816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1"/>
          <p:cNvSpPr/>
          <p:nvPr/>
        </p:nvSpPr>
        <p:spPr>
          <a:xfrm>
            <a:off x="7728480" y="546264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115"/>
          <p:cNvGrpSpPr/>
          <p:nvPr/>
        </p:nvGrpSpPr>
        <p:grpSpPr>
          <a:xfrm>
            <a:off x="4029120" y="5241960"/>
            <a:ext cx="563400" cy="511200"/>
            <a:chOff x="4029120" y="5241960"/>
            <a:chExt cx="563400" cy="511200"/>
          </a:xfrm>
        </p:grpSpPr>
        <p:grpSp>
          <p:nvGrpSpPr>
            <p:cNvPr id="428" name="Group 116"/>
            <p:cNvGrpSpPr/>
            <p:nvPr/>
          </p:nvGrpSpPr>
          <p:grpSpPr>
            <a:xfrm>
              <a:off x="4029120" y="5261040"/>
              <a:ext cx="563400" cy="492120"/>
              <a:chOff x="4029120" y="5261040"/>
              <a:chExt cx="563400" cy="492120"/>
            </a:xfrm>
          </p:grpSpPr>
          <p:sp>
            <p:nvSpPr>
              <p:cNvPr id="429" name="AutoShape 117"/>
              <p:cNvSpPr/>
              <p:nvPr/>
            </p:nvSpPr>
            <p:spPr>
              <a:xfrm>
                <a:off x="4038480" y="5261040"/>
                <a:ext cx="554040" cy="4921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118"/>
              <p:cNvSpPr/>
              <p:nvPr/>
            </p:nvSpPr>
            <p:spPr>
              <a:xfrm>
                <a:off x="4029120" y="5506920"/>
                <a:ext cx="55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119"/>
              <p:cNvSpPr/>
              <p:nvPr/>
            </p:nvSpPr>
            <p:spPr>
              <a:xfrm>
                <a:off x="4332240" y="5499000"/>
                <a:ext cx="0" cy="24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Text Box 120"/>
            <p:cNvSpPr/>
            <p:nvPr/>
          </p:nvSpPr>
          <p:spPr>
            <a:xfrm>
              <a:off x="4153320" y="5241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Line 122"/>
          <p:cNvSpPr/>
          <p:nvPr/>
        </p:nvSpPr>
        <p:spPr>
          <a:xfrm>
            <a:off x="3629160" y="5602320"/>
            <a:ext cx="41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123"/>
          <p:cNvSpPr/>
          <p:nvPr/>
        </p:nvSpPr>
        <p:spPr>
          <a:xfrm>
            <a:off x="1573200" y="5565600"/>
            <a:ext cx="2689200" cy="508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24"/>
          <p:cNvSpPr/>
          <p:nvPr/>
        </p:nvSpPr>
        <p:spPr>
          <a:xfrm>
            <a:off x="4478400" y="5610240"/>
            <a:ext cx="121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125"/>
          <p:cNvSpPr/>
          <p:nvPr/>
        </p:nvSpPr>
        <p:spPr>
          <a:xfrm>
            <a:off x="1500120" y="5581800"/>
            <a:ext cx="4400640" cy="5349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128"/>
          <p:cNvSpPr/>
          <p:nvPr/>
        </p:nvSpPr>
        <p:spPr>
          <a:xfrm>
            <a:off x="1424160" y="5567400"/>
            <a:ext cx="5413320" cy="5968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129"/>
          <p:cNvSpPr/>
          <p:nvPr/>
        </p:nvSpPr>
        <p:spPr>
          <a:xfrm>
            <a:off x="1349280" y="5556240"/>
            <a:ext cx="6364440" cy="6602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130"/>
          <p:cNvSpPr/>
          <p:nvPr/>
        </p:nvSpPr>
        <p:spPr>
          <a:xfrm>
            <a:off x="1138320" y="5613480"/>
            <a:ext cx="264960" cy="27468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0DA8-255C-4950-BB3A-D6706F7090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Kruskal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itializatio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orting the edges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g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lg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(wh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calls to FindS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Union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(v)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– the number of times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is moved to a new cl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Each time a vertex is moved to a new cluster the size of the cluster containing the vertex at least doubles: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t(v)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Total time spent doing Un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otal time: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lg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44" name="Object 4"/>
          <p:cNvGraphicFramePr/>
          <p:nvPr/>
        </p:nvGraphicFramePr>
        <p:xfrm>
          <a:off x="5418000" y="5241960"/>
          <a:ext cx="222732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8000" y="5241960"/>
                    <a:ext cx="22273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AA6-F0BB-4616-83E2-7506DC01B7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rected Acyclic Gra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AG is a directed graph with no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used to indicate precedences among events, i.e., ev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t happen befo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would be a parallel code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ing a total order can be done us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ological S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212920" y="2122560"/>
          <a:ext cx="464040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122560"/>
                    <a:ext cx="464040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C04-9E5B-4CBC-A672-8B1DF3B900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G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ed grap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cyclic iff a DF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ields no back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pose there is a back edge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ancesto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DFS forest. Thus, there is a path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G and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mpletes the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pose there is a cycl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the first vertex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be discovered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predecesso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on discover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whole cycle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wh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ust visit all nodes reachable on this white path before return DFS-Visit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i.e., verte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 a descendan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,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a ba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7413-C046-41B6-8128-63AF50A9FE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orting of a directed acyclic graph (DA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 topological sort of a DAG is a linear ordering of all its vertices sucht that for any edge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in the DAG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ppears befor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n the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following algorithm topologically sorts a D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linked lists comprises a total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38080" y="40813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pological-S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G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) call DFS(G) to compute finishing tim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for each vertex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) as each vertex is finished, insert it onto the front of a linked li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) return the linked list of vert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30DA-D3B9-4C7F-A2F4-273F21EAA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ecedence relations: an edge from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means one must be done with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before one can d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tuition: can schedule task only when all of its subtasks have been schedul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2106720" y="3422520"/>
          <a:ext cx="464796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3422520"/>
                    <a:ext cx="464796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5"/>
          <p:cNvGraphicFramePr/>
          <p:nvPr/>
        </p:nvGraphicFramePr>
        <p:xfrm>
          <a:off x="928800" y="5586480"/>
          <a:ext cx="7583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5586480"/>
                    <a:ext cx="7583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9980-5EBD-45A3-AC17-48E0C38BD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Running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pth-first search: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 each of the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 vertices to the front of the linked list: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1) per inse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us the total running time i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9327-103D-4899-9DCC-1261C11F8F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 Correct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laim: for a DAG, an ed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hen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explored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gray. We can distinguish thre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= gray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) = back edge (cycle, contradic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= white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becomes descendant of 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u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will be finished before 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u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f[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] &lt; f[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= black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is already finished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 f[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] &lt; f[</a:t>
            </a:r>
            <a:r>
              <a:rPr b="0" i="1" lang="da-DK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definition of topological sort is satis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5299200" y="1654200"/>
          <a:ext cx="36162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9200" y="1654200"/>
                    <a:ext cx="3616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2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7AC4-7506-448C-A67B-8042D72C21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panning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da-DK" sz="3200" spc="-1" strike="noStrike">
                <a:solidFill>
                  <a:srgbClr val="000000"/>
                </a:solidFill>
                <a:latin typeface="Tahoma"/>
              </a:rPr>
              <a:t>spanning tree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1" lang="da-DK" sz="32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s a subgraph wh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s a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ontains all vertices of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2200320" y="3438360"/>
          <a:ext cx="4800600" cy="31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3438360"/>
                    <a:ext cx="480060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23:21Z</dcterms:modified>
  <cp:revision>117</cp:revision>
  <dc:subject/>
  <dc:title>Algorithms and Data Structures</dc:title>
</cp:coreProperties>
</file>