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28400" cy="9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13120" y="-360"/>
            <a:ext cx="291456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07920" y="745920"/>
            <a:ext cx="491328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33CA-17D8-4CBA-AE74-D5E3591BB30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5E57-7CB5-4CCA-8F78-DC3027C17FD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F2AC-739F-4499-8B0E-DD9D0C1C4F1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ED8C-F073-40CA-9C04-633BAF0259C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2BB9-6285-4616-9611-367FE3FC265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8414-61F7-487A-82D8-F34B3F3466B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B692-2F92-4A20-BD32-1868168CDC1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C959-4A78-4E39-AA1B-BBB6CBE6A58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AC62-52D2-4481-B74B-FB7B0CBA239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D4BD-1788-4E50-AC30-862B873920C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641F-BC6E-4BA2-A45C-A5A74B5CF74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EDB3-06CA-4229-8100-88126AA8F2A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FE04-20AB-4682-AE50-69AB7B907B8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7903-FB80-4C29-A7A5-EF166941CB6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911B-64D9-4200-B5D0-273BD8FC790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3C86-E9C1-4387-8110-591455AACC7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9AA1-1BEE-4746-A2C0-0FFAB0E83DB2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DB78-B140-4F86-A2A0-8089BA19A66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73F5-0B2A-46F2-8EF1-650572151F6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3BB9-C698-4FC0-9415-F16B8447E4C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3543-0D4E-4A3F-83EF-0B26197FA1E9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A4F0-9139-43B8-AFC4-E37934E4F8F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CD2C-356A-4FCC-B4DE-7D5CDF08EF0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833F-4595-45FF-A143-B00E1EF4D81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996D-B961-496B-B530-9643F260687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A871-F5CF-479A-8D2F-373DADFC7DA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35AF-4CC5-4D77-A433-FC8D6035653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22DB-E1FB-4B04-BB81-29CF55B598A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5039-D908-4564-844D-7BBF15B2B8D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0DB3-B164-4B93-BAA0-8E9CC15B03C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6D21-7ABB-4ECE-A14A-F749C84BBB6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D9D1-334A-4B63-93B8-836A14E8861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9529-DDD4-4D59-95C7-4A041F0C8A5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F1F0-91BC-42EA-9F37-D185F5AD1EDE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0AE8-2B18-4D3C-B6E2-D407A21833B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4FF9-E17A-4393-A12D-1CC0DB150E3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8177-C877-4734-893C-3704B1222927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879E-0FDF-4A4C-81B7-B4D5DD8E34E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07920" y="746280"/>
            <a:ext cx="4913280" cy="3684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96760" y="4682880"/>
            <a:ext cx="4934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Zástupný symbol pro číslo snímku 3"/>
          <p:cNvSpPr/>
          <p:nvPr/>
        </p:nvSpPr>
        <p:spPr>
          <a:xfrm>
            <a:off x="3813120" y="9366120"/>
            <a:ext cx="2914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95B7-08E6-4ABB-B303-6EDFF0576F65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E6A-BB66-43D8-91E7-C86A1A73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D46-3FE9-4199-9026-C73383CE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D67-D6A2-44CD-A6D8-7C781D23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6F6-7124-4BBA-800B-145A263C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EFB2-6C1F-43DD-BA00-E66D749A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98CD-603E-4192-9941-52C98FA8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4268-9105-4B42-B84F-3C935649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5C61-2513-4A2F-8FE5-D17BEB52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786D-5549-46ED-B5A4-C3654E94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EEA8-53D4-4CAA-A8BD-6F142E37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D1CA-032C-42B1-81E0-C5E8A04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532-3924-45D5-B858-A2AA97E9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4A91-2861-45D3-8F3C-46438CDD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DB84-6C64-422F-9054-1A407CA3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1AE1-F611-4AC4-95AE-51471A54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8D9E-9A15-4BF5-8E77-4E9638DE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22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48520" y="163836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96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22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48520" y="3985920"/>
            <a:ext cx="2691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22F9-F285-4196-BBC5-FE5721B6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E20-0403-432B-8796-D08F89FC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7AC-9CC4-4BA1-925B-D51565E1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B0B-B39B-4642-BA7F-639F9A06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011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5B0-4A71-4D3B-BF70-DC4892DE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945-7D87-4F7D-A295-9052B2B5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79440" y="398592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6FA-1541-4689-9F08-0BA3F095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9440" y="1638360"/>
            <a:ext cx="40784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20" y="3985920"/>
            <a:ext cx="835812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CBA-6FE1-42C2-BE66-3655ADDD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5824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5824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047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047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93204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4748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26540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C062-664A-4F36-92F3-B788974961B5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081160"/>
            <a:ext cx="9009000" cy="1052640"/>
            <a:chOff x="0" y="208116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189160"/>
              <a:ext cx="712440" cy="474840"/>
              <a:chOff x="293760" y="218916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18916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1891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611440"/>
              <a:ext cx="739800" cy="474840"/>
              <a:chOff x="417600" y="261144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6114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6114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538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0811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2903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October 18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ahoma"/>
              </a:rPr>
              <a:t>CHO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CC16-8E65-47BB-ACA9-16AB3B70A633}" type="slidenum">
              <a:rPr b="0" lang="en-US" sz="2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18F1-BA6C-4B0F-A117-82306AABB2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6240" y="12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lgorithms and Data Structures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Lecture V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848960" y="2768400"/>
            <a:ext cx="5697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Simonas </a:t>
            </a:r>
            <a:r>
              <a:rPr b="1" lang="lt-LT" sz="3200" spc="-1" strike="noStrike">
                <a:solidFill>
                  <a:srgbClr val="000000"/>
                </a:solidFill>
                <a:latin typeface="Tahoma"/>
              </a:rPr>
              <a:t>Šalte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ykredit Center for Databas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alborg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mas@cs.auc.d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8186-E097-4186-9111-5F0D798C21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c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container of objects that are inserted and removed according to the last-in-first-out 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F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princi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s can be inserted at any time, but only the last (the most-recently inserted) object can be remo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rting an item is known as 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sh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onto the stack. 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pp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off the stack is synonymous with removing an i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46BB-B873-4EE3-84A1-AA6BF17B93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ck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EZ ® dispenser as an analog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3530520" y="2076480"/>
          <a:ext cx="2202120" cy="42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0520" y="2076480"/>
                    <a:ext cx="220212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E6FF-688D-4628-BAA3-288857F656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cks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is an ADT that supports three main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sh(S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 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erts ob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to top of stac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p(S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 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moves the top object of stac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; if the stack is empty an error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(S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ement 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turns the top object of the stack, without removing it; if the stack is empty an error occu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A3E5-6BC3-4321-B7B1-2F889F027C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cks(4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llowing support methods should also be defin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ze(S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Returns the number of objects in stac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Empty(S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oolean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cates if stack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xio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p(Push(S, v)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p(Push(S, v)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71D7-B131-46B7-A710-4246D7A045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rray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stack using an array by specifying a maximum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ur st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ack consists of an N-element arra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an integer varia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 index of the top element in array 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ray indices start at 0, so we initial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1042920" y="4156200"/>
          <a:ext cx="7228080" cy="88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56200"/>
                    <a:ext cx="72280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2CE9-F5FF-431D-8770-0111D8CAA1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rray Implementa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seudo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68320" y="2324160"/>
            <a:ext cx="35812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gorith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size(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gorith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sEmpty(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gorith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top(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sEmpty()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rr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S[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540320" y="1916280"/>
            <a:ext cx="39621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gorith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push(o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rror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+1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[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gorith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pop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sEmpty()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rro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[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6"/>
          <p:cNvGraphicFramePr/>
          <p:nvPr/>
        </p:nvGraphicFramePr>
        <p:xfrm>
          <a:off x="1068480" y="5334120"/>
          <a:ext cx="7227720" cy="88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5334120"/>
                    <a:ext cx="722772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F3CD-EE9F-4A7E-8355-CEBC6CEF3C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rray Implementation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rray implementation is simple and efficient (methods performed in O(1)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n upper bound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on the size of the stack. The arbitrary valu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too small for a given application, or a waste of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11EF-BCCA-4853-830C-266E5A440E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ata, pointe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nected in a chain by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ead or the tail of the list could serve as the top of the s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gly Linked Li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2262240" y="2354400"/>
          <a:ext cx="5994360" cy="27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2354400"/>
                    <a:ext cx="5994360" cy="27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B547-3003-4B85-8FA4-79DA41890F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7680" y="1576080"/>
            <a:ext cx="835812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queue differs from a stack in that its insertion and removal routines follows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-in-first-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FIFO) princi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may be inserted at any time, but only the element which has been in the queue the longest may be remo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are inserted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r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nqueued) and removed from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equeu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2287440" y="5029200"/>
          <a:ext cx="533088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7440" y="5029200"/>
                    <a:ext cx="5330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5"/>
          <p:cNvSpPr/>
          <p:nvPr/>
        </p:nvSpPr>
        <p:spPr>
          <a:xfrm>
            <a:off x="2439720" y="4711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403320" y="47242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34340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934C-974F-4E1A-9F52-978FF86524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e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e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pports three fundamental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queue(S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 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s ob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the rear of the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queue(S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ves the object from the front of the queue; an error occurs if the queue is 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ont(S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lement -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s, but does not remove, the front element; an error occurs if the queue is 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3759-5011-4300-9A24-0D83F576BB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L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Dynamic Sets, Dictionaries, Stacks,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Linked Data Structures for Tr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75A2-5A6D-47F0-956E-37F126A0BC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ue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support methods should also be defin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()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 – Creates an empty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ze(S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g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Empty(S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xio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(Enqueue(New(), v)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queque(Enqueue(New(), v)) = New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(Enqueue(Enqueue(Q, w), v)) = Front(Enqueue(Q, w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queue(Enqueue(Enqueue(Q, w), v)) = Enqueue(Dequeue(Enqueue(Q, w)), v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CA14-DA98-4C3A-8458-B56DAC027A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rray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queue using an array in a circular fash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aximum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specifi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queue consists of an N-element arra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two integer variab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dex of the front element (head – for deque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dex of the element after the rear one (tail – for enque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1141560" y="5421240"/>
          <a:ext cx="73054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1560" y="5421240"/>
                    <a:ext cx="73054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799C-08FD-474B-9B91-0B3190B84C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rray Implementa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ped around” 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=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4" descr="A:\WAR.GIF"/>
          <p:cNvPicPr/>
          <p:nvPr/>
        </p:nvPicPr>
        <p:blipFill>
          <a:blip r:embed="rId1"/>
          <a:stretch/>
        </p:blipFill>
        <p:spPr>
          <a:xfrm>
            <a:off x="1023840" y="2273400"/>
            <a:ext cx="7067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E66C-6516-4F23-A523-F08BDBE404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Array Implementation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eudo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11080" y="2441520"/>
            <a:ext cx="35816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gorithm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(N-f+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)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od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gorithm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sEmpty(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(f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gorithm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ront(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isEmpty()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rr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Q[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570560" y="1952640"/>
            <a:ext cx="350496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gorithm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queue(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isEmpty()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rro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[f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(f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+1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gorithm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queue(o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size = 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- 1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rro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[r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o</a:t>
            </a:r>
            <a:br>
              <a:rPr sz="2000"/>
            </a:b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(r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+1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od</a:t>
            </a:r>
            <a:r>
              <a:rPr b="0" i="1" lang="en-GB" sz="20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8CF0-0408-4732-A098-2E4E353B3C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queue - advance head re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ed List Imple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1598760" y="1378080"/>
          <a:ext cx="5184720" cy="19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378080"/>
                    <a:ext cx="518472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5"/>
          <p:cNvGraphicFramePr/>
          <p:nvPr/>
        </p:nvGraphicFramePr>
        <p:xfrm>
          <a:off x="1576440" y="4011480"/>
          <a:ext cx="5256000" cy="204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4011480"/>
                    <a:ext cx="5256000" cy="20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87B8-60D6-4B7E-AF36-D84E499C9E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queue - create a new node at the t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in it and move the tail re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ed List Implementat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1488960" y="1994040"/>
          <a:ext cx="571212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1994040"/>
                    <a:ext cx="571212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5"/>
          <p:cNvGraphicFramePr/>
          <p:nvPr/>
        </p:nvGraphicFramePr>
        <p:xfrm>
          <a:off x="1662120" y="4451400"/>
          <a:ext cx="5487840" cy="20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2120" y="4451400"/>
                    <a:ext cx="54878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1C3D-5F39-4DC9-8BBC-0FE345203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uble-Ended Que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73040" y="1614600"/>
            <a:ext cx="8547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double-ended que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q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upports insertion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 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deletion from the front and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que supports six fundamental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First(S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 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ser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 the </a:t>
            </a:r>
            <a:r>
              <a:rPr b="0" lang="da-DK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ginning of de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Last(S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 end of de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moveFirst(S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Removes the first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moveLast(S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Removes the last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rst(S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lem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t(S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lement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s the first and the last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DCAE-005B-467C-9D11-E86388B912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acks with De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ing ADTs using implementations of other ADTs as building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39720" y="3021120"/>
          <a:ext cx="5776920" cy="3001680"/>
        </p:xfrm>
        <a:graphic>
          <a:graphicData uri="http://schemas.openxmlformats.org/drawingml/2006/table">
            <a:tbl>
              <a:tblPr/>
              <a:tblGrid>
                <a:gridCol w="2686320"/>
                <a:gridCol w="309060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 Metho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que Implementa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Empty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Empty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t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sh(o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ertLast(o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p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Last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1638-FDA5-40BC-A6F7-C20CADD97E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Queues with De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566720" y="2197080"/>
          <a:ext cx="5776920" cy="3002040"/>
        </p:xfrm>
        <a:graphic>
          <a:graphicData uri="http://schemas.openxmlformats.org/drawingml/2006/table">
            <a:tbl>
              <a:tblPr/>
              <a:tblGrid>
                <a:gridCol w="2686320"/>
                <a:gridCol w="309060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 Metho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que Implementa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Empty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Empty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ont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rst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queue(o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ertLast(o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queue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First(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958D-A4E1-4370-98EB-D85A7DB0BD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oubly Linked 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ions at the tail of a singly linked list cannot be done in constan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mplement a deque, we use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ubly linked 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de of a doubly linked list has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, all the methods of a deque have a constant (that is, O(1)) running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2182680" y="2978280"/>
          <a:ext cx="596772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2680" y="2978280"/>
                    <a:ext cx="596772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1EA3-6F6A-410F-8C6B-A216A4CD50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 Data Types (ADT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0600" y="1638360"/>
            <a:ext cx="847404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AD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mathematically specified entity that defines a set of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stance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pecific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interfac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a collection of signatures of methods that can be invoked on an instanc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xio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define the semantics of the methods (i.e., what the methods do to instances of the ADT, but not how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57F1-BB1A-4B5E-A5CE-26297C2BA5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Doubly Linked List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en implementing a doubly linked lists, we ad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wo special nodes to the ends of the lists: the hea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 trail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header node goes before the first list eleme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has a valid next link but a null prev lin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trailer node goes after the last element. It has 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id prev reference but a null next 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e header and trailer nodes ar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dummy” nodes because they do not stor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2"/>
          <p:cNvGraphicFramePr/>
          <p:nvPr/>
        </p:nvGraphicFramePr>
        <p:xfrm>
          <a:off x="1001880" y="428760"/>
          <a:ext cx="670860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428760"/>
                    <a:ext cx="670860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3"/>
          <p:cNvGraphicFramePr/>
          <p:nvPr/>
        </p:nvGraphicFramePr>
        <p:xfrm>
          <a:off x="1019160" y="2397240"/>
          <a:ext cx="6759720" cy="21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9160" y="2397240"/>
                    <a:ext cx="675972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1042920" y="4714920"/>
          <a:ext cx="5446800" cy="17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714920"/>
                    <a:ext cx="544680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B684-C6AF-418D-8102-E908C5FBB5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lar 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and no beginning of the list, </a:t>
            </a:r>
            <a:r>
              <a:rPr b="0" lang="da-DK" sz="2800" spc="-1" strike="noStrike">
                <a:solidFill>
                  <a:srgbClr val="000000"/>
                </a:solidFill>
                <a:latin typeface="Tahoma"/>
              </a:rPr>
              <a:t>only one pointer as 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try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ircular doubly linked list with a sentin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elegant implementation of a stack or a queu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" name="Group 4"/>
          <p:cNvGrpSpPr/>
          <p:nvPr/>
        </p:nvGrpSpPr>
        <p:grpSpPr>
          <a:xfrm>
            <a:off x="1092240" y="3568680"/>
            <a:ext cx="7353000" cy="3008160"/>
            <a:chOff x="1092240" y="3568680"/>
            <a:chExt cx="7353000" cy="3008160"/>
          </a:xfrm>
        </p:grpSpPr>
        <p:graphicFrame>
          <p:nvGraphicFramePr>
            <p:cNvPr id="269" name="Object 5"/>
            <p:cNvGraphicFramePr/>
            <p:nvPr/>
          </p:nvGraphicFramePr>
          <p:xfrm>
            <a:off x="1677960" y="3568680"/>
            <a:ext cx="6505560" cy="2415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7960" y="3568680"/>
                      <a:ext cx="6505560" cy="24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1" name="Freeform 6"/>
            <p:cNvSpPr/>
            <p:nvPr/>
          </p:nvSpPr>
          <p:spPr>
            <a:xfrm>
              <a:off x="1092240" y="4506840"/>
              <a:ext cx="7353000" cy="2070000"/>
            </a:xfrm>
            <a:prstGeom prst="pie">
              <a:avLst/>
            </a:prstGeom>
            <a:noFill/>
            <a:ln w="316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2D6F-BF62-4467-AF4E-F11A39E379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ooted tre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connected, acyclic, undirected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6" name="Object 4"/>
          <p:cNvGraphicFramePr/>
          <p:nvPr/>
        </p:nvGraphicFramePr>
        <p:xfrm>
          <a:off x="2556000" y="2571840"/>
          <a:ext cx="479088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571840"/>
                    <a:ext cx="479088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F08F-239A-4FC3-8859-53D14FB4DB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rees: Defin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4105440" y="4219560"/>
          <a:ext cx="4659120" cy="22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5440" y="4219560"/>
                    <a:ext cx="465912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roo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paren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D and E.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ancest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D and 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 D and E are </a:t>
            </a: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descendant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sibl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e the 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childre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9a0a"/>
                </a:solidFill>
                <a:latin typeface="Tahoma"/>
              </a:rPr>
              <a:t>D, E, F, G, 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1" i="1" lang="en-US" sz="2800" spc="-1" strike="noStrike">
                <a:solidFill>
                  <a:srgbClr val="0a9a0a"/>
                </a:solidFill>
                <a:latin typeface="Tahoma"/>
              </a:rPr>
              <a:t>leav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AE53-D347-44D6-8949-D607700891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rees: Definition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A, B, C, H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e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internal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epth (level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i="1" lang="en-US" sz="3200" spc="-1" strike="noStrike">
                <a:solidFill>
                  <a:srgbClr val="0a9a0a"/>
                </a:solidFill>
                <a:latin typeface="Tahoma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height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f the tree is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egre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f node </a:t>
            </a:r>
            <a:r>
              <a:rPr b="1" i="1" lang="en-US" sz="3200" spc="-1" strike="noStrike">
                <a:solidFill>
                  <a:srgbClr val="0000ff"/>
                </a:solidFill>
                <a:latin typeface="Tahoma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Object 4"/>
          <p:cNvGraphicFramePr/>
          <p:nvPr/>
        </p:nvGraphicFramePr>
        <p:xfrm>
          <a:off x="2492280" y="3998880"/>
          <a:ext cx="433224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2280" y="3998880"/>
                    <a:ext cx="433224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783C-6E6F-4F2A-BB91-79D3548C16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nary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Binary tree:</a:t>
            </a: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rdered tree with all internal nodes 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degree</a:t>
            </a: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4" name="Object 4"/>
          <p:cNvGraphicFramePr/>
          <p:nvPr/>
        </p:nvGraphicFramePr>
        <p:xfrm>
          <a:off x="1995480" y="2576520"/>
          <a:ext cx="5562720" cy="34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5480" y="2576520"/>
                    <a:ext cx="55627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3FFC-2363-44CE-93C2-F363EE8553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resenting Rooted Tre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inaryTre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inary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ftChild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inary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ightChild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inaryTre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" name="Group 7"/>
          <p:cNvGrpSpPr/>
          <p:nvPr/>
        </p:nvGrpSpPr>
        <p:grpSpPr>
          <a:xfrm>
            <a:off x="6296040" y="2619360"/>
            <a:ext cx="563400" cy="492120"/>
            <a:chOff x="6296040" y="2619360"/>
            <a:chExt cx="563400" cy="492120"/>
          </a:xfrm>
        </p:grpSpPr>
        <p:sp>
          <p:nvSpPr>
            <p:cNvPr id="301" name="AutoShape 4"/>
            <p:cNvSpPr/>
            <p:nvPr/>
          </p:nvSpPr>
          <p:spPr>
            <a:xfrm>
              <a:off x="6305400" y="261936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5"/>
            <p:cNvSpPr/>
            <p:nvPr/>
          </p:nvSpPr>
          <p:spPr>
            <a:xfrm>
              <a:off x="6296040" y="286524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6599160" y="285732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8"/>
          <p:cNvGrpSpPr/>
          <p:nvPr/>
        </p:nvGrpSpPr>
        <p:grpSpPr>
          <a:xfrm>
            <a:off x="5156280" y="3757680"/>
            <a:ext cx="563400" cy="492120"/>
            <a:chOff x="5156280" y="3757680"/>
            <a:chExt cx="563400" cy="492120"/>
          </a:xfrm>
        </p:grpSpPr>
        <p:sp>
          <p:nvSpPr>
            <p:cNvPr id="305" name="AutoShape 9"/>
            <p:cNvSpPr/>
            <p:nvPr/>
          </p:nvSpPr>
          <p:spPr>
            <a:xfrm>
              <a:off x="5165640" y="375768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0"/>
            <p:cNvSpPr/>
            <p:nvPr/>
          </p:nvSpPr>
          <p:spPr>
            <a:xfrm>
              <a:off x="5156280" y="400356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1"/>
            <p:cNvSpPr/>
            <p:nvPr/>
          </p:nvSpPr>
          <p:spPr>
            <a:xfrm>
              <a:off x="5459400" y="399564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12"/>
          <p:cNvGrpSpPr/>
          <p:nvPr/>
        </p:nvGrpSpPr>
        <p:grpSpPr>
          <a:xfrm>
            <a:off x="7308720" y="3747960"/>
            <a:ext cx="563400" cy="492120"/>
            <a:chOff x="7308720" y="3747960"/>
            <a:chExt cx="563400" cy="492120"/>
          </a:xfrm>
        </p:grpSpPr>
        <p:sp>
          <p:nvSpPr>
            <p:cNvPr id="309" name="AutoShape 13"/>
            <p:cNvSpPr/>
            <p:nvPr/>
          </p:nvSpPr>
          <p:spPr>
            <a:xfrm>
              <a:off x="7318080" y="374796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4"/>
            <p:cNvSpPr/>
            <p:nvPr/>
          </p:nvSpPr>
          <p:spPr>
            <a:xfrm>
              <a:off x="7308720" y="399384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>
              <a:off x="7611840" y="398592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6"/>
          <p:cNvGrpSpPr/>
          <p:nvPr/>
        </p:nvGrpSpPr>
        <p:grpSpPr>
          <a:xfrm>
            <a:off x="4113360" y="4930920"/>
            <a:ext cx="563400" cy="492120"/>
            <a:chOff x="4113360" y="4930920"/>
            <a:chExt cx="563400" cy="492120"/>
          </a:xfrm>
        </p:grpSpPr>
        <p:sp>
          <p:nvSpPr>
            <p:cNvPr id="313" name="AutoShape 17"/>
            <p:cNvSpPr/>
            <p:nvPr/>
          </p:nvSpPr>
          <p:spPr>
            <a:xfrm>
              <a:off x="4122720" y="493092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4113360" y="517680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4416480" y="516888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5897520" y="4951440"/>
            <a:ext cx="563400" cy="492120"/>
            <a:chOff x="5897520" y="4951440"/>
            <a:chExt cx="563400" cy="492120"/>
          </a:xfrm>
        </p:grpSpPr>
        <p:sp>
          <p:nvSpPr>
            <p:cNvPr id="317" name="AutoShape 21"/>
            <p:cNvSpPr/>
            <p:nvPr/>
          </p:nvSpPr>
          <p:spPr>
            <a:xfrm>
              <a:off x="5906880" y="495144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2"/>
            <p:cNvSpPr/>
            <p:nvPr/>
          </p:nvSpPr>
          <p:spPr>
            <a:xfrm>
              <a:off x="5897520" y="519732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>
              <a:off x="6200640" y="518940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24"/>
          <p:cNvGrpSpPr/>
          <p:nvPr/>
        </p:nvGrpSpPr>
        <p:grpSpPr>
          <a:xfrm>
            <a:off x="8015400" y="4951440"/>
            <a:ext cx="563400" cy="492120"/>
            <a:chOff x="8015400" y="4951440"/>
            <a:chExt cx="563400" cy="492120"/>
          </a:xfrm>
        </p:grpSpPr>
        <p:sp>
          <p:nvSpPr>
            <p:cNvPr id="321" name="AutoShape 25"/>
            <p:cNvSpPr/>
            <p:nvPr/>
          </p:nvSpPr>
          <p:spPr>
            <a:xfrm>
              <a:off x="8024760" y="495144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6"/>
            <p:cNvSpPr/>
            <p:nvPr/>
          </p:nvSpPr>
          <p:spPr>
            <a:xfrm>
              <a:off x="8015400" y="519732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>
              <a:off x="8318520" y="518940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8"/>
          <p:cNvGrpSpPr/>
          <p:nvPr/>
        </p:nvGrpSpPr>
        <p:grpSpPr>
          <a:xfrm>
            <a:off x="2968560" y="5937120"/>
            <a:ext cx="563400" cy="492120"/>
            <a:chOff x="2968560" y="5937120"/>
            <a:chExt cx="563400" cy="492120"/>
          </a:xfrm>
        </p:grpSpPr>
        <p:sp>
          <p:nvSpPr>
            <p:cNvPr id="325" name="AutoShape 29"/>
            <p:cNvSpPr/>
            <p:nvPr/>
          </p:nvSpPr>
          <p:spPr>
            <a:xfrm>
              <a:off x="2977920" y="593712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30"/>
            <p:cNvSpPr/>
            <p:nvPr/>
          </p:nvSpPr>
          <p:spPr>
            <a:xfrm>
              <a:off x="2968560" y="618300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31"/>
            <p:cNvSpPr/>
            <p:nvPr/>
          </p:nvSpPr>
          <p:spPr>
            <a:xfrm>
              <a:off x="3271680" y="617508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36960" y="5937120"/>
            <a:ext cx="563400" cy="492120"/>
            <a:chOff x="4836960" y="5937120"/>
            <a:chExt cx="563400" cy="492120"/>
          </a:xfrm>
        </p:grpSpPr>
        <p:sp>
          <p:nvSpPr>
            <p:cNvPr id="329" name="AutoShape 33"/>
            <p:cNvSpPr/>
            <p:nvPr/>
          </p:nvSpPr>
          <p:spPr>
            <a:xfrm>
              <a:off x="4846320" y="593712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34"/>
            <p:cNvSpPr/>
            <p:nvPr/>
          </p:nvSpPr>
          <p:spPr>
            <a:xfrm>
              <a:off x="4836960" y="618300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35"/>
            <p:cNvSpPr/>
            <p:nvPr/>
          </p:nvSpPr>
          <p:spPr>
            <a:xfrm>
              <a:off x="5140080" y="617508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36"/>
          <p:cNvGrpSpPr/>
          <p:nvPr/>
        </p:nvGrpSpPr>
        <p:grpSpPr>
          <a:xfrm>
            <a:off x="7243920" y="5937120"/>
            <a:ext cx="563400" cy="492120"/>
            <a:chOff x="7243920" y="5937120"/>
            <a:chExt cx="563400" cy="492120"/>
          </a:xfrm>
        </p:grpSpPr>
        <p:sp>
          <p:nvSpPr>
            <p:cNvPr id="333" name="AutoShape 37"/>
            <p:cNvSpPr/>
            <p:nvPr/>
          </p:nvSpPr>
          <p:spPr>
            <a:xfrm>
              <a:off x="7253280" y="593712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38"/>
            <p:cNvSpPr/>
            <p:nvPr/>
          </p:nvSpPr>
          <p:spPr>
            <a:xfrm>
              <a:off x="7243920" y="618300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39"/>
            <p:cNvSpPr/>
            <p:nvPr/>
          </p:nvSpPr>
          <p:spPr>
            <a:xfrm>
              <a:off x="7547040" y="617508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Line 40"/>
          <p:cNvSpPr/>
          <p:nvPr/>
        </p:nvSpPr>
        <p:spPr>
          <a:xfrm>
            <a:off x="6075360" y="2092320"/>
            <a:ext cx="27288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1"/>
          <p:cNvSpPr/>
          <p:nvPr/>
        </p:nvSpPr>
        <p:spPr>
          <a:xfrm flipH="1">
            <a:off x="5643720" y="2982960"/>
            <a:ext cx="798480" cy="76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42"/>
          <p:cNvSpPr/>
          <p:nvPr/>
        </p:nvSpPr>
        <p:spPr>
          <a:xfrm>
            <a:off x="6735600" y="2973240"/>
            <a:ext cx="641520" cy="80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43"/>
          <p:cNvSpPr/>
          <p:nvPr/>
        </p:nvSpPr>
        <p:spPr>
          <a:xfrm flipV="1">
            <a:off x="5424480" y="3039840"/>
            <a:ext cx="863640" cy="83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44"/>
          <p:cNvSpPr/>
          <p:nvPr/>
        </p:nvSpPr>
        <p:spPr>
          <a:xfrm flipH="1" flipV="1">
            <a:off x="6872400" y="2946240"/>
            <a:ext cx="736560" cy="89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45"/>
          <p:cNvSpPr/>
          <p:nvPr/>
        </p:nvSpPr>
        <p:spPr>
          <a:xfrm flipH="1">
            <a:off x="4532400" y="4148280"/>
            <a:ext cx="798480" cy="76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6"/>
          <p:cNvSpPr/>
          <p:nvPr/>
        </p:nvSpPr>
        <p:spPr>
          <a:xfrm flipV="1">
            <a:off x="4313160" y="4205160"/>
            <a:ext cx="863640" cy="83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47"/>
          <p:cNvSpPr/>
          <p:nvPr/>
        </p:nvSpPr>
        <p:spPr>
          <a:xfrm flipH="1">
            <a:off x="3507840" y="5286240"/>
            <a:ext cx="736920" cy="7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48"/>
          <p:cNvSpPr/>
          <p:nvPr/>
        </p:nvSpPr>
        <p:spPr>
          <a:xfrm flipV="1">
            <a:off x="3289320" y="5281560"/>
            <a:ext cx="863640" cy="77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49"/>
          <p:cNvSpPr/>
          <p:nvPr/>
        </p:nvSpPr>
        <p:spPr>
          <a:xfrm>
            <a:off x="7728120" y="4102200"/>
            <a:ext cx="430200" cy="836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50"/>
          <p:cNvSpPr/>
          <p:nvPr/>
        </p:nvSpPr>
        <p:spPr>
          <a:xfrm flipH="1" flipV="1">
            <a:off x="7864560" y="4074840"/>
            <a:ext cx="490320" cy="10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1"/>
          <p:cNvSpPr/>
          <p:nvPr/>
        </p:nvSpPr>
        <p:spPr>
          <a:xfrm>
            <a:off x="5568840" y="4111560"/>
            <a:ext cx="490680" cy="836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52"/>
          <p:cNvSpPr/>
          <p:nvPr/>
        </p:nvSpPr>
        <p:spPr>
          <a:xfrm flipH="1" flipV="1">
            <a:off x="5724360" y="4084200"/>
            <a:ext cx="578160" cy="98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53"/>
          <p:cNvSpPr/>
          <p:nvPr/>
        </p:nvSpPr>
        <p:spPr>
          <a:xfrm>
            <a:off x="4516560" y="5310360"/>
            <a:ext cx="401400" cy="65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54"/>
          <p:cNvSpPr/>
          <p:nvPr/>
        </p:nvSpPr>
        <p:spPr>
          <a:xfrm flipH="1" flipV="1">
            <a:off x="4652640" y="5283360"/>
            <a:ext cx="453960" cy="801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57"/>
          <p:cNvSpPr/>
          <p:nvPr/>
        </p:nvSpPr>
        <p:spPr>
          <a:xfrm flipH="1">
            <a:off x="7653240" y="5289480"/>
            <a:ext cx="463680" cy="641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58"/>
          <p:cNvSpPr/>
          <p:nvPr/>
        </p:nvSpPr>
        <p:spPr>
          <a:xfrm flipV="1">
            <a:off x="7469280" y="5284800"/>
            <a:ext cx="555480" cy="73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59"/>
          <p:cNvSpPr/>
          <p:nvPr/>
        </p:nvSpPr>
        <p:spPr>
          <a:xfrm>
            <a:off x="6417360" y="260208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0"/>
          <p:cNvSpPr/>
          <p:nvPr/>
        </p:nvSpPr>
        <p:spPr>
          <a:xfrm>
            <a:off x="7318800" y="394956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61"/>
          <p:cNvSpPr/>
          <p:nvPr/>
        </p:nvSpPr>
        <p:spPr>
          <a:xfrm>
            <a:off x="5891760" y="515448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62"/>
          <p:cNvSpPr/>
          <p:nvPr/>
        </p:nvSpPr>
        <p:spPr>
          <a:xfrm>
            <a:off x="6166440" y="514836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3"/>
          <p:cNvSpPr/>
          <p:nvPr/>
        </p:nvSpPr>
        <p:spPr>
          <a:xfrm>
            <a:off x="7241040" y="612468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64"/>
          <p:cNvSpPr/>
          <p:nvPr/>
        </p:nvSpPr>
        <p:spPr>
          <a:xfrm>
            <a:off x="7520400" y="612468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65"/>
          <p:cNvSpPr/>
          <p:nvPr/>
        </p:nvSpPr>
        <p:spPr>
          <a:xfrm>
            <a:off x="8293680" y="515952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66"/>
          <p:cNvSpPr/>
          <p:nvPr/>
        </p:nvSpPr>
        <p:spPr>
          <a:xfrm>
            <a:off x="5088600" y="613404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67"/>
          <p:cNvSpPr/>
          <p:nvPr/>
        </p:nvSpPr>
        <p:spPr>
          <a:xfrm>
            <a:off x="4837680" y="614376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68"/>
          <p:cNvSpPr/>
          <p:nvPr/>
        </p:nvSpPr>
        <p:spPr>
          <a:xfrm>
            <a:off x="3229560" y="612468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69"/>
          <p:cNvSpPr/>
          <p:nvPr/>
        </p:nvSpPr>
        <p:spPr>
          <a:xfrm>
            <a:off x="2978640" y="613404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70"/>
          <p:cNvSpPr/>
          <p:nvPr/>
        </p:nvSpPr>
        <p:spPr>
          <a:xfrm>
            <a:off x="5760360" y="17733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58F1-9234-4DE0-9272-E74572238A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nbounded Bran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boundedTre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bounded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ftChild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bounded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ightSibling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bounded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6296040" y="2619360"/>
            <a:ext cx="563400" cy="492120"/>
            <a:chOff x="6296040" y="2619360"/>
            <a:chExt cx="563400" cy="492120"/>
          </a:xfrm>
        </p:grpSpPr>
        <p:sp>
          <p:nvSpPr>
            <p:cNvPr id="370" name="AutoShape 5"/>
            <p:cNvSpPr/>
            <p:nvPr/>
          </p:nvSpPr>
          <p:spPr>
            <a:xfrm>
              <a:off x="6305400" y="261936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"/>
            <p:cNvSpPr/>
            <p:nvPr/>
          </p:nvSpPr>
          <p:spPr>
            <a:xfrm>
              <a:off x="6296040" y="286524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7"/>
            <p:cNvSpPr/>
            <p:nvPr/>
          </p:nvSpPr>
          <p:spPr>
            <a:xfrm>
              <a:off x="6599160" y="285732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Group 8"/>
          <p:cNvGrpSpPr/>
          <p:nvPr/>
        </p:nvGrpSpPr>
        <p:grpSpPr>
          <a:xfrm>
            <a:off x="5156280" y="3757680"/>
            <a:ext cx="563400" cy="492120"/>
            <a:chOff x="5156280" y="3757680"/>
            <a:chExt cx="563400" cy="492120"/>
          </a:xfrm>
        </p:grpSpPr>
        <p:sp>
          <p:nvSpPr>
            <p:cNvPr id="374" name="AutoShape 9"/>
            <p:cNvSpPr/>
            <p:nvPr/>
          </p:nvSpPr>
          <p:spPr>
            <a:xfrm>
              <a:off x="5165640" y="375768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0"/>
            <p:cNvSpPr/>
            <p:nvPr/>
          </p:nvSpPr>
          <p:spPr>
            <a:xfrm>
              <a:off x="5156280" y="400356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1"/>
            <p:cNvSpPr/>
            <p:nvPr/>
          </p:nvSpPr>
          <p:spPr>
            <a:xfrm>
              <a:off x="5459400" y="399564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2"/>
          <p:cNvGrpSpPr/>
          <p:nvPr/>
        </p:nvGrpSpPr>
        <p:grpSpPr>
          <a:xfrm>
            <a:off x="7308720" y="3747960"/>
            <a:ext cx="563400" cy="492120"/>
            <a:chOff x="7308720" y="3747960"/>
            <a:chExt cx="563400" cy="492120"/>
          </a:xfrm>
        </p:grpSpPr>
        <p:sp>
          <p:nvSpPr>
            <p:cNvPr id="378" name="AutoShape 13"/>
            <p:cNvSpPr/>
            <p:nvPr/>
          </p:nvSpPr>
          <p:spPr>
            <a:xfrm>
              <a:off x="7318080" y="374796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7308720" y="399384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5"/>
            <p:cNvSpPr/>
            <p:nvPr/>
          </p:nvSpPr>
          <p:spPr>
            <a:xfrm>
              <a:off x="7611840" y="398592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6"/>
          <p:cNvGrpSpPr/>
          <p:nvPr/>
        </p:nvGrpSpPr>
        <p:grpSpPr>
          <a:xfrm>
            <a:off x="4113360" y="4930920"/>
            <a:ext cx="563400" cy="492120"/>
            <a:chOff x="4113360" y="4930920"/>
            <a:chExt cx="563400" cy="492120"/>
          </a:xfrm>
        </p:grpSpPr>
        <p:sp>
          <p:nvSpPr>
            <p:cNvPr id="382" name="AutoShape 17"/>
            <p:cNvSpPr/>
            <p:nvPr/>
          </p:nvSpPr>
          <p:spPr>
            <a:xfrm>
              <a:off x="4122720" y="493092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8"/>
            <p:cNvSpPr/>
            <p:nvPr/>
          </p:nvSpPr>
          <p:spPr>
            <a:xfrm>
              <a:off x="4113360" y="517680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9"/>
            <p:cNvSpPr/>
            <p:nvPr/>
          </p:nvSpPr>
          <p:spPr>
            <a:xfrm>
              <a:off x="4416480" y="516888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20"/>
          <p:cNvGrpSpPr/>
          <p:nvPr/>
        </p:nvGrpSpPr>
        <p:grpSpPr>
          <a:xfrm>
            <a:off x="5897520" y="4951440"/>
            <a:ext cx="563400" cy="492120"/>
            <a:chOff x="5897520" y="4951440"/>
            <a:chExt cx="563400" cy="492120"/>
          </a:xfrm>
        </p:grpSpPr>
        <p:sp>
          <p:nvSpPr>
            <p:cNvPr id="386" name="AutoShape 21"/>
            <p:cNvSpPr/>
            <p:nvPr/>
          </p:nvSpPr>
          <p:spPr>
            <a:xfrm>
              <a:off x="5906880" y="495144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2"/>
            <p:cNvSpPr/>
            <p:nvPr/>
          </p:nvSpPr>
          <p:spPr>
            <a:xfrm>
              <a:off x="5897520" y="519732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3"/>
            <p:cNvSpPr/>
            <p:nvPr/>
          </p:nvSpPr>
          <p:spPr>
            <a:xfrm>
              <a:off x="6200640" y="518940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24"/>
          <p:cNvGrpSpPr/>
          <p:nvPr/>
        </p:nvGrpSpPr>
        <p:grpSpPr>
          <a:xfrm>
            <a:off x="8410680" y="3782880"/>
            <a:ext cx="563400" cy="492120"/>
            <a:chOff x="8410680" y="3782880"/>
            <a:chExt cx="563400" cy="492120"/>
          </a:xfrm>
        </p:grpSpPr>
        <p:sp>
          <p:nvSpPr>
            <p:cNvPr id="390" name="AutoShape 25"/>
            <p:cNvSpPr/>
            <p:nvPr/>
          </p:nvSpPr>
          <p:spPr>
            <a:xfrm>
              <a:off x="8420040" y="378288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6"/>
            <p:cNvSpPr/>
            <p:nvPr/>
          </p:nvSpPr>
          <p:spPr>
            <a:xfrm>
              <a:off x="8410680" y="402876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8713800" y="402084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28"/>
          <p:cNvGrpSpPr/>
          <p:nvPr/>
        </p:nvGrpSpPr>
        <p:grpSpPr>
          <a:xfrm>
            <a:off x="2660760" y="4954680"/>
            <a:ext cx="563400" cy="492120"/>
            <a:chOff x="2660760" y="4954680"/>
            <a:chExt cx="563400" cy="492120"/>
          </a:xfrm>
        </p:grpSpPr>
        <p:sp>
          <p:nvSpPr>
            <p:cNvPr id="394" name="AutoShape 29"/>
            <p:cNvSpPr/>
            <p:nvPr/>
          </p:nvSpPr>
          <p:spPr>
            <a:xfrm>
              <a:off x="2670120" y="495468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30"/>
            <p:cNvSpPr/>
            <p:nvPr/>
          </p:nvSpPr>
          <p:spPr>
            <a:xfrm>
              <a:off x="2660760" y="520056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31"/>
            <p:cNvSpPr/>
            <p:nvPr/>
          </p:nvSpPr>
          <p:spPr>
            <a:xfrm>
              <a:off x="2963880" y="519264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Group 32"/>
          <p:cNvGrpSpPr/>
          <p:nvPr/>
        </p:nvGrpSpPr>
        <p:grpSpPr>
          <a:xfrm>
            <a:off x="4836960" y="5937120"/>
            <a:ext cx="563400" cy="492120"/>
            <a:chOff x="4836960" y="5937120"/>
            <a:chExt cx="563400" cy="492120"/>
          </a:xfrm>
        </p:grpSpPr>
        <p:sp>
          <p:nvSpPr>
            <p:cNvPr id="398" name="AutoShape 33"/>
            <p:cNvSpPr/>
            <p:nvPr/>
          </p:nvSpPr>
          <p:spPr>
            <a:xfrm>
              <a:off x="4846320" y="593712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>
              <a:off x="4836960" y="618300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5"/>
            <p:cNvSpPr/>
            <p:nvPr/>
          </p:nvSpPr>
          <p:spPr>
            <a:xfrm>
              <a:off x="5140080" y="617508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36"/>
          <p:cNvGrpSpPr/>
          <p:nvPr/>
        </p:nvGrpSpPr>
        <p:grpSpPr>
          <a:xfrm>
            <a:off x="7639200" y="4930920"/>
            <a:ext cx="563400" cy="492120"/>
            <a:chOff x="7639200" y="4930920"/>
            <a:chExt cx="563400" cy="492120"/>
          </a:xfrm>
        </p:grpSpPr>
        <p:sp>
          <p:nvSpPr>
            <p:cNvPr id="402" name="AutoShape 37"/>
            <p:cNvSpPr/>
            <p:nvPr/>
          </p:nvSpPr>
          <p:spPr>
            <a:xfrm>
              <a:off x="7648560" y="4930920"/>
              <a:ext cx="554040" cy="49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8"/>
            <p:cNvSpPr/>
            <p:nvPr/>
          </p:nvSpPr>
          <p:spPr>
            <a:xfrm>
              <a:off x="7639200" y="5176800"/>
              <a:ext cx="55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9"/>
            <p:cNvSpPr/>
            <p:nvPr/>
          </p:nvSpPr>
          <p:spPr>
            <a:xfrm>
              <a:off x="7942320" y="5168880"/>
              <a:ext cx="0" cy="24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Line 40"/>
          <p:cNvSpPr/>
          <p:nvPr/>
        </p:nvSpPr>
        <p:spPr>
          <a:xfrm>
            <a:off x="6075360" y="2092320"/>
            <a:ext cx="27288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41"/>
          <p:cNvSpPr/>
          <p:nvPr/>
        </p:nvSpPr>
        <p:spPr>
          <a:xfrm flipH="1">
            <a:off x="5643720" y="2982960"/>
            <a:ext cx="798480" cy="76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3"/>
          <p:cNvSpPr/>
          <p:nvPr/>
        </p:nvSpPr>
        <p:spPr>
          <a:xfrm flipV="1">
            <a:off x="5424480" y="3039840"/>
            <a:ext cx="863640" cy="83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44"/>
          <p:cNvSpPr/>
          <p:nvPr/>
        </p:nvSpPr>
        <p:spPr>
          <a:xfrm flipH="1" flipV="1">
            <a:off x="6750000" y="3096720"/>
            <a:ext cx="858960" cy="746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45"/>
          <p:cNvSpPr/>
          <p:nvPr/>
        </p:nvSpPr>
        <p:spPr>
          <a:xfrm flipH="1">
            <a:off x="3240000" y="4148280"/>
            <a:ext cx="2090880" cy="88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46"/>
          <p:cNvSpPr/>
          <p:nvPr/>
        </p:nvSpPr>
        <p:spPr>
          <a:xfrm flipV="1">
            <a:off x="4414680" y="4233600"/>
            <a:ext cx="863640" cy="834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48"/>
          <p:cNvSpPr/>
          <p:nvPr/>
        </p:nvSpPr>
        <p:spPr>
          <a:xfrm flipV="1">
            <a:off x="2973240" y="4148280"/>
            <a:ext cx="2192400" cy="93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49"/>
          <p:cNvSpPr/>
          <p:nvPr/>
        </p:nvSpPr>
        <p:spPr>
          <a:xfrm>
            <a:off x="7728120" y="4102200"/>
            <a:ext cx="701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50"/>
          <p:cNvSpPr/>
          <p:nvPr/>
        </p:nvSpPr>
        <p:spPr>
          <a:xfrm flipH="1" flipV="1">
            <a:off x="6845040" y="2869920"/>
            <a:ext cx="1879560" cy="995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51"/>
          <p:cNvSpPr/>
          <p:nvPr/>
        </p:nvSpPr>
        <p:spPr>
          <a:xfrm>
            <a:off x="5568840" y="4111560"/>
            <a:ext cx="172080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52"/>
          <p:cNvSpPr/>
          <p:nvPr/>
        </p:nvSpPr>
        <p:spPr>
          <a:xfrm flipH="1" flipV="1">
            <a:off x="5662080" y="4216320"/>
            <a:ext cx="490680" cy="88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53"/>
          <p:cNvSpPr/>
          <p:nvPr/>
        </p:nvSpPr>
        <p:spPr>
          <a:xfrm>
            <a:off x="4243320" y="5310360"/>
            <a:ext cx="587520" cy="677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54"/>
          <p:cNvSpPr/>
          <p:nvPr/>
        </p:nvSpPr>
        <p:spPr>
          <a:xfrm flipH="1" flipV="1">
            <a:off x="4592160" y="5407200"/>
            <a:ext cx="514440" cy="677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55"/>
          <p:cNvSpPr/>
          <p:nvPr/>
        </p:nvSpPr>
        <p:spPr>
          <a:xfrm flipH="1">
            <a:off x="7897320" y="4121280"/>
            <a:ext cx="614520" cy="79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56"/>
          <p:cNvSpPr/>
          <p:nvPr/>
        </p:nvSpPr>
        <p:spPr>
          <a:xfrm flipV="1">
            <a:off x="7926480" y="4265640"/>
            <a:ext cx="652320" cy="79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57"/>
          <p:cNvSpPr/>
          <p:nvPr/>
        </p:nvSpPr>
        <p:spPr>
          <a:xfrm>
            <a:off x="6417360" y="260208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7318800" y="394956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9"/>
          <p:cNvSpPr/>
          <p:nvPr/>
        </p:nvSpPr>
        <p:spPr>
          <a:xfrm>
            <a:off x="5891760" y="515448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0"/>
          <p:cNvSpPr/>
          <p:nvPr/>
        </p:nvSpPr>
        <p:spPr>
          <a:xfrm>
            <a:off x="6166440" y="514836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61"/>
          <p:cNvSpPr/>
          <p:nvPr/>
        </p:nvSpPr>
        <p:spPr>
          <a:xfrm>
            <a:off x="7636320" y="511812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2"/>
          <p:cNvSpPr/>
          <p:nvPr/>
        </p:nvSpPr>
        <p:spPr>
          <a:xfrm>
            <a:off x="7915680" y="511812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63"/>
          <p:cNvSpPr/>
          <p:nvPr/>
        </p:nvSpPr>
        <p:spPr>
          <a:xfrm>
            <a:off x="8688960" y="399096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64"/>
          <p:cNvSpPr/>
          <p:nvPr/>
        </p:nvSpPr>
        <p:spPr>
          <a:xfrm>
            <a:off x="5088600" y="613404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5"/>
          <p:cNvSpPr/>
          <p:nvPr/>
        </p:nvSpPr>
        <p:spPr>
          <a:xfrm>
            <a:off x="4837680" y="614376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67"/>
          <p:cNvSpPr/>
          <p:nvPr/>
        </p:nvSpPr>
        <p:spPr>
          <a:xfrm>
            <a:off x="2670840" y="515160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8"/>
          <p:cNvSpPr/>
          <p:nvPr/>
        </p:nvSpPr>
        <p:spPr>
          <a:xfrm>
            <a:off x="5760360" y="17733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69"/>
          <p:cNvSpPr/>
          <p:nvPr/>
        </p:nvSpPr>
        <p:spPr>
          <a:xfrm>
            <a:off x="6559920" y="2811600"/>
            <a:ext cx="3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70"/>
          <p:cNvSpPr/>
          <p:nvPr/>
        </p:nvSpPr>
        <p:spPr>
          <a:xfrm>
            <a:off x="3100320" y="5310360"/>
            <a:ext cx="1017720" cy="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71"/>
          <p:cNvSpPr/>
          <p:nvPr/>
        </p:nvSpPr>
        <p:spPr>
          <a:xfrm>
            <a:off x="4510080" y="5303880"/>
            <a:ext cx="1387440" cy="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A92D-BA0C-4597-BDBE-0169CC07C9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 S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deal with ADTs, instances of which are sets of some type of element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s are provided that change th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ll such class of ADTs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dynamic se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611C-011A-4047-89C9-6FE33795BA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 Set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ample dynamic set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()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(S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lete(S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In(S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DT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oole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et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odifie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FB85-548F-41FF-B05B-D936141F93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 Sets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xioms that define the method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In(New()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In(Insert(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)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In(Insert(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)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In(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)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 if v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In(Delete(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)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In(Delete(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u)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In(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)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 if v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0A8A-351B-4922-9D8F-8D9B3DAAF2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ction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6520" y="1638000"/>
            <a:ext cx="835812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Dictionar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 – a dynamic set with metho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arch(S, k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– a query method that returns a pointer x to an element where x.key = 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(S, 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– a modifier method that adds the element pointed to by x to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ete(S, 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– a modifier method that removes the element pointed to by x from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lement has 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ke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and 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satellite dat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7396-0F81-4BED-B882-3CA6C8DA94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ynamic se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iority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e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ástupný symbol pro datum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tober 18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335D-5BE6-4BC0-A089-F7913BFF0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01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tract Data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6520" y="1638360"/>
            <a:ext cx="835812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y do we need to talk about ADTs in A&amp;DS course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y serve as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specification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requirements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 the building blocks of solutions to algorithmic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s a language to talk on a higher level of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Ts encapsulate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data struc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gorithms tha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implemen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1:17:52Z</dcterms:created>
  <dc:creator>Simonas Saltenis</dc:creator>
  <dc:description>Produced using Dieter Pfoser's slides as basis</dc:description>
  <dc:language>en-US</dc:language>
  <cp:lastModifiedBy>mautner</cp:lastModifiedBy>
  <dcterms:modified xsi:type="dcterms:W3CDTF">2009-02-17T09:06:55Z</dcterms:modified>
  <cp:revision>58</cp:revision>
  <dc:subject/>
  <dc:title>Algorithms and Data Structures</dc:title>
</cp:coreProperties>
</file>