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4DA-37B8-41CD-B68B-50043A49B62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57CC-5845-479A-82BD-DA580B557A5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8A3-9C01-468D-B886-C9477CE4D60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4516-E065-4B9B-B5B8-90833D924C1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DD28-4873-4005-819F-8F84915A319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A63A-CA95-4BD2-9F4C-73EF7466E311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40D-465E-44F6-8D1E-58CC565895E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EE20-5230-4368-87D2-3A70C087371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AC66-6BBD-4DA6-BE8C-5FDD887C9D0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C3C-D58B-4A1B-A41B-5378A9414A4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FEFA-8A58-43B1-9216-6D5152ADED1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E35-5970-4F3C-979A-EEA12DB4581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8477-A3E2-4B41-8DEE-37623B705F7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D61C-2DB8-4EF7-B94C-646D77EFF55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A982-6EC5-44CA-98D9-C9047909890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431-65C0-4D51-8629-DEB4276770B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9F8E-A149-4374-8062-177F57F09FD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9C5E-F500-4D98-8C64-C4E232434CF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7E1-224F-41E4-A09B-8B7607EA831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EC46-6461-4864-BB8B-07BBB4AE05C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C82D-2F81-4F30-8642-5293F6E256D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3501-C4D1-40AA-AB22-15E778C664D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953-8FE1-4D15-B545-D8819604730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36B2-8B92-45AD-9CB8-7742D717B71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31C7-3B3B-4616-AB39-6F11EF4597A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9145-7B53-4580-9EC1-96652FDB8B3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5755-6BA6-4739-ABFB-42069E710C5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ECE-9B4E-4768-8F3E-CC065B7ABDF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0127-D844-4395-9DC7-B6CE5902760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6215-FFD2-4BD3-A4AF-F3798CDD36A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554-4018-4E9B-979B-B96F12043D5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4BA0-514F-46DB-8386-50234C4547C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7BE-F8B3-4517-9BC0-0F6699418B8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8B8B-2068-40C4-B9CB-87652461C4E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2E46-050A-42B6-965A-C7F60F702ABF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97D-3B05-4040-8540-4732C107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4EC-09D2-4BD4-9919-55CAA15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3B9-14B5-42C6-A76B-56A85DD2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159-ACF8-441A-A9E0-BC8C66FB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530C-39CE-40B4-9F68-BFCCE9C9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7DB9-D581-43E3-BA38-360EB2AF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0186-BA8C-4F83-BAE4-E8D2AA0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2C89-8481-4298-ADC7-68AC2DB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575C-8CFD-4600-A859-C08932DB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8F84-2CC8-4C0B-BCEE-E60863A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FC68-6840-497E-9F08-A64103F0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CEA-6CFC-4839-AA89-75A6845E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9E2-85ED-4A6F-AAE7-D816720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B9D9-3723-42BE-874E-919E150D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DFC9-077C-437C-A5D8-048D5A3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DAC1-D346-4E4D-9EFD-5E5C7E4E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B916-A55C-43A6-A0C4-3A56FC20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739-D195-4E20-9378-4DA1FB4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8CF-540C-473B-98DB-3627089A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83D-4D6E-4CF8-9E79-3A0EA50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464-9592-498E-ABF6-1D0BBC5B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4F4-E3FE-416F-9582-3A177EA0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989-F1AC-4868-A095-55503E0E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A92-EAFC-45A0-945C-AD16E6B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9507-5094-4F83-A272-30DAF5CB2F2F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October 29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20A-EDC2-4A8A-9788-6C31DDFF4701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A4F7-C056-413A-9EA3-CDC2CE26AB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V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5F8A-4E79-407D-A031-04110749EC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Solu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lookup uses the same process: hash the query key, then check the array at that sl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 (9635-8900, Leif Eriks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insert (9635-8004, Knut Hermands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71720" y="4309920"/>
          <a:ext cx="6994440" cy="1463760"/>
        </p:xfrm>
        <a:graphic>
          <a:graphicData uri="http://schemas.openxmlformats.org/drawingml/2006/table">
            <a:tbl>
              <a:tblPr/>
              <a:tblGrid>
                <a:gridCol w="1398600"/>
                <a:gridCol w="1398240"/>
                <a:gridCol w="1400400"/>
                <a:gridCol w="1398600"/>
                <a:gridCol w="1398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ns Jen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AABF-5BB1-4065-A344-8EE8784E6D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lision Re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deal with two keys which hash to the same spot in the arra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 an array of links (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indexed by the keys, t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items with the sam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efficient (time-wise) collision resolution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4" descr=""/>
          <p:cNvPicPr/>
          <p:nvPr/>
        </p:nvPicPr>
        <p:blipFill>
          <a:blip r:embed="rId1"/>
          <a:stretch/>
        </p:blipFill>
        <p:spPr>
          <a:xfrm>
            <a:off x="1638360" y="3718080"/>
            <a:ext cx="574668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A79-CBFD-42BF-9C1B-A58364C24C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of Has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5480" y="1275840"/>
            <a:ext cx="8043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with ke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stored in slo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(instead of slo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out hash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ash func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ps the univer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keys into the slots of hash ta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0..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: Each key is equally likely to be hashed into any slot (bucket);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mple uniform h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hash ta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lots hold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lements,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defined a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ime to compu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1333440" y="2914560"/>
          <a:ext cx="300996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2914560"/>
                    <a:ext cx="30099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6EE0-1FE0-41CC-835E-BBF768126E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of Hash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an e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ook up its position in ta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the element in the linked list of the hashed s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uccessful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 is not in the linke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 hashing yields an average list leng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number of elements to be examine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time O(1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(this includes computing the hash val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EEF8-B0E1-456F-B130-635FEB3244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of Hashing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cessful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a new element is inserted at the end of the linked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on insertion of the i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element, the expected length of the list is (i-1)/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ase of a successful search, the expected number of elements examined is 1 more that the number of elements examined when the sought-for element was inser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AFDF-24BB-43E3-B1D2-E3AC7B2D29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of Hashing 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xpected number of elements examined is t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ing the time for computing the hash function, we obt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2452680" y="2108160"/>
          <a:ext cx="327996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2108160"/>
                    <a:ext cx="327996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5"/>
          <p:cNvGraphicFramePr/>
          <p:nvPr/>
        </p:nvGraphicFramePr>
        <p:xfrm>
          <a:off x="2776680" y="5721480"/>
          <a:ext cx="4038480" cy="42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6680" y="5721480"/>
                    <a:ext cx="40384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9AE-2B27-423A-AD10-5ADE0F4413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alysis of Hashing (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ing the number of hash table slots is proportional to the number of elements in th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ing takes constant time on a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ion tak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 worst-cas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ion tak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 worst-case time when the lists are doubly-link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1511280" y="3164040"/>
          <a:ext cx="12063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164040"/>
                    <a:ext cx="12063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"/>
          <p:cNvGraphicFramePr/>
          <p:nvPr/>
        </p:nvGraphicFramePr>
        <p:xfrm>
          <a:off x="1509840" y="3639960"/>
          <a:ext cx="3089160" cy="3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9840" y="3639960"/>
                    <a:ext cx="308916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A6D-E3AB-49AB-8FD1-01929D82C2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sh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choose a good hash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s keys uniformly throughout th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ash functions are very rare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rthda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deal with hashing non-integer ke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some way of turning the keys in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our example, remove the hyphen in 9635-8904 to get 96358904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string, add up the ASCII values of the characters of your string (e.g., java.lang.String.hashCode()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use a standard hash function on the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7F9D-E54E-4EFF-B527-4191F2C176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F: Division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remai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ke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ize of th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choo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b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power of 2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gives th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st significant bit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keys with the same ending go to the same 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ime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goo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s ensure uniform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es not too close to exact powers of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AAB8-3200-40A8-83DB-EA9A1E9DA9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F: Division Method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 table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000 character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’t mind examining 3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70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ime near 2000/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not near any power of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2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3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47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BF39-C61B-4E63-821A-B3BEA6D69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Dictionaries or </a:t>
            </a:r>
            <a:r>
              <a:rPr b="1" lang="da-DK" sz="3200" spc="-1" strike="noStrike">
                <a:solidFill>
                  <a:srgbClr val="000000"/>
                </a:solidFill>
                <a:latin typeface="Tahoma"/>
              </a:rPr>
              <a:t>how to search effici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the con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chooing a hash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advanced collision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797-EAEF-4748-AABA-C044EDAC6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F: Multiplication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77960" y="13017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d 1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is the key, m the size of the table,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consta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&lt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 &l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ep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0..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0..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the fractional part (mod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it into 0...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4AA0-CF50-4532-BD90-DD80F9974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F: Multiplication Method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52040" y="1301760"/>
            <a:ext cx="8140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ice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not critical, typically 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 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choi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pends on the characteristics of the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uth says use              (conjugate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olden rat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bonac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157640" y="3182760"/>
          <a:ext cx="11556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7640" y="3182760"/>
                    <a:ext cx="1155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72AC-C4A2-40CE-8078-695F4979E3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F: Multiplication Method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7-bit binary keys, 0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&lt; 1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8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.1011001 = 89/1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101011 (1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binary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3060720" y="4114800"/>
          <a:ext cx="351792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4114800"/>
                    <a:ext cx="351792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641-2DE9-4347-8378-8774CFC1C9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versal Has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hoice of hash function, there exists a bad set of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licious adversary could choose keys to be hashed such that all go into the same slot (buck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erage retrieval tim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ndom hash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hash function independently of key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 of hash function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from whi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randomly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D2F-5C07-45B5-B87E-4C7A21EDA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iversal Hash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hash functions i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niversa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for any randomly chose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nd two key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{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k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(l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/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u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from experience rather than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find good Hash functions for a real-world set of keys through trial and err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ctical rather than theore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2796-F91A-4CFE-BB57-0BA1E11DAE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Colli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key is mapped to an already occupied tabl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to do?!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 collision handling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see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h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also u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en Addr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uble H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F839-3922-44D2-9C9E-FBA4BAF5B3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Addr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elements are stored in the hash table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(can fill up!), i.e., </a:t>
            </a:r>
            <a:r>
              <a:rPr b="0" i="1" lang="da-DK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able entry contains either an element or n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arching for an element, systematically probe table sl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hash function to take the probe numb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second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determines the sequence of slots examined for a give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2878200" y="5070600"/>
          <a:ext cx="457200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8200" y="5070600"/>
                    <a:ext cx="457200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B50E-7BC6-497F-A48E-A706121164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Adress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e sequence for a given ke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given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797040" y="2317680"/>
          <a:ext cx="80071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2317680"/>
                    <a:ext cx="8007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B0B-7899-4ED6-94B4-FBAD749AAE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Pro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the current location is used, try the next 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kups walk along the table until the key or an empty slot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less memory than ch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does not have to store all those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than ch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might have to walk along the table for a long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541600" y="2066760"/>
            <a:ext cx="5167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rProbingInser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table is full)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 = h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table[probe] occup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obe = (probe+1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[probe]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217A-25E0-435C-AED1-9C74737184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Pro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l pain to delete f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mark the deleted sl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fill in the slot by shifting some elements 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d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keys: 18 41 22 44 59 32 31 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5606-D006-466C-BD60-DDCE137FC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tion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ctionar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 – a dynamic set with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arch(S, k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query method that returns a pointer x to an element where x.key =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(S,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modifier method that adds the element pointed to by x to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(S,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modifier method that removes the element pointed to by x from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lement has 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ke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and 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atellite dat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C6E-39D1-4C80-B690-B46B3F9541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uble Has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37760" y="1639800"/>
            <a:ext cx="858348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hash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e, eventually will examine every position in th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of the same (dis)advantages as linear prob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s keys more uniformly than linear prob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176560" y="2779560"/>
            <a:ext cx="5167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HashingInser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table is full)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 = h1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ffset = h2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table[probe] occup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obe = (probe+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off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431640"/>
                <a:tab algn="l" pos="647640"/>
                <a:tab algn="l" pos="863640"/>
                <a:tab algn="l" pos="1079640"/>
                <a:tab algn="l" pos="1295280"/>
                <a:tab algn="l" pos="1511280"/>
                <a:tab algn="l" pos="1728720"/>
                <a:tab algn="l" pos="1944720"/>
                <a:tab algn="l" pos="2160720"/>
                <a:tab algn="l" pos="2376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[probe]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CB0-1551-4709-B4FF-FC21261D47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uble Hashing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2(k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relative prime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d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8 -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d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keys: 18 41 22 44 59 32 31 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CAD5-30AA-40FA-9734-1E4D80522D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Number of Prob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4600" y="1576440"/>
            <a:ext cx="835812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lt; 1 for prob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sis of probing us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iform hash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umpion – any permutation is equally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linear probing and double hash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523880" y="3736800"/>
          <a:ext cx="6337440" cy="2578320"/>
        </p:xfrm>
        <a:graphic>
          <a:graphicData uri="http://schemas.openxmlformats.org/drawingml/2006/table">
            <a:tbl>
              <a:tblPr/>
              <a:tblGrid>
                <a:gridCol w="1638360"/>
                <a:gridCol w="2349720"/>
                <a:gridCol w="234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cess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cess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i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Object 22"/>
          <p:cNvGraphicFramePr/>
          <p:nvPr/>
        </p:nvGraphicFramePr>
        <p:xfrm>
          <a:off x="3733920" y="4562640"/>
          <a:ext cx="1474560" cy="52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562640"/>
                    <a:ext cx="14745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3"/>
          <p:cNvGraphicFramePr/>
          <p:nvPr/>
        </p:nvGraphicFramePr>
        <p:xfrm>
          <a:off x="5880240" y="5343480"/>
          <a:ext cx="18367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5343480"/>
                    <a:ext cx="18367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4"/>
          <p:cNvGraphicFramePr/>
          <p:nvPr/>
        </p:nvGraphicFramePr>
        <p:xfrm>
          <a:off x="3724200" y="5329080"/>
          <a:ext cx="137484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24200" y="5329080"/>
                    <a:ext cx="13748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25"/>
          <p:cNvGraphicFramePr/>
          <p:nvPr/>
        </p:nvGraphicFramePr>
        <p:xfrm>
          <a:off x="5962680" y="4541760"/>
          <a:ext cx="1501920" cy="5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2680" y="4541760"/>
                    <a:ext cx="15019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980-0426-4DCC-8D23-92ED066152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Number of Prob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1689120" y="1452600"/>
          <a:ext cx="5268960" cy="49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452600"/>
                    <a:ext cx="526896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246B-85C5-4877-8C35-7D6388F04F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Hashing Class in J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.util.Hash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u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sh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t size, float load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or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Objec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Object key, Object value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the specified key to the specified value in this hash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2DB-DFCD-4942-94E7-826B69405F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tio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ctionaries store elements so that they can be located quickly using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ictionary may hold bank ac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h account is an object that is identified by an account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ccoun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res a wealth of addition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ing the current balanc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name and address of the account holder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history of deposits and withdrawals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 application wishing to operate on an account would have to provide the account number as a search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96E-5C7F-4D4F-B3C2-C1864701DF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tionari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order (metho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, max, successor, predecess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s not required, thus it is enough that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keys are comparable for e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C31-3AAC-4D06-A572-25D2BF5D26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tionari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data structures to realize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, linked lists (ineffici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tab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d in Java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/Black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L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B-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Ja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.util.Dictionary –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.util.Map –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7D0C-C947-44FD-AE04-C4B0F813F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T&amp;T is a large phone company, and they want t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vide caller ID capa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iven a phone number, return the caller’s n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hone numbers range from 0 to r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nt to do this as efficiently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598F-ED53-4905-9619-C6BF7439F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few suboptimal ways to design this dictio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ddressing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 array indexed by key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kes O(1) time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uge amount of wasted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nked list: takes O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time, O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20760" y="3433680"/>
          <a:ext cx="6994440" cy="109692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398600"/>
                <a:gridCol w="1398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ns Jen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0-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0-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35-8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0-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000-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9" name="Group 31"/>
          <p:cNvGrpSpPr/>
          <p:nvPr/>
        </p:nvGrpSpPr>
        <p:grpSpPr>
          <a:xfrm>
            <a:off x="2538360" y="5237280"/>
            <a:ext cx="1698480" cy="878040"/>
            <a:chOff x="2538360" y="5237280"/>
            <a:chExt cx="1698480" cy="878040"/>
          </a:xfrm>
        </p:grpSpPr>
        <p:sp>
          <p:nvSpPr>
            <p:cNvPr id="140" name="Text Box 32"/>
            <p:cNvSpPr/>
            <p:nvPr/>
          </p:nvSpPr>
          <p:spPr>
            <a:xfrm>
              <a:off x="2538360" y="5237280"/>
              <a:ext cx="169848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Jens Jen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33"/>
            <p:cNvSpPr/>
            <p:nvPr/>
          </p:nvSpPr>
          <p:spPr>
            <a:xfrm>
              <a:off x="2538360" y="5716440"/>
              <a:ext cx="169848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9635-89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34"/>
          <p:cNvGrpSpPr/>
          <p:nvPr/>
        </p:nvGrpSpPr>
        <p:grpSpPr>
          <a:xfrm>
            <a:off x="4976640" y="5237280"/>
            <a:ext cx="1698480" cy="878040"/>
            <a:chOff x="4976640" y="5237280"/>
            <a:chExt cx="1698480" cy="878040"/>
          </a:xfrm>
        </p:grpSpPr>
        <p:sp>
          <p:nvSpPr>
            <p:cNvPr id="143" name="Text Box 35"/>
            <p:cNvSpPr/>
            <p:nvPr/>
          </p:nvSpPr>
          <p:spPr>
            <a:xfrm>
              <a:off x="4976640" y="5237280"/>
              <a:ext cx="169848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Ole Ols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4976640" y="5716440"/>
              <a:ext cx="169848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9635-99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Line 37"/>
          <p:cNvSpPr/>
          <p:nvPr/>
        </p:nvSpPr>
        <p:spPr>
          <a:xfrm>
            <a:off x="4229280" y="5711760"/>
            <a:ext cx="74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8"/>
          <p:cNvSpPr/>
          <p:nvPr/>
        </p:nvSpPr>
        <p:spPr>
          <a:xfrm>
            <a:off x="1819440" y="5721480"/>
            <a:ext cx="74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9"/>
          <p:cNvSpPr/>
          <p:nvPr/>
        </p:nvSpPr>
        <p:spPr>
          <a:xfrm>
            <a:off x="6696000" y="5721480"/>
            <a:ext cx="74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0"/>
          <p:cNvSpPr/>
          <p:nvPr/>
        </p:nvSpPr>
        <p:spPr>
          <a:xfrm>
            <a:off x="7439040" y="5578560"/>
            <a:ext cx="0" cy="29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2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DEF8-23C7-4B49-B2A7-F9DA3A0BD1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Sol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9520" y="1612440"/>
            <a:ext cx="83581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better, with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O(1) expected time, O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+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abl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 an array, but come up with a function to map the large range into one which we can man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take the original key, modulo the (relatively small) size of the array, and use that as 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 (9635-8904, Jens Jensen) into a hashed array with, say, five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6358904 mod 5 =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8160" y="5221440"/>
          <a:ext cx="6994440" cy="109692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371600"/>
                <a:gridCol w="1425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u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ns Jen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09:45Z</dcterms:modified>
  <cp:revision>62</cp:revision>
  <dc:subject/>
  <dc:title>Algorithms and Data Structures</dc:title>
</cp:coreProperties>
</file>