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935-B53B-4747-9437-1E7422DD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0C0-613D-4507-BBFC-F5509156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F32-FE16-4C02-9FDD-ADA80CCF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F62-070E-48FD-9E82-AB3F07D0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8BE2-AC3E-4CB6-BEEC-B378C898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1975-BFCC-4734-BC31-D1632A5B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DD6E-B0D6-46BF-8A04-6905D2E0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B87E-21B1-45C2-9B35-01E15B17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49C-9BDE-4761-B0F7-B9B9F33D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4F16-E6F7-4773-97B7-92FDAFD7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1C02-B81F-4A2E-8CC1-962F5F32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876-240E-4CAA-9F70-540E8B7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EAF8-80A0-4B48-9855-5ED769E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795D-4082-423B-9A2A-91C54516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7397-1CB9-4A0A-B45B-71B30CD3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8E92-FB94-420B-84F1-A8637A87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EAF6-31A2-4E18-B7B1-5E746787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40B-85E5-456B-98A4-949E35B7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7BC-8C5A-4766-8ED5-7252493E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713-410E-45A9-9DE8-C0162695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01A-926B-49BB-986E-9B57C5D3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A63-83FF-4791-8BB7-9FB05CDD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ADE-9245-44FB-9FA1-4C897DC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3E5-C842-49B1-B4F9-7DB7F89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6C2-C729-46FC-85B2-4C625E37FAAF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fld id="{5FA2EBC8-CDCC-4719-BE27-53054FB7FBD8}" type="datetime10">
              <a:rPr b="0" lang="en-US" sz="1400" spc="-1" strike="noStrike">
                <a:solidFill>
                  <a:srgbClr val="40458c"/>
                </a:solidFill>
                <a:latin typeface="Tahoma"/>
              </a:rPr>
              <a:t>23: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A8C8-2686-4E6D-9173-FFFCD22375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3D1-A296-4CAD-9144-9E6965EE28A4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</a:t>
            </a:r>
            <a:fld id="{C870B612-A11C-4EFE-BFAE-FD4B68B5F6A0}" type="datetime10">
              <a:rPr b="0" lang="en-US" sz="1400" spc="-1" strike="noStrike">
                <a:solidFill>
                  <a:srgbClr val="40458c"/>
                </a:solidFill>
                <a:latin typeface="Tahoma"/>
              </a:rPr>
              <a:t>23:2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3F0E-47D7-46C9-8E10-F69B40CF7A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Skip List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381560" y="3403440"/>
            <a:ext cx="3460680" cy="216000"/>
            <a:chOff x="4381560" y="3403440"/>
            <a:chExt cx="3460680" cy="216000"/>
          </a:xfrm>
        </p:grpSpPr>
        <p:sp>
          <p:nvSpPr>
            <p:cNvPr id="210" name=""/>
            <p:cNvSpPr/>
            <p:nvPr/>
          </p:nvSpPr>
          <p:spPr>
            <a:xfrm>
              <a:off x="7480440" y="340344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1560" y="340344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211" idx="3"/>
              <a:endCxn id="210" idx="1"/>
            </p:cNvCxnSpPr>
            <p:nvPr/>
          </p:nvCxnSpPr>
          <p:spPr>
            <a:xfrm>
              <a:off x="4745160" y="3511440"/>
              <a:ext cx="273564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4048200" y="48481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48200" y="434016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48200" y="38322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48200" y="33242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381560" y="4923000"/>
            <a:ext cx="3460680" cy="217440"/>
            <a:chOff x="4381560" y="4923000"/>
            <a:chExt cx="3460680" cy="217440"/>
          </a:xfrm>
        </p:grpSpPr>
        <p:sp>
          <p:nvSpPr>
            <p:cNvPr id="218" name=""/>
            <p:cNvSpPr/>
            <p:nvPr/>
          </p:nvSpPr>
          <p:spPr>
            <a:xfrm>
              <a:off x="7480440" y="492300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1560" y="49230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0760" y="49230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0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9800" y="49230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36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19" idx="3"/>
              <a:endCxn id="220" idx="1"/>
            </p:cNvCxnSpPr>
            <p:nvPr/>
          </p:nvCxnSpPr>
          <p:spPr>
            <a:xfrm>
              <a:off x="4745160" y="5031000"/>
              <a:ext cx="25596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23" name=""/>
            <p:cNvCxnSpPr>
              <a:stCxn id="224" idx="3"/>
              <a:endCxn id="221" idx="1"/>
            </p:cNvCxnSpPr>
            <p:nvPr/>
          </p:nvCxnSpPr>
          <p:spPr>
            <a:xfrm>
              <a:off x="6602400" y="5031000"/>
              <a:ext cx="25776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25" name=""/>
            <p:cNvCxnSpPr>
              <a:stCxn id="220" idx="3"/>
              <a:endCxn id="226" idx="1"/>
            </p:cNvCxnSpPr>
            <p:nvPr/>
          </p:nvCxnSpPr>
          <p:spPr>
            <a:xfrm>
              <a:off x="5364360" y="5031000"/>
              <a:ext cx="259200" cy="180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27" name=""/>
            <p:cNvCxnSpPr>
              <a:stCxn id="221" idx="3"/>
              <a:endCxn id="218" idx="1"/>
            </p:cNvCxnSpPr>
            <p:nvPr/>
          </p:nvCxnSpPr>
          <p:spPr>
            <a:xfrm>
              <a:off x="7223400" y="5031000"/>
              <a:ext cx="25740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6239160" y="4923000"/>
              <a:ext cx="36324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23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23200" y="4924800"/>
              <a:ext cx="363240" cy="215640"/>
            </a:xfrm>
            <a:prstGeom prst="rect">
              <a:avLst/>
            </a:prstGeom>
            <a:solidFill>
              <a:srgbClr val="b7c1eb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28" name=""/>
            <p:cNvCxnSpPr>
              <a:stCxn id="226" idx="3"/>
              <a:endCxn id="224" idx="1"/>
            </p:cNvCxnSpPr>
            <p:nvPr/>
          </p:nvCxnSpPr>
          <p:spPr>
            <a:xfrm flipV="1">
              <a:off x="5986440" y="5031000"/>
              <a:ext cx="253080" cy="180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grpSp>
        <p:nvGrpSpPr>
          <p:cNvPr id="229" name=""/>
          <p:cNvGrpSpPr/>
          <p:nvPr/>
        </p:nvGrpSpPr>
        <p:grpSpPr>
          <a:xfrm>
            <a:off x="4381560" y="3909960"/>
            <a:ext cx="3460680" cy="216000"/>
            <a:chOff x="4381560" y="3909960"/>
            <a:chExt cx="3460680" cy="216000"/>
          </a:xfrm>
        </p:grpSpPr>
        <p:sp>
          <p:nvSpPr>
            <p:cNvPr id="230" name=""/>
            <p:cNvSpPr/>
            <p:nvPr/>
          </p:nvSpPr>
          <p:spPr>
            <a:xfrm>
              <a:off x="7480440" y="390996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81560" y="390996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31" idx="3"/>
              <a:endCxn id="233" idx="1"/>
            </p:cNvCxnSpPr>
            <p:nvPr/>
          </p:nvCxnSpPr>
          <p:spPr>
            <a:xfrm>
              <a:off x="4745160" y="4017960"/>
              <a:ext cx="87840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5623200" y="3909960"/>
              <a:ext cx="363240" cy="216000"/>
            </a:xfrm>
            <a:prstGeom prst="rect">
              <a:avLst/>
            </a:prstGeom>
            <a:solidFill>
              <a:srgbClr val="b7c1eb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>
              <a:stCxn id="233" idx="3"/>
              <a:endCxn id="230" idx="1"/>
            </p:cNvCxnSpPr>
            <p:nvPr/>
          </p:nvCxnSpPr>
          <p:spPr>
            <a:xfrm>
              <a:off x="5986440" y="4017960"/>
              <a:ext cx="149436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4381560" y="4416480"/>
            <a:ext cx="3460680" cy="215640"/>
            <a:chOff x="4381560" y="4416480"/>
            <a:chExt cx="3460680" cy="215640"/>
          </a:xfrm>
        </p:grpSpPr>
        <p:sp>
          <p:nvSpPr>
            <p:cNvPr id="236" name=""/>
            <p:cNvSpPr/>
            <p:nvPr/>
          </p:nvSpPr>
          <p:spPr>
            <a:xfrm>
              <a:off x="7480440" y="4416480"/>
              <a:ext cx="361800" cy="21564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81560" y="4416480"/>
              <a:ext cx="363600" cy="21564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0600" y="4416480"/>
              <a:ext cx="363600" cy="21564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23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>
              <a:stCxn id="237" idx="3"/>
              <a:endCxn id="240" idx="1"/>
            </p:cNvCxnSpPr>
            <p:nvPr/>
          </p:nvCxnSpPr>
          <p:spPr>
            <a:xfrm>
              <a:off x="4745160" y="4524120"/>
              <a:ext cx="87840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41" name=""/>
            <p:cNvCxnSpPr>
              <a:stCxn id="238" idx="3"/>
              <a:endCxn id="236" idx="1"/>
            </p:cNvCxnSpPr>
            <p:nvPr/>
          </p:nvCxnSpPr>
          <p:spPr>
            <a:xfrm>
              <a:off x="6604200" y="4524120"/>
              <a:ext cx="87660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5623200" y="4416480"/>
              <a:ext cx="363240" cy="215640"/>
            </a:xfrm>
            <a:prstGeom prst="rect">
              <a:avLst/>
            </a:prstGeom>
            <a:solidFill>
              <a:srgbClr val="b7c1eb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40" idx="3"/>
              <a:endCxn id="238" idx="1"/>
            </p:cNvCxnSpPr>
            <p:nvPr/>
          </p:nvCxnSpPr>
          <p:spPr>
            <a:xfrm>
              <a:off x="5986440" y="4524120"/>
              <a:ext cx="254520" cy="36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6572-1452-4077-A62E-8E73A345FC1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8ED342E-5D5E-4277-9BDA-8FBCE8353AF2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Height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running time of the search an insertion algorithms is affected by the height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f the skip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show that with high probability, a skip list with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tems has height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lo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use the following additional probabilistic fac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2d00"/>
                </a:solidFill>
                <a:latin typeface="Tahoma"/>
              </a:rPr>
              <a:t>Fact 3: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f each of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events has probability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the probability that at least one event occurs is at mo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n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sider a skip list with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te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Fact 1, we insert an item in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with probability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Fact 3, the probability that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has at least one item is at mo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y pickin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3lo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we have that the probability that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3log </a:t>
            </a:r>
            <a:r>
              <a:rPr b="1" i="1" lang="en-US" sz="2000" spc="-1" strike="noStrike" baseline="-25000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has at least one item is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t most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imes New Roman"/>
              </a:rPr>
              <a:t>3log </a:t>
            </a:r>
            <a:r>
              <a:rPr b="1" i="1" lang="en-US" sz="2000" spc="-1" strike="noStrike" baseline="30000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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us a skip list with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tems has height at most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3lo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with probability at least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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1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914-CABE-4252-B98C-2CAE10883C8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287AD-20EC-4B49-B49B-8183B274F8FC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Search and Update Time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earch time in a skip list is proportional 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number of drop-down steps, pl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number of scan-forward step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drop-down steps are bounded by the height of the skip list and thus are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lo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ith high prob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 analyze the scan-forward steps, we use yet another probabilistic fac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2d00"/>
                </a:solidFill>
                <a:latin typeface="Tahoma"/>
              </a:rPr>
              <a:t>Fact 4: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expected number of coin tosses required in order to get tails is 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we scan forward in a list, the destination key does not belong to a higher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scan-forward step is associated with a former coin toss that gave tail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y Fact 4, in each list the expected number of scan-forward steps is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us, the expected number of scan-forward steps is 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lo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conclude that a search in a skip list takes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lo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cted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nalysis of insertion and deletion gives similar resul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705-05EA-4204-A8FF-82D8C04D9EB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1A351-15AF-444C-954B-E483A215C82A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kip list is a data structure for dictionaries that uses a randomized insertion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a skip list with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tem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expected space used is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expected search, insertion and deletion time is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log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ing a more complex probabilistic analysis, one can show that these performance bounds also hold with high prob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kip lists are fast and simple to implement in pract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537-D784-4F1D-B1CC-A9200FD00B58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B09DB-21C2-40D4-97BC-BF54F9C52E2F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Outline and Reading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skip list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§3.5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§3.5.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ertion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§3.5.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etion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§3.5.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ysis (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§3.5.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ace us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arch and update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FF7-711D-4901-B003-FAE7743940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46942-EB60-4BF5-BCEF-07748DE5432F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What is a Skip List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be2d00"/>
                </a:solidFill>
                <a:latin typeface="Tahoma"/>
              </a:rPr>
              <a:t>skip lis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for a set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f distinct (key, element) items is a series of lists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, … ,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such th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ch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contains the special keys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contains the keys of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nondecreasing order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ch list is a subsequence of the previous one, i.e.,</a:t>
            </a:r>
            <a:br>
              <a:rPr sz="1800"/>
            </a:b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…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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tains only the two special key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show how to use a skip list to implement the dictionary A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330200" y="5862600"/>
            <a:ext cx="7280280" cy="216000"/>
            <a:chOff x="1330200" y="5862600"/>
            <a:chExt cx="7280280" cy="216000"/>
          </a:xfrm>
        </p:grpSpPr>
        <p:sp>
          <p:nvSpPr>
            <p:cNvPr id="248" name=""/>
            <p:cNvSpPr/>
            <p:nvPr/>
          </p:nvSpPr>
          <p:spPr>
            <a:xfrm>
              <a:off x="6184800" y="58626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56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73840" y="5862600"/>
              <a:ext cx="36036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64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9640" y="5862600"/>
              <a:ext cx="36216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78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48680" y="586260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43240" y="5862600"/>
              <a:ext cx="36216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31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30840" y="58626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34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95760" y="58626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44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0200" y="58626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19240" y="58626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2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6840" y="5862600"/>
              <a:ext cx="36324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23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95520" y="58626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26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5" idx="3"/>
              <a:endCxn id="256" idx="1"/>
            </p:cNvCxnSpPr>
            <p:nvPr/>
          </p:nvCxnSpPr>
          <p:spPr>
            <a:xfrm>
              <a:off x="1703160" y="5970240"/>
              <a:ext cx="3067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0" name=""/>
            <p:cNvCxnSpPr>
              <a:stCxn id="257" idx="3"/>
              <a:endCxn id="258" idx="1"/>
            </p:cNvCxnSpPr>
            <p:nvPr/>
          </p:nvCxnSpPr>
          <p:spPr>
            <a:xfrm>
              <a:off x="3079440" y="5970240"/>
              <a:ext cx="3067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1" name=""/>
            <p:cNvCxnSpPr>
              <a:stCxn id="252" idx="3"/>
              <a:endCxn id="253" idx="1"/>
            </p:cNvCxnSpPr>
            <p:nvPr/>
          </p:nvCxnSpPr>
          <p:spPr>
            <a:xfrm>
              <a:off x="4514400" y="5970240"/>
              <a:ext cx="3067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2" name=""/>
            <p:cNvCxnSpPr>
              <a:stCxn id="256" idx="3"/>
              <a:endCxn id="257" idx="1"/>
            </p:cNvCxnSpPr>
            <p:nvPr/>
          </p:nvCxnSpPr>
          <p:spPr>
            <a:xfrm>
              <a:off x="2391840" y="5970240"/>
              <a:ext cx="30564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3" name=""/>
            <p:cNvCxnSpPr>
              <a:stCxn id="258" idx="3"/>
              <a:endCxn id="252" idx="1"/>
            </p:cNvCxnSpPr>
            <p:nvPr/>
          </p:nvCxnSpPr>
          <p:spPr>
            <a:xfrm>
              <a:off x="3768840" y="5970240"/>
              <a:ext cx="36576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4" name=""/>
            <p:cNvCxnSpPr>
              <a:stCxn id="253" idx="3"/>
              <a:endCxn id="254" idx="1"/>
            </p:cNvCxnSpPr>
            <p:nvPr/>
          </p:nvCxnSpPr>
          <p:spPr>
            <a:xfrm>
              <a:off x="5203440" y="5970240"/>
              <a:ext cx="2833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5" name=""/>
            <p:cNvCxnSpPr>
              <a:stCxn id="254" idx="3"/>
              <a:endCxn id="248" idx="1"/>
            </p:cNvCxnSpPr>
            <p:nvPr/>
          </p:nvCxnSpPr>
          <p:spPr>
            <a:xfrm>
              <a:off x="5868720" y="5970240"/>
              <a:ext cx="3067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6" name=""/>
            <p:cNvCxnSpPr>
              <a:stCxn id="248" idx="3"/>
              <a:endCxn id="249" idx="1"/>
            </p:cNvCxnSpPr>
            <p:nvPr/>
          </p:nvCxnSpPr>
          <p:spPr>
            <a:xfrm>
              <a:off x="6557760" y="5970240"/>
              <a:ext cx="3067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7" name=""/>
            <p:cNvCxnSpPr>
              <a:stCxn id="249" idx="3"/>
              <a:endCxn id="250" idx="1"/>
            </p:cNvCxnSpPr>
            <p:nvPr/>
          </p:nvCxnSpPr>
          <p:spPr>
            <a:xfrm>
              <a:off x="7243560" y="5970240"/>
              <a:ext cx="3067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268" name=""/>
            <p:cNvCxnSpPr>
              <a:stCxn id="250" idx="3"/>
              <a:endCxn id="251" idx="1"/>
            </p:cNvCxnSpPr>
            <p:nvPr/>
          </p:nvCxnSpPr>
          <p:spPr>
            <a:xfrm>
              <a:off x="7930800" y="5970240"/>
              <a:ext cx="3085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1330200" y="4343400"/>
            <a:ext cx="7280280" cy="216000"/>
            <a:chOff x="1330200" y="4343400"/>
            <a:chExt cx="7280280" cy="216000"/>
          </a:xfrm>
        </p:grpSpPr>
        <p:sp>
          <p:nvSpPr>
            <p:cNvPr id="270" name=""/>
            <p:cNvSpPr/>
            <p:nvPr/>
          </p:nvSpPr>
          <p:spPr>
            <a:xfrm>
              <a:off x="8248680" y="434340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30200" y="43434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72" name=""/>
            <p:cNvCxnSpPr>
              <a:stCxn id="271" idx="3"/>
              <a:endCxn id="270" idx="1"/>
            </p:cNvCxnSpPr>
            <p:nvPr/>
          </p:nvCxnSpPr>
          <p:spPr>
            <a:xfrm>
              <a:off x="1703520" y="4451040"/>
              <a:ext cx="653616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sp>
        <p:nvSpPr>
          <p:cNvPr id="273" name=""/>
          <p:cNvSpPr/>
          <p:nvPr/>
        </p:nvSpPr>
        <p:spPr>
          <a:xfrm>
            <a:off x="8248680" y="4849920"/>
            <a:ext cx="3618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43240" y="4849920"/>
            <a:ext cx="36216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30200" y="4849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5" idx="3"/>
            <a:endCxn id="274" idx="1"/>
          </p:cNvCxnSpPr>
          <p:nvPr/>
        </p:nvCxnSpPr>
        <p:spPr>
          <a:xfrm>
            <a:off x="1703160" y="4957560"/>
            <a:ext cx="243108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277" name=""/>
          <p:cNvCxnSpPr>
            <a:stCxn id="274" idx="3"/>
            <a:endCxn id="273" idx="1"/>
          </p:cNvCxnSpPr>
          <p:nvPr/>
        </p:nvCxnSpPr>
        <p:spPr>
          <a:xfrm>
            <a:off x="4514400" y="4957560"/>
            <a:ext cx="37249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873840" y="5356080"/>
            <a:ext cx="36036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6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48680" y="5356080"/>
            <a:ext cx="3618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3240" y="5356080"/>
            <a:ext cx="36216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30840" y="535608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30200" y="535608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06840" y="5356080"/>
            <a:ext cx="36324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2" idx="3"/>
            <a:endCxn id="283" idx="1"/>
          </p:cNvCxnSpPr>
          <p:nvPr/>
        </p:nvCxnSpPr>
        <p:spPr>
          <a:xfrm>
            <a:off x="1703520" y="5463720"/>
            <a:ext cx="9939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285" name=""/>
          <p:cNvCxnSpPr>
            <a:stCxn id="283" idx="3"/>
            <a:endCxn id="280" idx="1"/>
          </p:cNvCxnSpPr>
          <p:nvPr/>
        </p:nvCxnSpPr>
        <p:spPr>
          <a:xfrm>
            <a:off x="3079800" y="5463720"/>
            <a:ext cx="105480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286" name=""/>
          <p:cNvCxnSpPr>
            <a:stCxn id="280" idx="3"/>
            <a:endCxn id="281" idx="1"/>
          </p:cNvCxnSpPr>
          <p:nvPr/>
        </p:nvCxnSpPr>
        <p:spPr>
          <a:xfrm>
            <a:off x="4514400" y="5463720"/>
            <a:ext cx="3067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287" name=""/>
          <p:cNvCxnSpPr>
            <a:stCxn id="281" idx="3"/>
            <a:endCxn id="278" idx="1"/>
          </p:cNvCxnSpPr>
          <p:nvPr/>
        </p:nvCxnSpPr>
        <p:spPr>
          <a:xfrm>
            <a:off x="5203440" y="5463720"/>
            <a:ext cx="166140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288" name=""/>
          <p:cNvCxnSpPr>
            <a:stCxn id="278" idx="3"/>
            <a:endCxn id="279" idx="1"/>
          </p:cNvCxnSpPr>
          <p:nvPr/>
        </p:nvCxnSpPr>
        <p:spPr>
          <a:xfrm>
            <a:off x="7243920" y="5463720"/>
            <a:ext cx="9957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846720" y="571500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6720" y="5207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46720" y="46990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6720" y="41911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483-83B8-4889-9FF1-42B3C0BF37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5A961-55CC-44F3-A2DF-A7AE577D559F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search for a key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 a a skip list as follow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 start at the first position of the top list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t the current position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we compare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with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y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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key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after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)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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we return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element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after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)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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we “scan forward”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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: we “drop down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we try to drop down past the bottom list, we return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NO_SUCH_KE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ample: search for 7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330200" y="4419720"/>
            <a:ext cx="7280280" cy="215640"/>
            <a:chOff x="1330200" y="4419720"/>
            <a:chExt cx="7280280" cy="215640"/>
          </a:xfrm>
        </p:grpSpPr>
        <p:sp>
          <p:nvSpPr>
            <p:cNvPr id="296" name=""/>
            <p:cNvSpPr/>
            <p:nvPr/>
          </p:nvSpPr>
          <p:spPr>
            <a:xfrm>
              <a:off x="8248680" y="4419720"/>
              <a:ext cx="361800" cy="2156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0200" y="4419720"/>
              <a:ext cx="363600" cy="2156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98" name=""/>
            <p:cNvCxnSpPr>
              <a:stCxn id="297" idx="3"/>
              <a:endCxn id="296" idx="1"/>
            </p:cNvCxnSpPr>
            <p:nvPr/>
          </p:nvCxnSpPr>
          <p:spPr>
            <a:xfrm>
              <a:off x="1712880" y="4527000"/>
              <a:ext cx="651744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sp>
        <p:nvSpPr>
          <p:cNvPr id="299" name=""/>
          <p:cNvSpPr/>
          <p:nvPr/>
        </p:nvSpPr>
        <p:spPr>
          <a:xfrm>
            <a:off x="846720" y="57913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6720" y="5283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46720" y="477504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46720" y="42670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8680" y="4925880"/>
            <a:ext cx="3618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43240" y="4925880"/>
            <a:ext cx="36216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30200" y="4925880"/>
            <a:ext cx="3636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06" name=""/>
          <p:cNvCxnSpPr>
            <a:stCxn id="305" idx="3"/>
            <a:endCxn id="304" idx="1"/>
          </p:cNvCxnSpPr>
          <p:nvPr/>
        </p:nvCxnSpPr>
        <p:spPr>
          <a:xfrm>
            <a:off x="1712880" y="5033520"/>
            <a:ext cx="241200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07" name=""/>
          <p:cNvCxnSpPr>
            <a:stCxn id="304" idx="3"/>
            <a:endCxn id="303" idx="1"/>
          </p:cNvCxnSpPr>
          <p:nvPr/>
        </p:nvCxnSpPr>
        <p:spPr>
          <a:xfrm>
            <a:off x="4524480" y="5033520"/>
            <a:ext cx="37058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08" name=""/>
          <p:cNvCxnSpPr>
            <a:stCxn id="305" idx="0"/>
            <a:endCxn id="304" idx="0"/>
          </p:cNvCxnSpPr>
          <p:nvPr/>
        </p:nvCxnSpPr>
        <p:spPr>
          <a:xfrm flipH="1" rot="16200000">
            <a:off x="2917440" y="3500640"/>
            <a:ext cx="2520" cy="2812320"/>
          </a:xfrm>
          <a:prstGeom prst="curvedConnector5">
            <a:avLst>
              <a:gd name="adj1" fmla="val -20900000"/>
              <a:gd name="adj2" fmla="val 49993"/>
              <a:gd name="adj3" fmla="val -20900000"/>
            </a:avLst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7" idx="2"/>
            <a:endCxn id="305" idx="0"/>
          </p:cNvCxnSpPr>
          <p:nvPr/>
        </p:nvCxnSpPr>
        <p:spPr>
          <a:xfrm>
            <a:off x="1512360" y="4654080"/>
            <a:ext cx="1080" cy="25308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4" idx="2"/>
            <a:endCxn id="311" idx="0"/>
          </p:cNvCxnSpPr>
          <p:nvPr/>
        </p:nvCxnSpPr>
        <p:spPr>
          <a:xfrm>
            <a:off x="4323960" y="5160600"/>
            <a:ext cx="1080" cy="25308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13" idx="2"/>
            <a:endCxn id="314" idx="0"/>
          </p:cNvCxnSpPr>
          <p:nvPr/>
        </p:nvCxnSpPr>
        <p:spPr>
          <a:xfrm>
            <a:off x="7054560" y="5667120"/>
            <a:ext cx="1080" cy="25308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6873840" y="5432400"/>
            <a:ext cx="36036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6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48680" y="5432400"/>
            <a:ext cx="3618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43240" y="5432400"/>
            <a:ext cx="36216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30840" y="5432400"/>
            <a:ext cx="3636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30200" y="543240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06840" y="5432400"/>
            <a:ext cx="36324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7" idx="3"/>
            <a:endCxn id="318" idx="1"/>
          </p:cNvCxnSpPr>
          <p:nvPr/>
        </p:nvCxnSpPr>
        <p:spPr>
          <a:xfrm>
            <a:off x="1703520" y="5540040"/>
            <a:ext cx="9939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20" name=""/>
          <p:cNvCxnSpPr>
            <a:stCxn id="318" idx="3"/>
            <a:endCxn id="311" idx="1"/>
          </p:cNvCxnSpPr>
          <p:nvPr/>
        </p:nvCxnSpPr>
        <p:spPr>
          <a:xfrm>
            <a:off x="3079440" y="5540040"/>
            <a:ext cx="104508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21" name=""/>
          <p:cNvCxnSpPr>
            <a:stCxn id="311" idx="3"/>
            <a:endCxn id="316" idx="1"/>
          </p:cNvCxnSpPr>
          <p:nvPr/>
        </p:nvCxnSpPr>
        <p:spPr>
          <a:xfrm>
            <a:off x="4524480" y="5540040"/>
            <a:ext cx="28800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22" name=""/>
          <p:cNvCxnSpPr>
            <a:stCxn id="316" idx="3"/>
            <a:endCxn id="313" idx="1"/>
          </p:cNvCxnSpPr>
          <p:nvPr/>
        </p:nvCxnSpPr>
        <p:spPr>
          <a:xfrm>
            <a:off x="5213160" y="5540040"/>
            <a:ext cx="16419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23" name=""/>
          <p:cNvCxnSpPr>
            <a:stCxn id="313" idx="3"/>
            <a:endCxn id="315" idx="1"/>
          </p:cNvCxnSpPr>
          <p:nvPr/>
        </p:nvCxnSpPr>
        <p:spPr>
          <a:xfrm>
            <a:off x="7253280" y="5540040"/>
            <a:ext cx="9770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24" name=""/>
          <p:cNvCxnSpPr>
            <a:stCxn id="311" idx="0"/>
            <a:endCxn id="316" idx="0"/>
          </p:cNvCxnSpPr>
          <p:nvPr/>
        </p:nvCxnSpPr>
        <p:spPr>
          <a:xfrm flipH="1" rot="16200000">
            <a:off x="4667760" y="5068440"/>
            <a:ext cx="2520" cy="689760"/>
          </a:xfrm>
          <a:prstGeom prst="curvedConnector5">
            <a:avLst>
              <a:gd name="adj1" fmla="val -13200000"/>
              <a:gd name="adj2" fmla="val 49973"/>
              <a:gd name="adj3" fmla="val -13200000"/>
            </a:avLst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16" idx="0"/>
            <a:endCxn id="313" idx="0"/>
          </p:cNvCxnSpPr>
          <p:nvPr/>
        </p:nvCxnSpPr>
        <p:spPr>
          <a:xfrm flipH="1" rot="16200000">
            <a:off x="6032880" y="4392360"/>
            <a:ext cx="2520" cy="204228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618480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56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73840" y="5938920"/>
            <a:ext cx="360360" cy="21564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6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9640" y="5938920"/>
            <a:ext cx="362160" cy="21564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78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8680" y="5938920"/>
            <a:ext cx="3618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43240" y="5938920"/>
            <a:ext cx="36216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3084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9576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4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3020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1924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06840" y="5938920"/>
            <a:ext cx="36324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9552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6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2" idx="3"/>
            <a:endCxn id="333" idx="1"/>
          </p:cNvCxnSpPr>
          <p:nvPr/>
        </p:nvCxnSpPr>
        <p:spPr>
          <a:xfrm>
            <a:off x="1703160" y="6046560"/>
            <a:ext cx="3067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37" name=""/>
          <p:cNvCxnSpPr>
            <a:stCxn id="334" idx="3"/>
            <a:endCxn id="335" idx="1"/>
          </p:cNvCxnSpPr>
          <p:nvPr/>
        </p:nvCxnSpPr>
        <p:spPr>
          <a:xfrm>
            <a:off x="3079440" y="6046560"/>
            <a:ext cx="3067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38" name=""/>
          <p:cNvCxnSpPr>
            <a:stCxn id="329" idx="3"/>
            <a:endCxn id="330" idx="1"/>
          </p:cNvCxnSpPr>
          <p:nvPr/>
        </p:nvCxnSpPr>
        <p:spPr>
          <a:xfrm>
            <a:off x="4514400" y="6046560"/>
            <a:ext cx="3067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39" name=""/>
          <p:cNvCxnSpPr>
            <a:stCxn id="333" idx="3"/>
            <a:endCxn id="334" idx="1"/>
          </p:cNvCxnSpPr>
          <p:nvPr/>
        </p:nvCxnSpPr>
        <p:spPr>
          <a:xfrm>
            <a:off x="2391840" y="6046560"/>
            <a:ext cx="3056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40" name=""/>
          <p:cNvCxnSpPr>
            <a:stCxn id="335" idx="3"/>
            <a:endCxn id="329" idx="1"/>
          </p:cNvCxnSpPr>
          <p:nvPr/>
        </p:nvCxnSpPr>
        <p:spPr>
          <a:xfrm>
            <a:off x="3768840" y="6046560"/>
            <a:ext cx="3657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41" name=""/>
          <p:cNvCxnSpPr>
            <a:stCxn id="330" idx="3"/>
            <a:endCxn id="331" idx="1"/>
          </p:cNvCxnSpPr>
          <p:nvPr/>
        </p:nvCxnSpPr>
        <p:spPr>
          <a:xfrm>
            <a:off x="5203440" y="6046560"/>
            <a:ext cx="2833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42" name=""/>
          <p:cNvCxnSpPr>
            <a:stCxn id="331" idx="3"/>
            <a:endCxn id="326" idx="1"/>
          </p:cNvCxnSpPr>
          <p:nvPr/>
        </p:nvCxnSpPr>
        <p:spPr>
          <a:xfrm>
            <a:off x="5868720" y="6046560"/>
            <a:ext cx="3067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43" name=""/>
          <p:cNvCxnSpPr>
            <a:stCxn id="326" idx="3"/>
            <a:endCxn id="314" idx="1"/>
          </p:cNvCxnSpPr>
          <p:nvPr/>
        </p:nvCxnSpPr>
        <p:spPr>
          <a:xfrm>
            <a:off x="6558120" y="6046560"/>
            <a:ext cx="2973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44" name=""/>
          <p:cNvCxnSpPr>
            <a:stCxn id="314" idx="3"/>
            <a:endCxn id="327" idx="1"/>
          </p:cNvCxnSpPr>
          <p:nvPr/>
        </p:nvCxnSpPr>
        <p:spPr>
          <a:xfrm>
            <a:off x="7253280" y="6046560"/>
            <a:ext cx="28800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45" name=""/>
          <p:cNvCxnSpPr>
            <a:stCxn id="327" idx="3"/>
            <a:endCxn id="328" idx="1"/>
          </p:cNvCxnSpPr>
          <p:nvPr/>
        </p:nvCxnSpPr>
        <p:spPr>
          <a:xfrm>
            <a:off x="7940160" y="6046560"/>
            <a:ext cx="2991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46" name=""/>
          <p:cNvCxnSpPr>
            <a:stCxn id="314" idx="0"/>
            <a:endCxn id="327" idx="0"/>
          </p:cNvCxnSpPr>
          <p:nvPr/>
        </p:nvCxnSpPr>
        <p:spPr>
          <a:xfrm flipH="1" rot="16200000">
            <a:off x="7396920" y="5577480"/>
            <a:ext cx="2160" cy="68652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E7F-9162-4CC7-A4D0-037D1773A4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EDBA1-D062-4719-907D-7F4C7E3EC4FD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Randomized Algorithms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be2d00"/>
                </a:solidFill>
                <a:latin typeface="Tahoma"/>
              </a:rPr>
              <a:t>randomized algorith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performs coin tosses (i.e., uses random bits) to control its execu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contains statements of the typ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577052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77052"/>
                </a:solidFill>
                <a:latin typeface="Symbol"/>
                <a:ea typeface="Symbol"/>
              </a:rPr>
              <a:t></a:t>
            </a:r>
            <a:r>
              <a:rPr b="1" i="1" lang="en-US" sz="1800" spc="-1" strike="noStrike">
                <a:solidFill>
                  <a:srgbClr val="577052"/>
                </a:solidFill>
                <a:latin typeface="Times New Roman"/>
              </a:rPr>
              <a:t>random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577052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77052"/>
                </a:solidFill>
                <a:latin typeface="Symbol"/>
                <a:ea typeface="Symbol"/>
              </a:rPr>
              <a:t>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do A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{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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1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77052"/>
                </a:solidFill>
                <a:latin typeface="Times New Roman"/>
              </a:rPr>
              <a:t>do  B 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s running time depends on the outcomes of the coin tos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analyze the expected running time of a randomized algorithm under the following assump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coins are unbiased, and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coin tosses are independe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worst-case running time of a randomized algorithm is often large but has very low probability (e.g., it occurs when all the coin tosses give “head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use a randomized algorithm to insert items into a skip li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8DB-B092-48EC-8C2B-564ADCE0DBF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83396-9FC3-455F-9312-A7955A0E7D10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 insert an item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nto a skip list, we use a randomized algorith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 repeatedly toss a coin until we get tails, and we denote with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number of times the coin came up hea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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we add to the skip list new list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… 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each containing only the two special key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 search for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the skip list and find the position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…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f the items with largest key less than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n each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… 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 0, …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we insert item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nto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after position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ample: insert key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15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with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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Insertion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5938920"/>
            <a:ext cx="3618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25640" y="5938920"/>
            <a:ext cx="363600" cy="21564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44480" y="5938920"/>
            <a:ext cx="363600" cy="21564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8432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6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3" idx="3"/>
            <a:endCxn id="354" idx="1"/>
          </p:cNvCxnSpPr>
          <p:nvPr/>
        </p:nvCxnSpPr>
        <p:spPr>
          <a:xfrm>
            <a:off x="1407600" y="6046560"/>
            <a:ext cx="2185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57" name=""/>
          <p:cNvCxnSpPr>
            <a:stCxn id="358" idx="3"/>
            <a:endCxn id="355" idx="1"/>
          </p:cNvCxnSpPr>
          <p:nvPr/>
        </p:nvCxnSpPr>
        <p:spPr>
          <a:xfrm>
            <a:off x="2646000" y="6046560"/>
            <a:ext cx="2293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59" name=""/>
          <p:cNvCxnSpPr>
            <a:stCxn id="354" idx="3"/>
            <a:endCxn id="358" idx="1"/>
          </p:cNvCxnSpPr>
          <p:nvPr/>
        </p:nvCxnSpPr>
        <p:spPr>
          <a:xfrm>
            <a:off x="2027160" y="6046560"/>
            <a:ext cx="2181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60" name=""/>
          <p:cNvCxnSpPr>
            <a:stCxn id="355" idx="3"/>
            <a:endCxn id="352" idx="1"/>
          </p:cNvCxnSpPr>
          <p:nvPr/>
        </p:nvCxnSpPr>
        <p:spPr>
          <a:xfrm>
            <a:off x="3257280" y="6046560"/>
            <a:ext cx="23868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3505320" y="4925880"/>
            <a:ext cx="3618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25640" y="4925880"/>
            <a:ext cx="3636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3"/>
            <a:endCxn id="361" idx="1"/>
          </p:cNvCxnSpPr>
          <p:nvPr/>
        </p:nvCxnSpPr>
        <p:spPr>
          <a:xfrm>
            <a:off x="1407600" y="5033520"/>
            <a:ext cx="207900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358" name=""/>
          <p:cNvSpPr/>
          <p:nvPr/>
        </p:nvSpPr>
        <p:spPr>
          <a:xfrm>
            <a:off x="2263680" y="5938920"/>
            <a:ext cx="363600" cy="21564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5480" y="5438880"/>
            <a:ext cx="363600" cy="21564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5432400"/>
            <a:ext cx="3618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25640" y="5432400"/>
            <a:ext cx="3636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66" idx="3"/>
            <a:endCxn id="364" idx="1"/>
          </p:cNvCxnSpPr>
          <p:nvPr/>
        </p:nvCxnSpPr>
        <p:spPr>
          <a:xfrm>
            <a:off x="1407600" y="5540400"/>
            <a:ext cx="839160" cy="720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368" name=""/>
          <p:cNvCxnSpPr>
            <a:stCxn id="364" idx="3"/>
            <a:endCxn id="365" idx="1"/>
          </p:cNvCxnSpPr>
          <p:nvPr/>
        </p:nvCxnSpPr>
        <p:spPr>
          <a:xfrm flipV="1">
            <a:off x="2647440" y="5540040"/>
            <a:ext cx="848520" cy="720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673200" y="5864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3200" y="5356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3200" y="48481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78400" y="4422600"/>
            <a:ext cx="3460680" cy="216000"/>
            <a:chOff x="5378400" y="4422600"/>
            <a:chExt cx="3460680" cy="216000"/>
          </a:xfrm>
        </p:grpSpPr>
        <p:sp>
          <p:nvSpPr>
            <p:cNvPr id="373" name=""/>
            <p:cNvSpPr/>
            <p:nvPr/>
          </p:nvSpPr>
          <p:spPr>
            <a:xfrm>
              <a:off x="8477280" y="442260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78400" y="442260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5" name=""/>
            <p:cNvCxnSpPr>
              <a:stCxn id="374" idx="3"/>
              <a:endCxn id="373" idx="1"/>
            </p:cNvCxnSpPr>
            <p:nvPr/>
          </p:nvCxnSpPr>
          <p:spPr>
            <a:xfrm>
              <a:off x="5751360" y="4530240"/>
              <a:ext cx="27169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sp>
        <p:nvSpPr>
          <p:cNvPr id="376" name=""/>
          <p:cNvSpPr/>
          <p:nvPr/>
        </p:nvSpPr>
        <p:spPr>
          <a:xfrm>
            <a:off x="5045040" y="5867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45040" y="5359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45040" y="485136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45040" y="4343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378400" y="5942160"/>
            <a:ext cx="3460680" cy="217440"/>
            <a:chOff x="5378400" y="5942160"/>
            <a:chExt cx="3460680" cy="217440"/>
          </a:xfrm>
        </p:grpSpPr>
        <p:sp>
          <p:nvSpPr>
            <p:cNvPr id="381" name=""/>
            <p:cNvSpPr/>
            <p:nvPr/>
          </p:nvSpPr>
          <p:spPr>
            <a:xfrm>
              <a:off x="8477280" y="594216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78400" y="594216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97600" y="594216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0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56640" y="594216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36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2" idx="3"/>
              <a:endCxn id="383" idx="1"/>
            </p:cNvCxnSpPr>
            <p:nvPr/>
          </p:nvCxnSpPr>
          <p:spPr>
            <a:xfrm>
              <a:off x="5751360" y="6049800"/>
              <a:ext cx="23724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386" name=""/>
            <p:cNvCxnSpPr>
              <a:stCxn id="387" idx="3"/>
              <a:endCxn id="384" idx="1"/>
            </p:cNvCxnSpPr>
            <p:nvPr/>
          </p:nvCxnSpPr>
          <p:spPr>
            <a:xfrm>
              <a:off x="7608600" y="6049800"/>
              <a:ext cx="23868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388" name=""/>
            <p:cNvCxnSpPr>
              <a:stCxn id="383" idx="3"/>
              <a:endCxn id="389" idx="1"/>
            </p:cNvCxnSpPr>
            <p:nvPr/>
          </p:nvCxnSpPr>
          <p:spPr>
            <a:xfrm>
              <a:off x="6370560" y="6049800"/>
              <a:ext cx="240480" cy="252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390" name=""/>
            <p:cNvCxnSpPr>
              <a:stCxn id="384" idx="3"/>
              <a:endCxn id="381" idx="1"/>
            </p:cNvCxnSpPr>
            <p:nvPr/>
          </p:nvCxnSpPr>
          <p:spPr>
            <a:xfrm>
              <a:off x="8229600" y="6049800"/>
              <a:ext cx="23904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7236000" y="5942160"/>
              <a:ext cx="36324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23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20040" y="5943960"/>
              <a:ext cx="363240" cy="215640"/>
            </a:xfrm>
            <a:prstGeom prst="rect">
              <a:avLst/>
            </a:prstGeom>
            <a:solidFill>
              <a:srgbClr val="b7c1eb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91" name=""/>
            <p:cNvCxnSpPr>
              <a:stCxn id="389" idx="3"/>
              <a:endCxn id="387" idx="1"/>
            </p:cNvCxnSpPr>
            <p:nvPr/>
          </p:nvCxnSpPr>
          <p:spPr>
            <a:xfrm flipV="1">
              <a:off x="6993000" y="6049440"/>
              <a:ext cx="234000" cy="252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grpSp>
        <p:nvGrpSpPr>
          <p:cNvPr id="392" name=""/>
          <p:cNvGrpSpPr/>
          <p:nvPr/>
        </p:nvGrpSpPr>
        <p:grpSpPr>
          <a:xfrm>
            <a:off x="5378400" y="4929120"/>
            <a:ext cx="3460680" cy="216000"/>
            <a:chOff x="5378400" y="4929120"/>
            <a:chExt cx="3460680" cy="216000"/>
          </a:xfrm>
        </p:grpSpPr>
        <p:sp>
          <p:nvSpPr>
            <p:cNvPr id="393" name=""/>
            <p:cNvSpPr/>
            <p:nvPr/>
          </p:nvSpPr>
          <p:spPr>
            <a:xfrm>
              <a:off x="8477280" y="4929120"/>
              <a:ext cx="3618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78400" y="4929120"/>
              <a:ext cx="363600" cy="21600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95" name=""/>
            <p:cNvCxnSpPr>
              <a:stCxn id="394" idx="3"/>
              <a:endCxn id="396" idx="1"/>
            </p:cNvCxnSpPr>
            <p:nvPr/>
          </p:nvCxnSpPr>
          <p:spPr>
            <a:xfrm>
              <a:off x="5751360" y="5036760"/>
              <a:ext cx="8593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sp>
          <p:nvSpPr>
            <p:cNvPr id="396" name=""/>
            <p:cNvSpPr/>
            <p:nvPr/>
          </p:nvSpPr>
          <p:spPr>
            <a:xfrm>
              <a:off x="6620040" y="4929120"/>
              <a:ext cx="363240" cy="216000"/>
            </a:xfrm>
            <a:prstGeom prst="rect">
              <a:avLst/>
            </a:prstGeom>
            <a:solidFill>
              <a:srgbClr val="b7c1eb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97" name=""/>
            <p:cNvCxnSpPr>
              <a:stCxn id="396" idx="3"/>
              <a:endCxn id="393" idx="1"/>
            </p:cNvCxnSpPr>
            <p:nvPr/>
          </p:nvCxnSpPr>
          <p:spPr>
            <a:xfrm>
              <a:off x="6992640" y="5036760"/>
              <a:ext cx="147564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grpSp>
        <p:nvGrpSpPr>
          <p:cNvPr id="398" name=""/>
          <p:cNvGrpSpPr/>
          <p:nvPr/>
        </p:nvGrpSpPr>
        <p:grpSpPr>
          <a:xfrm>
            <a:off x="5378400" y="5435640"/>
            <a:ext cx="3460680" cy="215640"/>
            <a:chOff x="5378400" y="5435640"/>
            <a:chExt cx="3460680" cy="215640"/>
          </a:xfrm>
        </p:grpSpPr>
        <p:sp>
          <p:nvSpPr>
            <p:cNvPr id="399" name=""/>
            <p:cNvSpPr/>
            <p:nvPr/>
          </p:nvSpPr>
          <p:spPr>
            <a:xfrm>
              <a:off x="8477280" y="5435640"/>
              <a:ext cx="361800" cy="21564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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78400" y="5435640"/>
              <a:ext cx="363600" cy="21564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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37440" y="5435640"/>
              <a:ext cx="363600" cy="215640"/>
            </a:xfrm>
            <a:prstGeom prst="rect">
              <a:avLst/>
            </a:prstGeom>
            <a:solidFill>
              <a:srgbClr val="ecd882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23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2" name=""/>
            <p:cNvCxnSpPr>
              <a:stCxn id="400" idx="3"/>
              <a:endCxn id="403" idx="1"/>
            </p:cNvCxnSpPr>
            <p:nvPr/>
          </p:nvCxnSpPr>
          <p:spPr>
            <a:xfrm>
              <a:off x="5751360" y="5543280"/>
              <a:ext cx="85932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cxnSp>
          <p:nvCxnSpPr>
            <p:cNvPr id="404" name=""/>
            <p:cNvCxnSpPr>
              <a:stCxn id="401" idx="3"/>
              <a:endCxn id="399" idx="1"/>
            </p:cNvCxnSpPr>
            <p:nvPr/>
          </p:nvCxnSpPr>
          <p:spPr>
            <a:xfrm>
              <a:off x="7610400" y="5543280"/>
              <a:ext cx="85824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  <p:sp>
          <p:nvSpPr>
            <p:cNvPr id="403" name=""/>
            <p:cNvSpPr/>
            <p:nvPr/>
          </p:nvSpPr>
          <p:spPr>
            <a:xfrm>
              <a:off x="6620040" y="5435640"/>
              <a:ext cx="363240" cy="215640"/>
            </a:xfrm>
            <a:prstGeom prst="rect">
              <a:avLst/>
            </a:prstGeom>
            <a:solidFill>
              <a:srgbClr val="b7c1eb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0458c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05" name=""/>
            <p:cNvCxnSpPr>
              <a:stCxn id="403" idx="3"/>
              <a:endCxn id="401" idx="1"/>
            </p:cNvCxnSpPr>
            <p:nvPr/>
          </p:nvCxnSpPr>
          <p:spPr>
            <a:xfrm>
              <a:off x="6992640" y="5543280"/>
              <a:ext cx="235800" cy="1080"/>
            </a:xfrm>
            <a:prstGeom prst="straightConnector1">
              <a:avLst/>
            </a:prstGeom>
            <a:ln w="19080">
              <a:solidFill>
                <a:srgbClr val="40458c"/>
              </a:solidFill>
              <a:miter/>
            </a:ln>
          </p:spPr>
        </p:cxnSp>
      </p:grpSp>
      <p:sp>
        <p:nvSpPr>
          <p:cNvPr id="406" name=""/>
          <p:cNvSpPr/>
          <p:nvPr/>
        </p:nvSpPr>
        <p:spPr>
          <a:xfrm>
            <a:off x="4229280" y="5411880"/>
            <a:ext cx="609480" cy="303120"/>
          </a:xfrm>
          <a:prstGeom prst="rightArrow">
            <a:avLst>
              <a:gd name="adj1" fmla="val 50000"/>
              <a:gd name="adj2" fmla="val 50267"/>
            </a:avLst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62" idx="2"/>
            <a:endCxn id="366" idx="0"/>
          </p:cNvCxnSpPr>
          <p:nvPr/>
        </p:nvCxnSpPr>
        <p:spPr>
          <a:xfrm>
            <a:off x="1207800" y="5160600"/>
            <a:ext cx="1080" cy="25308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53" idx="0"/>
            <a:endCxn id="354" idx="0"/>
          </p:cNvCxnSpPr>
          <p:nvPr/>
        </p:nvCxnSpPr>
        <p:spPr>
          <a:xfrm flipH="1" rot="16200000">
            <a:off x="1517040" y="5610600"/>
            <a:ext cx="2160" cy="619920"/>
          </a:xfrm>
          <a:prstGeom prst="curvedConnector5">
            <a:avLst>
              <a:gd name="adj1" fmla="val -13200000"/>
              <a:gd name="adj2" fmla="val 49970"/>
              <a:gd name="adj3" fmla="val -13200000"/>
            </a:avLst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66" idx="2"/>
            <a:endCxn id="353" idx="0"/>
          </p:cNvCxnSpPr>
          <p:nvPr/>
        </p:nvCxnSpPr>
        <p:spPr>
          <a:xfrm>
            <a:off x="1207800" y="5667120"/>
            <a:ext cx="1080" cy="25308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1806480" y="5562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25440" y="50799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2544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207-ECB6-4804-8322-00E30096BB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5F0F3-EBB0-4594-9428-A109D46C2BC5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Deletion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o remove an item with key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rom a skip list, we proceed as follow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 search for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 the skip list and find the position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…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f the items with key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where position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s in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 remove position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…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from the list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, … ,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 remove all but one list containing only the two special key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ample: remove key 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61960" y="5938920"/>
            <a:ext cx="3618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844056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782172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58188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17" idx="3"/>
          </p:cNvCxnSpPr>
          <p:nvPr/>
        </p:nvCxnSpPr>
        <p:spPr>
          <a:xfrm flipH="1">
            <a:off x="8195400" y="6044760"/>
            <a:ext cx="2372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20" name=""/>
          <p:cNvCxnSpPr>
            <a:stCxn id="421" idx="1"/>
            <a:endCxn id="418" idx="3"/>
          </p:cNvCxnSpPr>
          <p:nvPr/>
        </p:nvCxnSpPr>
        <p:spPr>
          <a:xfrm flipH="1">
            <a:off x="6955920" y="6044760"/>
            <a:ext cx="2390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22" name=""/>
          <p:cNvCxnSpPr>
            <a:stCxn id="417" idx="1"/>
            <a:endCxn id="421" idx="3"/>
          </p:cNvCxnSpPr>
          <p:nvPr/>
        </p:nvCxnSpPr>
        <p:spPr>
          <a:xfrm flipH="1">
            <a:off x="7576560" y="6044760"/>
            <a:ext cx="2372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23" name=""/>
          <p:cNvCxnSpPr>
            <a:stCxn id="418" idx="1"/>
            <a:endCxn id="415" idx="3"/>
          </p:cNvCxnSpPr>
          <p:nvPr/>
        </p:nvCxnSpPr>
        <p:spPr>
          <a:xfrm flipH="1">
            <a:off x="6333840" y="6044760"/>
            <a:ext cx="24048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24" name=""/>
          <p:cNvSpPr/>
          <p:nvPr/>
        </p:nvSpPr>
        <p:spPr>
          <a:xfrm flipH="1">
            <a:off x="5961960" y="4925880"/>
            <a:ext cx="3618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8440560" y="492588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5" idx="1"/>
            <a:endCxn id="424" idx="3"/>
          </p:cNvCxnSpPr>
          <p:nvPr/>
        </p:nvCxnSpPr>
        <p:spPr>
          <a:xfrm flipH="1">
            <a:off x="6333480" y="5032080"/>
            <a:ext cx="20991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21" name=""/>
          <p:cNvSpPr/>
          <p:nvPr/>
        </p:nvSpPr>
        <p:spPr>
          <a:xfrm flipH="1">
            <a:off x="7202520" y="593892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200360" y="5438880"/>
            <a:ext cx="36324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961960" y="5432400"/>
            <a:ext cx="3618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8440560" y="543240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1"/>
            <a:endCxn id="427" idx="3"/>
          </p:cNvCxnSpPr>
          <p:nvPr/>
        </p:nvCxnSpPr>
        <p:spPr>
          <a:xfrm flipH="1">
            <a:off x="7574760" y="5538600"/>
            <a:ext cx="857880" cy="684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31" name=""/>
          <p:cNvCxnSpPr>
            <a:stCxn id="427" idx="1"/>
            <a:endCxn id="428" idx="3"/>
          </p:cNvCxnSpPr>
          <p:nvPr/>
        </p:nvCxnSpPr>
        <p:spPr>
          <a:xfrm flipH="1" flipV="1">
            <a:off x="6333480" y="5538240"/>
            <a:ext cx="859320" cy="684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32" name=""/>
          <p:cNvSpPr/>
          <p:nvPr/>
        </p:nvSpPr>
        <p:spPr>
          <a:xfrm flipH="1">
            <a:off x="5587920" y="5864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587920" y="5356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587920" y="48481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024920" y="4422600"/>
            <a:ext cx="3618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122720" y="4422600"/>
            <a:ext cx="3636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6" idx="1"/>
            <a:endCxn id="435" idx="3"/>
          </p:cNvCxnSpPr>
          <p:nvPr/>
        </p:nvCxnSpPr>
        <p:spPr>
          <a:xfrm flipH="1">
            <a:off x="1405800" y="4528800"/>
            <a:ext cx="26996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38" name=""/>
          <p:cNvSpPr/>
          <p:nvPr/>
        </p:nvSpPr>
        <p:spPr>
          <a:xfrm flipH="1">
            <a:off x="660240" y="5867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60240" y="5359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60240" y="485136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60240" y="4343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24920" y="5942160"/>
            <a:ext cx="3618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122720" y="594216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503520" y="594216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45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644480" y="594216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1"/>
            <a:endCxn id="444" idx="3"/>
          </p:cNvCxnSpPr>
          <p:nvPr/>
        </p:nvCxnSpPr>
        <p:spPr>
          <a:xfrm flipH="1">
            <a:off x="3877560" y="6048000"/>
            <a:ext cx="2372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47" name=""/>
          <p:cNvCxnSpPr>
            <a:stCxn id="448" idx="1"/>
            <a:endCxn id="445" idx="3"/>
          </p:cNvCxnSpPr>
          <p:nvPr/>
        </p:nvCxnSpPr>
        <p:spPr>
          <a:xfrm flipH="1">
            <a:off x="2018880" y="6048000"/>
            <a:ext cx="23904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49" name=""/>
          <p:cNvCxnSpPr>
            <a:stCxn id="444" idx="1"/>
            <a:endCxn id="450" idx="3"/>
          </p:cNvCxnSpPr>
          <p:nvPr/>
        </p:nvCxnSpPr>
        <p:spPr>
          <a:xfrm flipH="1">
            <a:off x="3264840" y="6048360"/>
            <a:ext cx="230760" cy="216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51" name=""/>
          <p:cNvCxnSpPr>
            <a:stCxn id="445" idx="1"/>
            <a:endCxn id="442" idx="3"/>
          </p:cNvCxnSpPr>
          <p:nvPr/>
        </p:nvCxnSpPr>
        <p:spPr>
          <a:xfrm flipH="1">
            <a:off x="1396440" y="6048000"/>
            <a:ext cx="2401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48" name=""/>
          <p:cNvSpPr/>
          <p:nvPr/>
        </p:nvSpPr>
        <p:spPr>
          <a:xfrm flipH="1">
            <a:off x="2265480" y="5942160"/>
            <a:ext cx="363600" cy="21564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880720" y="5943600"/>
            <a:ext cx="363240" cy="216000"/>
          </a:xfrm>
          <a:prstGeom prst="rect">
            <a:avLst/>
          </a:prstGeom>
          <a:solidFill>
            <a:srgbClr val="b7c1eb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0" idx="1"/>
            <a:endCxn id="448" idx="3"/>
          </p:cNvCxnSpPr>
          <p:nvPr/>
        </p:nvCxnSpPr>
        <p:spPr>
          <a:xfrm flipH="1" flipV="1">
            <a:off x="2639520" y="6048000"/>
            <a:ext cx="224640" cy="216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53" name=""/>
          <p:cNvSpPr/>
          <p:nvPr/>
        </p:nvSpPr>
        <p:spPr>
          <a:xfrm flipH="1">
            <a:off x="1024920" y="4929120"/>
            <a:ext cx="361800" cy="216000"/>
          </a:xfrm>
          <a:prstGeom prst="rect">
            <a:avLst/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122720" y="492912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5" name=""/>
          <p:cNvCxnSpPr>
            <a:stCxn id="454" idx="1"/>
            <a:endCxn id="456" idx="3"/>
          </p:cNvCxnSpPr>
          <p:nvPr/>
        </p:nvCxnSpPr>
        <p:spPr>
          <a:xfrm flipH="1">
            <a:off x="3264840" y="5035320"/>
            <a:ext cx="8499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56" name=""/>
          <p:cNvSpPr/>
          <p:nvPr/>
        </p:nvSpPr>
        <p:spPr>
          <a:xfrm flipH="1">
            <a:off x="2880720" y="4929120"/>
            <a:ext cx="363240" cy="216000"/>
          </a:xfrm>
          <a:prstGeom prst="rect">
            <a:avLst/>
          </a:prstGeom>
          <a:solidFill>
            <a:srgbClr val="b7c1eb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1"/>
            <a:endCxn id="453" idx="3"/>
          </p:cNvCxnSpPr>
          <p:nvPr/>
        </p:nvCxnSpPr>
        <p:spPr>
          <a:xfrm flipH="1">
            <a:off x="1406160" y="5035320"/>
            <a:ext cx="145800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58" name=""/>
          <p:cNvSpPr/>
          <p:nvPr/>
        </p:nvSpPr>
        <p:spPr>
          <a:xfrm flipH="1">
            <a:off x="1024920" y="5435640"/>
            <a:ext cx="3618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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122720" y="543564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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63680" y="5435640"/>
            <a:ext cx="363600" cy="21600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23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59" idx="1"/>
            <a:endCxn id="462" idx="3"/>
          </p:cNvCxnSpPr>
          <p:nvPr/>
        </p:nvCxnSpPr>
        <p:spPr>
          <a:xfrm flipH="1">
            <a:off x="3264840" y="5541480"/>
            <a:ext cx="84996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cxnSp>
        <p:nvCxnSpPr>
          <p:cNvPr id="463" name=""/>
          <p:cNvCxnSpPr>
            <a:stCxn id="460" idx="1"/>
            <a:endCxn id="458" idx="3"/>
          </p:cNvCxnSpPr>
          <p:nvPr/>
        </p:nvCxnSpPr>
        <p:spPr>
          <a:xfrm flipH="1">
            <a:off x="1396440" y="5541480"/>
            <a:ext cx="8593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62" name=""/>
          <p:cNvSpPr/>
          <p:nvPr/>
        </p:nvSpPr>
        <p:spPr>
          <a:xfrm flipH="1">
            <a:off x="2880720" y="5435640"/>
            <a:ext cx="363240" cy="216000"/>
          </a:xfrm>
          <a:prstGeom prst="rect">
            <a:avLst/>
          </a:prstGeom>
          <a:solidFill>
            <a:srgbClr val="b7c1eb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34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62" idx="1"/>
            <a:endCxn id="460" idx="3"/>
          </p:cNvCxnSpPr>
          <p:nvPr/>
        </p:nvCxnSpPr>
        <p:spPr>
          <a:xfrm flipH="1">
            <a:off x="2638080" y="5541480"/>
            <a:ext cx="22608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4848120" y="5411880"/>
            <a:ext cx="609840" cy="303120"/>
          </a:xfrm>
          <a:prstGeom prst="rightArrow">
            <a:avLst>
              <a:gd name="adj1" fmla="val 50000"/>
              <a:gd name="adj2" fmla="val 50297"/>
            </a:avLst>
          </a:prstGeom>
          <a:noFill/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53" idx="0"/>
            <a:endCxn id="456" idx="0"/>
          </p:cNvCxnSpPr>
          <p:nvPr/>
        </p:nvCxnSpPr>
        <p:spPr>
          <a:xfrm flipH="1" rot="16200000">
            <a:off x="2134080" y="3980880"/>
            <a:ext cx="2520" cy="1858320"/>
          </a:xfrm>
          <a:prstGeom prst="curvedConnector5">
            <a:avLst>
              <a:gd name="adj1" fmla="val -13200000"/>
              <a:gd name="adj2" fmla="val 49990"/>
              <a:gd name="adj3" fmla="val -13200000"/>
            </a:avLst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35" idx="2"/>
            <a:endCxn id="453" idx="0"/>
          </p:cNvCxnSpPr>
          <p:nvPr/>
        </p:nvCxnSpPr>
        <p:spPr>
          <a:xfrm>
            <a:off x="1206000" y="4655880"/>
            <a:ext cx="1080" cy="25452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 flipH="1">
            <a:off x="3120480" y="55627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120480" y="507996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120480" y="457200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56" idx="2"/>
            <a:endCxn id="462" idx="0"/>
          </p:cNvCxnSpPr>
          <p:nvPr/>
        </p:nvCxnSpPr>
        <p:spPr>
          <a:xfrm>
            <a:off x="3063600" y="5162400"/>
            <a:ext cx="1080" cy="25488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2" idx="2"/>
            <a:endCxn id="450" idx="0"/>
          </p:cNvCxnSpPr>
          <p:nvPr/>
        </p:nvCxnSpPr>
        <p:spPr>
          <a:xfrm>
            <a:off x="3063600" y="5668920"/>
            <a:ext cx="1080" cy="255960"/>
          </a:xfrm>
          <a:prstGeom prst="straightConnector1">
            <a:avLst/>
          </a:prstGeom>
          <a:ln w="28440">
            <a:solidFill>
              <a:srgbClr val="be2d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F30-A3D9-45D6-A90E-608306F5D9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C66C2-6455-4A8A-8238-0A3FBA31BDF2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can implement a skip list with  quad-no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quad-node stor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t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k to the node befo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k to the node aft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k to the node belo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k to the node aft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lso, we define special keys PLUS_INF and MINUS_INF, and we modify the key comparator to handle them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6400800" y="3048120"/>
            <a:ext cx="1523880" cy="1523880"/>
          </a:xfrm>
          <a:prstGeom prst="plus">
            <a:avLst>
              <a:gd name="adj" fmla="val 25000"/>
            </a:avLst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429000"/>
            <a:ext cx="762120" cy="762120"/>
          </a:xfrm>
          <a:prstGeom prst="rect">
            <a:avLst/>
          </a:prstGeom>
          <a:solidFill>
            <a:srgbClr val="ecd882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458c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19080">
            <a:solidFill>
              <a:srgbClr val="40458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866920" y="3809880"/>
            <a:ext cx="685800" cy="0"/>
          </a:xfrm>
          <a:prstGeom prst="line">
            <a:avLst/>
          </a:prstGeom>
          <a:ln w="19080">
            <a:solidFill>
              <a:srgbClr val="40458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167600" y="2542680"/>
            <a:ext cx="0" cy="685800"/>
          </a:xfrm>
          <a:prstGeom prst="line">
            <a:avLst/>
          </a:prstGeom>
          <a:ln w="19080">
            <a:solidFill>
              <a:srgbClr val="40458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67600" y="4371840"/>
            <a:ext cx="0" cy="685800"/>
          </a:xfrm>
          <a:prstGeom prst="line">
            <a:avLst/>
          </a:prstGeom>
          <a:ln w="19080">
            <a:solidFill>
              <a:srgbClr val="40458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4551120" y="27925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ad-no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942-14A6-49F3-BB82-D29539BB08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5AE2C-37A8-4805-A98C-98CAC6516269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2d00"/>
                </a:solidFill>
                <a:latin typeface="Tahoma"/>
              </a:rPr>
              <a:t>Space Usage</a:t>
            </a:r>
            <a:endParaRPr b="0" lang="en-US" sz="4400" spc="-1" strike="noStrike">
              <a:solidFill>
                <a:srgbClr val="be2d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space used by a skip list depends on the random bits used by each invocation of the insertion algorith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use the following two basic probabilistic fact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2d00"/>
                </a:solidFill>
                <a:latin typeface="Tahoma"/>
              </a:rPr>
              <a:t>Fact 1: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The probability of getting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consecutive heads when flipping a coin is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2d00"/>
                </a:solidFill>
                <a:latin typeface="Tahoma"/>
              </a:rPr>
              <a:t>Fact 2: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f each of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tems is present in a set with probability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the expected size of the set i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n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sider a skip list with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te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Fact 1, we insert an item in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with probability 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y Fact 2, the expected size of list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is </a:t>
            </a:r>
            <a:r>
              <a:rPr b="1" i="1" lang="en-US" sz="18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40458c"/>
                </a:solidFill>
                <a:latin typeface="Symbol"/>
                <a:ea typeface="Symbol"/>
              </a:rPr>
              <a:t>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expected number of nodes used by the skip list 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019920" y="4295880"/>
                <a:ext cx="20192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5143680" y="510552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us, the expected space usage of a skip list with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tems is 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40458c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ip Lis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3BE-E477-4A56-ADE2-D38934EB19A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4DF86-0C66-4743-9C2F-ECAB15A5E027}" type="datetime8">
              <a:rPr lang="en-US"/>
              <a:t>07/28/26 23: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2:22:10Z</dcterms:created>
  <dc:creator>Roberto Tamassia</dc:creator>
  <dc:description/>
  <dc:language>en-US</dc:language>
  <cp:lastModifiedBy>Roberto Tamassia</cp:lastModifiedBy>
  <dcterms:modified xsi:type="dcterms:W3CDTF">2002-02-22T21:34:16Z</dcterms:modified>
  <cp:revision>914</cp:revision>
  <dc:subject/>
  <dc:title>Analysis of Algorithms</dc:title>
</cp:coreProperties>
</file>