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6C2C-06FD-447C-A119-346EF7529EA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C4CC-06CA-4497-80E7-4E39C6D63AF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45D9-4938-48FF-8C7B-9C52E19C908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D232-B43A-436E-B4F5-CE3F212AF3E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E507-8141-4ACA-921A-378FF137929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6027-8F34-419A-BBB8-9DB014880A7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D604-1FCD-46EC-B00D-184F22C8808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FA0A-099D-44B6-A2C8-82CC2FD320E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3FA4-BD70-4F91-9C84-BF982A7E179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C055-EAB9-445F-BC5C-D91BF4211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33D8-3A0B-441F-AA39-55EF31E6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9863-D54B-4548-9E4F-AD2A0992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C8E9-292D-41D8-B79E-F43BCDDB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9F7E-CB68-4C86-A41B-DE328DBB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16CD-7D73-48EB-8C93-E242BF1D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FE55-4041-496C-B8B1-5C967EB5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B7B8-98E3-48EC-AF3A-1B0A18F9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0926-DBAD-43FD-9391-CF4445AB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A844-D05F-4B17-AE1B-E6F2B7BC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EE9A-6ED1-4997-8791-30DB159A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C042-E237-4C97-8095-1ECC4445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30BB-A77D-4D50-9B39-7FDA20DFA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ing Edit Dis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ing Edit Dis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edit distance measures the similarity between two str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ity is defined as the minimum number of edits to transform one string in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it operation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, delete, and substit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dit Op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edit operation has an associated c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ssume all edits have a cost of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, the distance between “Hello” and “Help” is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delete and one substitu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ewer the edits the more similar the str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ny Ap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ll chec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gning gene sequ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virus det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p1: Initia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752480" y="2438280"/>
          <a:ext cx="5639040" cy="2668680"/>
        </p:xfrm>
        <a:graphic>
          <a:graphicData uri="http://schemas.openxmlformats.org/drawingml/2006/table">
            <a:tbl>
              <a:tblPr/>
              <a:tblGrid>
                <a:gridCol w="939960"/>
                <a:gridCol w="939600"/>
                <a:gridCol w="939960"/>
                <a:gridCol w="939960"/>
                <a:gridCol w="939600"/>
                <a:gridCol w="939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60"/>
          <p:cNvSpPr/>
          <p:nvPr/>
        </p:nvSpPr>
        <p:spPr>
          <a:xfrm>
            <a:off x="2743200" y="18432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        E        L       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1"/>
          <p:cNvSpPr/>
          <p:nvPr/>
        </p:nvSpPr>
        <p:spPr>
          <a:xfrm>
            <a:off x="990720" y="2971800"/>
            <a:ext cx="549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3"/>
          <p:cNvSpPr/>
          <p:nvPr/>
        </p:nvSpPr>
        <p:spPr>
          <a:xfrm>
            <a:off x="1219320" y="2971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4"/>
          <p:cNvSpPr/>
          <p:nvPr/>
        </p:nvSpPr>
        <p:spPr>
          <a:xfrm>
            <a:off x="12193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5"/>
          <p:cNvSpPr/>
          <p:nvPr/>
        </p:nvSpPr>
        <p:spPr>
          <a:xfrm>
            <a:off x="1219320" y="4052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6"/>
          <p:cNvSpPr/>
          <p:nvPr/>
        </p:nvSpPr>
        <p:spPr>
          <a:xfrm>
            <a:off x="1219320" y="45864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p2: Fill in Matr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 in each cell of the matrix using the following eq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[i][j] = min ( m[i][j-1] + 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[i-1][j] + 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[i-1][j-1] + cos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0 i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racter of the first string equal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racter of the second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1 if they are not the sa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tance is in the bottom right c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p2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752480" y="2438280"/>
          <a:ext cx="5639040" cy="2668680"/>
        </p:xfrm>
        <a:graphic>
          <a:graphicData uri="http://schemas.openxmlformats.org/drawingml/2006/table">
            <a:tbl>
              <a:tblPr/>
              <a:tblGrid>
                <a:gridCol w="939960"/>
                <a:gridCol w="939600"/>
                <a:gridCol w="939960"/>
                <a:gridCol w="939960"/>
                <a:gridCol w="939600"/>
                <a:gridCol w="939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47"/>
          <p:cNvSpPr/>
          <p:nvPr/>
        </p:nvSpPr>
        <p:spPr>
          <a:xfrm>
            <a:off x="2743200" y="18432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        E        L       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8"/>
          <p:cNvSpPr/>
          <p:nvPr/>
        </p:nvSpPr>
        <p:spPr>
          <a:xfrm>
            <a:off x="990720" y="2971800"/>
            <a:ext cx="549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9"/>
          <p:cNvSpPr/>
          <p:nvPr/>
        </p:nvSpPr>
        <p:spPr>
          <a:xfrm>
            <a:off x="1219320" y="2971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0"/>
          <p:cNvSpPr/>
          <p:nvPr/>
        </p:nvSpPr>
        <p:spPr>
          <a:xfrm>
            <a:off x="12193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1"/>
          <p:cNvSpPr/>
          <p:nvPr/>
        </p:nvSpPr>
        <p:spPr>
          <a:xfrm>
            <a:off x="1219320" y="4052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2"/>
          <p:cNvSpPr/>
          <p:nvPr/>
        </p:nvSpPr>
        <p:spPr>
          <a:xfrm>
            <a:off x="1219320" y="45864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p2: Example (c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752480" y="2438280"/>
          <a:ext cx="5639040" cy="2668680"/>
        </p:xfrm>
        <a:graphic>
          <a:graphicData uri="http://schemas.openxmlformats.org/drawingml/2006/table">
            <a:tbl>
              <a:tblPr/>
              <a:tblGrid>
                <a:gridCol w="939960"/>
                <a:gridCol w="939600"/>
                <a:gridCol w="939960"/>
                <a:gridCol w="939960"/>
                <a:gridCol w="939600"/>
                <a:gridCol w="939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 Box 47"/>
          <p:cNvSpPr/>
          <p:nvPr/>
        </p:nvSpPr>
        <p:spPr>
          <a:xfrm>
            <a:off x="2743200" y="18432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        E        L       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8"/>
          <p:cNvSpPr/>
          <p:nvPr/>
        </p:nvSpPr>
        <p:spPr>
          <a:xfrm>
            <a:off x="990720" y="2971800"/>
            <a:ext cx="549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9"/>
          <p:cNvSpPr/>
          <p:nvPr/>
        </p:nvSpPr>
        <p:spPr>
          <a:xfrm>
            <a:off x="1219320" y="2971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12193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1"/>
          <p:cNvSpPr/>
          <p:nvPr/>
        </p:nvSpPr>
        <p:spPr>
          <a:xfrm>
            <a:off x="1219320" y="4052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2"/>
          <p:cNvSpPr/>
          <p:nvPr/>
        </p:nvSpPr>
        <p:spPr>
          <a:xfrm>
            <a:off x="1219320" y="45864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utner</cp:lastModifiedBy>
  <dcterms:modified xsi:type="dcterms:W3CDTF">2009-02-16T12:33:17Z</dcterms:modified>
  <cp:revision>7</cp:revision>
  <dc:subject/>
  <dc:title>PowerPoint Presentation</dc:title>
</cp:coreProperties>
</file>