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3C4D-51A9-4D28-88CB-33716D374A2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53E9-DDAD-4FAF-869C-1A1E64202B0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0E3-B9CA-4BA3-A857-9CA91614304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AC5-5496-4FC5-B863-B26E9267B42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7B1D-46E0-4EDA-B480-7EC8B8A3DF8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8631-FAD7-41E4-9C34-9E721E9BE47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AB05-9658-4BCE-B1B3-243BCE5CD10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1FF5-653D-4D2E-AD73-78BD2DD5069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DC9F-40F3-498E-9A8A-C69A82EB54D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FE6C-D813-488F-9717-430A870B7A1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102-C8FA-40DB-B875-823E0B8C961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6E96-1B9B-49BC-8059-C0F3304FBA0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5DBE-7AA8-4C04-9EDB-58398A09EFE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D6C3-FDDC-45DC-AE04-B928ABF3FD1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D0CA-47AE-44BA-B4F6-40F581AFDCD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1F91-8285-46F4-AEB7-46EC6CB03EE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54C-9CED-4D15-A235-ABC06FEB99A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537-8C56-4E26-B7A2-BD9BBBD8C79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935D-1CE9-4C01-84F5-90CF6E3F9B6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3C5F-9D96-47D5-976A-C9E79C60F8D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9B34-D76A-42D3-8155-1E998AB8935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5304-454A-4376-816B-DA8C4DF3CEA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D7F0-075D-444E-90E0-9566A2612DB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60EC-C405-4450-B2A1-F88050C5E98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A999-4427-42CE-81CC-763EF6A69CB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9561-A80C-42EB-BCE9-1517F8F270F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B40F-5FD2-496C-81A1-6EDAC285A23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BE4-BA32-4A47-B3EA-CEE81303497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68E0-6824-4422-B019-8823CAC5ADA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9383-203B-4222-B7BB-CBE7992A855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7920-BA81-41F6-9BC9-7245E887E54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21A0-3944-4177-8EBD-47281311841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1791-25C4-4AD3-A19F-125207671EF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B72-5128-40EA-9B9D-699DFE62162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04B-E09C-4676-9AB6-9C889F73F15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29A-1EBF-41DD-882C-BC386F9E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304-618C-4A1D-87C6-CFEFFF01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85C-D373-47DD-9201-2494CC17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4A8-0A00-4D43-B791-823CDCB2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7DF3-EE20-40E8-9AD4-DBF6B82B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1383-E48D-4E4E-875B-32E4271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16E3-E934-43CA-A556-3875D3FD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963B-B91B-4158-BFFF-353CB2B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CA99-67CB-45C3-80A4-B38D804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7B64-5F3E-490D-9569-E96B8E49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FF1A-048F-43D7-9788-9FF7294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51C-1D5C-4C3C-9137-4243167D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2E64-7A7C-4290-AA59-0AC19F12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1DF3-7E7F-438C-9470-9B6EA52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C0F7-A044-4A45-83D8-92C3D0AB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035B-3790-46F2-982C-93A6BCCF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F284-0BF7-4413-B590-FC0E1883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30E-AFF4-4EE0-88F0-AC13E57E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ECC-25D1-43CE-B378-5876E6A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782-293C-47B7-BDD0-1E36C8E3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73D-D13E-429D-BCE1-F49A7BB1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C20-AEDD-4F32-B001-007D12CA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59F-D7F8-42C7-9665-A4B2DED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A59-F830-4B26-A661-007FA803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49DB-CEDD-42C9-81D3-57B5CEB27774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November 1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CCE0-3800-4E27-A608-0515B3767C9F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9E4-1D5B-457B-8EF8-32DC7DB84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VI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3D77-661F-4EC4-821F-BC690F4187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ree Wa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Keys in the BST can be printed using "tree walk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Keys of each node printed between keys in the left and right subtree –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inroder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ree tra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ints elements in monotonically increas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unning ti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411200" y="3133800"/>
            <a:ext cx="516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orderTreeWalk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IL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orderTreeWalk(left[x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key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InorderTreeWalk(right[x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B9E-66DB-4D2B-B9AC-1A8319631D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ree Walk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TW can be thought of as a projection of the BST nodes onto a one dimensional inter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2417760" y="3051000"/>
          <a:ext cx="4819680" cy="28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3051000"/>
                    <a:ext cx="481968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56AD-DFA8-4A1C-83BE-1C3A30222A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ree Walk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 preorder tree walk processes each node before processing its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 postorder tree walk processes each node after processing its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FE3C-796B-48CD-8A84-D6EADEC4AE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ree Walks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3673440" y="2716200"/>
          <a:ext cx="52754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3440" y="2716200"/>
                    <a:ext cx="52754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4920" y="1476360"/>
            <a:ext cx="4141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printing an arithmetic expression; specialization of an inorder traversal (infix, postfix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print “(“ before traversing the lef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print “)” after traversing the right sub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3B56-EF2F-408E-9828-008E8838AD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earching a B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9520" y="4157280"/>
            <a:ext cx="835812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o find an element with key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in a tree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ompare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with key[root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&lt; key[root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], search for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n left[root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otherwise, search for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n right[root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2133720" y="1635120"/>
          <a:ext cx="4703760" cy="25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35120"/>
                    <a:ext cx="470376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5ED6-CD8E-4D94-A102-3374FF4AC9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ecursiv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Pseudocode for B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411200" y="2028960"/>
            <a:ext cx="5167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arch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[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NIL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key[x]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 &lt; key[x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(left[x]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 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arch(right[x],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411200" y="4441680"/>
            <a:ext cx="5167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arch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[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IL and 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[x]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 &lt; key[x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 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 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ight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6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569880" y="4024440"/>
            <a:ext cx="83581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terative 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DC19-EB9A-4671-A10D-D404883571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earch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earch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1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Object 4"/>
          <p:cNvGraphicFramePr/>
          <p:nvPr/>
        </p:nvGraphicFramePr>
        <p:xfrm>
          <a:off x="1604880" y="2179800"/>
          <a:ext cx="6237360" cy="34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179800"/>
                    <a:ext cx="6237360" cy="34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D721-888F-4B29-A5F5-E02669E8B9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earch Exampl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earch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1582560" y="2062080"/>
          <a:ext cx="618192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2062080"/>
                    <a:ext cx="618192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9C6F-C20C-4A15-A164-3269568C1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Analysis of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Running time on tree of height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fter the insertion of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keys, the worst-case running time of searching is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3043080" y="3321000"/>
          <a:ext cx="3413160" cy="33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3321000"/>
                    <a:ext cx="341316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CFB4-309D-4A63-980B-89DAECC0B5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ST Minimum (Maximum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ind the minimum key in a tree rooted at x (compare to a solution for hea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Running time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, i.e., it is proportional to the height of the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131840" y="2979720"/>
            <a:ext cx="5167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Minimum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left[x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d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5E73-35AB-436E-AFD5-CA00970D3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Binary Search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ree traver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ear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ser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ele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520-AA6E-4EFF-AC29-8132C98A58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uccess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6880" y="1638360"/>
            <a:ext cx="53690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, find the node with the smallest key greater than key[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We can distinguish two cases, depending on the right subtree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as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right subtree of x is non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successor is leftmost node in the right subtree (Wh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this can be done by returning TreeMinimum(right[x]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675320" y="2693880"/>
          <a:ext cx="420048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5320" y="2693880"/>
                    <a:ext cx="420048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2FA-E526-41A4-957F-C8F2A9B678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uccessor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Cas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right subtree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is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uccessor is the lowest ancestor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whose left child is also an ancestor of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2643120" y="3778200"/>
          <a:ext cx="475632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3778200"/>
                    <a:ext cx="475632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B449-B00F-4B92-960E-DA2B2B50BF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For a tree of height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the running time is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Successor Pseudo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960480" y="1832040"/>
            <a:ext cx="7257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Successor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ight[x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eeMinimum(right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x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 and x = right[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 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6  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[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E657-F9BF-471F-A625-69E153CF1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ST Inser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 basic idea is similar to sear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ake an element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(whose left and right children are NIL) and insert it into 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find  place in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where z belongs (that's similar to search…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nd add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t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The running on a tree of height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, i.e., it is proportional to the height of the t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E1B2-B9D1-4D0D-A09D-82D94EEDCB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ST Insertion Pseudo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898560" y="1766880"/>
            <a:ext cx="51674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Inser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[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03 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while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x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04   y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05   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if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key[z] &lt; key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06     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hen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x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left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07     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lse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x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 right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8 p[z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9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oot[T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[z] &lt; key[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 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[y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 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ight[y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A5CE-3AB1-4557-B78E-A1015D9413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ST Insertio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1422360" y="2384280"/>
          <a:ext cx="6383520" cy="28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2384280"/>
                    <a:ext cx="6383520" cy="28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nsert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D73-896B-46F8-B7C9-5B4819CE9F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ST Insertion: Worst C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what kind of sequence should the insertions be made to produce a BST of heigh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2981160" y="3094200"/>
          <a:ext cx="3413160" cy="33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1160" y="3094200"/>
                    <a:ext cx="3413160" cy="33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A5C1-8AB2-467C-88E4-5A78EA825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ST Sor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Use TreeInsert and InorderTreeWalk to sort list of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elements,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276200" y="2895480"/>
            <a:ext cx="516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Sor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ot[T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TreeInsert(T,A[i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orderTreeWalk(root[T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704-EC81-4536-91FD-C295355847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ort the following numbers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5 10 7 1 3 1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uild a binary search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all InorderTree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1 1 3 5 7 8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ST Sort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108080" y="2911320"/>
          <a:ext cx="5040360" cy="19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2911320"/>
                    <a:ext cx="5040360" cy="19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5"/>
          <p:cNvGraphicFramePr/>
          <p:nvPr/>
        </p:nvGraphicFramePr>
        <p:xfrm>
          <a:off x="5165640" y="4210200"/>
          <a:ext cx="2824200" cy="22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65640" y="4210200"/>
                    <a:ext cx="282420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678-697D-4E0D-84B0-530A372F8E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le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Delete node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from a tree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We can distinguish three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has no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has one ch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has two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3B5-7871-4358-8B81-1197E18B94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tio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ictionar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 – a dynamic set with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arch(S, k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query method that returns a pointer x to an element where x.key =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(S,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modifier method that adds the element pointed to by x to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(S,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modifier method that removes the element pointed to by x from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lement has 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ke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and 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satellite dat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63D3-73D9-40C1-AAAA-7C3131B265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letion Cas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has no children – just remove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2932200" y="2238480"/>
          <a:ext cx="327636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2238480"/>
                    <a:ext cx="327636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892-5276-428C-91AE-0CE39183C5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letion Cas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has exactly one child, then to delete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, simply make p[x] point to that ch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670120" y="2806560"/>
          <a:ext cx="3552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2806560"/>
                    <a:ext cx="3552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04CF-5877-4C1A-9E5E-3431CEC771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letion Cas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9878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 has two children, then to delete it we hav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find its successor (or predecessor)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emove y (note that y has at most one child – wh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replace x with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5308560" y="1976400"/>
          <a:ext cx="36352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1976400"/>
                    <a:ext cx="36352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5"/>
          <p:cNvGraphicFramePr/>
          <p:nvPr/>
        </p:nvGraphicFramePr>
        <p:xfrm>
          <a:off x="5186520" y="4383000"/>
          <a:ext cx="363060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6520" y="4383000"/>
                    <a:ext cx="363060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6C9-5634-4962-B5B1-4095D85F44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Delete Pseudo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825480" y="1521000"/>
            <a:ext cx="72579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eeDele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T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ft[z] </a:t>
            </a:r>
            <a:r>
              <a:rPr b="0" lang="da-DK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 or right[z] =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3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reeSuccessor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[y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5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ft[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6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ight[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7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[x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[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9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[y] = N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oot[T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 = left[p[y]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2 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ft[p[y]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3 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ight[p[y]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4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5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ey[z]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key[y] //copy all fileds of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6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DA7C-B15F-4DC4-8457-C6ACCED740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alanced Search Tre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Problem: worst-case execution time for dynamic set operations is </a:t>
            </a:r>
            <a:r>
              <a:rPr b="0" lang="da-DK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Solution: balanced search trees guarantee small heigh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Object 4"/>
          <p:cNvGraphicFramePr/>
          <p:nvPr/>
        </p:nvGraphicFramePr>
        <p:xfrm>
          <a:off x="1550880" y="3946680"/>
          <a:ext cx="620244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3946680"/>
                    <a:ext cx="620244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59E3-CC03-4CAD-A9CC-62843452C7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dered Dictio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addition to dictionary functionality, we want to support priority-queue-type oper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n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x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Partial-order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supported by priority-queues is not enough. We want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decessor(S, 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ccessor(S, 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139-E8A4-4468-94A7-50570F2093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A List-Base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Unordered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earching take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serting take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1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Ordered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searching take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inserting takes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n)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Using array would definitely improve search tim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4043520" y="1558800"/>
          <a:ext cx="454320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3520" y="1558800"/>
                    <a:ext cx="4543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5"/>
          <p:cNvGraphicFramePr/>
          <p:nvPr/>
        </p:nvGraphicFramePr>
        <p:xfrm>
          <a:off x="4119480" y="3417840"/>
          <a:ext cx="454356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9480" y="3417840"/>
                    <a:ext cx="45435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0587-DE2D-4E02-9349-3A6F1DA59C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inar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Narrow down the search range in s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findElement(2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598760" y="2844720"/>
          <a:ext cx="599256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2844720"/>
                    <a:ext cx="599256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63DB-B114-4038-9BD7-0DD8DCE51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Running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range of candidate items to be searched is halved after comparing the key with the middle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Binary search runs in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(lg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) time (remember recurrence..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60680" y="4314960"/>
          <a:ext cx="6476760" cy="1852560"/>
        </p:xfrm>
        <a:graphic>
          <a:graphicData uri="http://schemas.openxmlformats.org/drawingml/2006/table">
            <a:tbl>
              <a:tblPr/>
              <a:tblGrid>
                <a:gridCol w="3035160"/>
                <a:gridCol w="344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isons perform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 of array range to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2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BD99-64E3-47BE-9071-ECA44AAE94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Binary Search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binary search tree is a binary tree T such t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ach internal node stores an item (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 of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ction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eys stored at nodes in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eft subtre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les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an or equal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ys stored at nodes in th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ight subtre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reater than or equal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sequence 2,3,5,5,7,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1932120" y="4557600"/>
          <a:ext cx="620208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2120" y="4557600"/>
                    <a:ext cx="62020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vember 1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7C15-152D-4629-BD39-10626AA89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ode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4721400" y="1360440"/>
          <a:ext cx="42591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1360440"/>
                    <a:ext cx="4259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9880" y="1353600"/>
            <a:ext cx="4534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node in the tree cont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– ke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– pointer to left ch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– pt. to right chi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 – pt. to paren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11:40Z</dcterms:modified>
  <cp:revision>69</cp:revision>
  <dc:subject/>
  <dc:title>Algorithms and Data Structures</dc:title>
</cp:coreProperties>
</file>