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DDB-E30B-4C07-9976-19282526493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3762-2319-4C7F-A17F-E3D2043A090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388-4D1C-4D1F-8AA4-D94BCCB32F8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238E-03AB-41DB-A65D-8F0D5529BB3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FC1A-734E-4946-BD8C-1480A4AA60E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B1BF-1EC8-488E-A911-4573A6777A0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92F-EDE4-4F04-87A7-56DD5CA8C94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278-47E0-4CFC-9303-F99E9162C0B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70F0-6B5B-487F-9873-414BF3D9523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C445-4898-4C55-BD5B-9BA75E5DC6A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CFD5-0BCE-4E63-961B-5F7D7C96564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2CC-7B7F-4C58-B808-400518D4F5D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F58-7E41-4F87-9635-27467614C16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F939-8B7A-4844-9403-FD0AD0F7783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D16C-8BDB-4184-833C-FE0C187A247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189F-792F-4B0C-B4FE-6AEADCD6822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5D0A-6108-41D2-8FD1-286A429C9F2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F6C3-BA74-4E32-8D6C-4D4DD385679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ECA-4A61-4100-8E5E-429FBBFB08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965-D01B-4E67-B6BE-A6136DDA028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9B0-B3F7-4C7C-B9E0-8BECDE33810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F394-43B4-45DB-8CD0-F47D2B531D2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CDB-F60B-4C23-81FB-FA94B203937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AEAB-6F3D-45C1-A5CD-5C729FA5A51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8B68-0A21-462F-B9F6-3BE07718C67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EFE-8C16-46E1-8499-436E14A8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AC-6DD0-4609-9686-D8D8EC0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89A-4F10-4E16-8F4E-6E79D381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17A-3CE6-42A9-AAE1-2415FC7D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292-D893-4A4F-B503-F84E28F9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50D5-9278-4D82-8620-3E3BC535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8CAB-EF5D-4E7E-A9C8-8234A571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21B-1F7A-4FC8-89DB-E07C514F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6781-69C1-4A65-87F1-45419414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169-FB3E-48A2-AB7D-DA43D4C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8F1-1AB2-4642-AB44-C2AD05E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44C-312A-4402-9DA6-CA4F5DBE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B92-C274-4721-8792-FD79964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EF7B-C291-4893-B80E-F932489D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435-10F4-40CB-B3B3-D5886F19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67F-39A1-4624-87CE-102270FC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34F2-69FF-45D9-96D8-DF6744AB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3BB-84A0-4045-BB22-041DF39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C47-A7A5-4765-A7DB-FEA92B90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599-4A3E-4B8A-B9DE-DAC829C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26C-F0FF-470E-BC8E-A6D4A0A8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6CE-1F88-42CA-994D-CD4E0B4A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C7D-9D59-43E6-8D21-7552CAB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D95-51C0-4BF3-8F1D-0A8B003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F2D-1AE3-4758-98D0-FF90507E8012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26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EC4C-BED3-4C3E-8F05-AC301E9B4A84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8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7241-39AA-4843-A7B7-1EC57916F1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XII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268-DBB8-41E3-9C18-2EB0036898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295280" y="5162400"/>
            <a:ext cx="5715000" cy="990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’s Pseudo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aph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weight function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root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Object 5"/>
          <p:cNvGraphicFramePr/>
          <p:nvPr/>
        </p:nvGraphicFramePr>
        <p:xfrm>
          <a:off x="1332000" y="2419200"/>
          <a:ext cx="54864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19200"/>
                    <a:ext cx="54864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6"/>
          <p:cNvSpPr/>
          <p:nvPr/>
        </p:nvSpPr>
        <p:spPr>
          <a:xfrm>
            <a:off x="7238880" y="522936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relaxing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21B6-0217-45C9-8AD3-341956A81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’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" name="Group 126"/>
          <p:cNvGrpSpPr/>
          <p:nvPr/>
        </p:nvGrpSpPr>
        <p:grpSpPr>
          <a:xfrm>
            <a:off x="914400" y="1295280"/>
            <a:ext cx="3124080" cy="2380320"/>
            <a:chOff x="914400" y="1295280"/>
            <a:chExt cx="3124080" cy="2380320"/>
          </a:xfrm>
        </p:grpSpPr>
        <p:sp>
          <p:nvSpPr>
            <p:cNvPr id="189" name="Oval 3"/>
            <p:cNvSpPr/>
            <p:nvPr/>
          </p:nvSpPr>
          <p:spPr>
            <a:xfrm>
              <a:off x="2133720" y="16765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3352680" y="16765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5"/>
            <p:cNvSpPr/>
            <p:nvPr/>
          </p:nvSpPr>
          <p:spPr>
            <a:xfrm>
              <a:off x="21337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6"/>
            <p:cNvSpPr/>
            <p:nvPr/>
          </p:nvSpPr>
          <p:spPr>
            <a:xfrm>
              <a:off x="335268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7"/>
            <p:cNvSpPr/>
            <p:nvPr/>
          </p:nvSpPr>
          <p:spPr>
            <a:xfrm>
              <a:off x="1219320" y="228600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" name="AutoShape 8"/>
            <p:cNvCxnSpPr>
              <a:stCxn id="191" idx="7"/>
              <a:endCxn id="189" idx="5"/>
            </p:cNvCxnSpPr>
            <p:nvPr/>
          </p:nvCxnSpPr>
          <p:spPr>
            <a:xfrm flipV="1">
              <a:off x="2523600" y="206640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95" name="AutoShape 9"/>
            <p:cNvCxnSpPr>
              <a:stCxn id="189" idx="3"/>
              <a:endCxn id="191" idx="1"/>
            </p:cNvCxnSpPr>
            <p:nvPr/>
          </p:nvCxnSpPr>
          <p:spPr>
            <a:xfrm flipH="1">
              <a:off x="2199600" y="206676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96" name="AutoShape 10"/>
            <p:cNvCxnSpPr>
              <a:stCxn id="189" idx="6"/>
              <a:endCxn id="190" idx="2"/>
            </p:cNvCxnSpPr>
            <p:nvPr/>
          </p:nvCxnSpPr>
          <p:spPr>
            <a:xfrm>
              <a:off x="2590920" y="19047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97" name="AutoShape 11"/>
            <p:cNvCxnSpPr>
              <a:stCxn id="191" idx="7"/>
              <a:endCxn id="190" idx="3"/>
            </p:cNvCxnSpPr>
            <p:nvPr/>
          </p:nvCxnSpPr>
          <p:spPr>
            <a:xfrm flipV="1">
              <a:off x="2523960" y="2066400"/>
              <a:ext cx="89640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98" name="AutoShape 12"/>
            <p:cNvCxnSpPr>
              <a:stCxn id="190" idx="3"/>
              <a:endCxn id="192" idx="1"/>
            </p:cNvCxnSpPr>
            <p:nvPr/>
          </p:nvCxnSpPr>
          <p:spPr>
            <a:xfrm>
              <a:off x="3419280" y="206676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99" name="AutoShape 13"/>
            <p:cNvCxnSpPr>
              <a:stCxn id="192" idx="7"/>
              <a:endCxn id="190" idx="5"/>
            </p:cNvCxnSpPr>
            <p:nvPr/>
          </p:nvCxnSpPr>
          <p:spPr>
            <a:xfrm flipV="1">
              <a:off x="3742920" y="206640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00" name="AutoShape 14"/>
            <p:cNvCxnSpPr>
              <a:stCxn id="191" idx="6"/>
              <a:endCxn id="192" idx="2"/>
            </p:cNvCxnSpPr>
            <p:nvPr/>
          </p:nvCxnSpPr>
          <p:spPr>
            <a:xfrm>
              <a:off x="2590920" y="312372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01" name="AutoShape 15"/>
            <p:cNvCxnSpPr>
              <a:stCxn id="192" idx="1"/>
              <a:endCxn id="193" idx="6"/>
            </p:cNvCxnSpPr>
            <p:nvPr/>
          </p:nvCxnSpPr>
          <p:spPr>
            <a:xfrm flipH="1" flipV="1">
              <a:off x="1676160" y="2514240"/>
              <a:ext cx="174384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02" name="AutoShape 16"/>
            <p:cNvCxnSpPr>
              <a:stCxn id="193" idx="5"/>
              <a:endCxn id="191" idx="2"/>
            </p:cNvCxnSpPr>
            <p:nvPr/>
          </p:nvCxnSpPr>
          <p:spPr>
            <a:xfrm>
              <a:off x="1609560" y="2676240"/>
              <a:ext cx="52488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03" name="AutoShape 17"/>
            <p:cNvCxnSpPr>
              <a:stCxn id="193" idx="7"/>
              <a:endCxn id="189" idx="2"/>
            </p:cNvCxnSpPr>
            <p:nvPr/>
          </p:nvCxnSpPr>
          <p:spPr>
            <a:xfrm flipV="1">
              <a:off x="1609560" y="1904400"/>
              <a:ext cx="52488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204" name="Text Box 18"/>
            <p:cNvSpPr/>
            <p:nvPr/>
          </p:nvSpPr>
          <p:spPr>
            <a:xfrm>
              <a:off x="914400" y="2286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9"/>
            <p:cNvSpPr/>
            <p:nvPr/>
          </p:nvSpPr>
          <p:spPr>
            <a:xfrm>
              <a:off x="2209680" y="1295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429000" y="1295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3429000" y="327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2209680" y="327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1523880" y="1752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1523880" y="274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25"/>
            <p:cNvSpPr/>
            <p:nvPr/>
          </p:nvSpPr>
          <p:spPr>
            <a:xfrm>
              <a:off x="2743200" y="1523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1905120" y="2209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25146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8"/>
            <p:cNvSpPr/>
            <p:nvPr/>
          </p:nvSpPr>
          <p:spPr>
            <a:xfrm>
              <a:off x="2895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29"/>
            <p:cNvSpPr/>
            <p:nvPr/>
          </p:nvSpPr>
          <p:spPr>
            <a:xfrm>
              <a:off x="3124080" y="2362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0"/>
            <p:cNvSpPr/>
            <p:nvPr/>
          </p:nvSpPr>
          <p:spPr>
            <a:xfrm>
              <a:off x="3733920" y="2362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1"/>
            <p:cNvSpPr/>
            <p:nvPr/>
          </p:nvSpPr>
          <p:spPr>
            <a:xfrm>
              <a:off x="2819520" y="25146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32"/>
            <p:cNvSpPr/>
            <p:nvPr/>
          </p:nvSpPr>
          <p:spPr>
            <a:xfrm>
              <a:off x="2819520" y="3048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127"/>
          <p:cNvGrpSpPr/>
          <p:nvPr/>
        </p:nvGrpSpPr>
        <p:grpSpPr>
          <a:xfrm>
            <a:off x="4800600" y="1295280"/>
            <a:ext cx="3124080" cy="2380320"/>
            <a:chOff x="4800600" y="1295280"/>
            <a:chExt cx="3124080" cy="2380320"/>
          </a:xfrm>
        </p:grpSpPr>
        <p:sp>
          <p:nvSpPr>
            <p:cNvPr id="220" name="Oval 34"/>
            <p:cNvSpPr/>
            <p:nvPr/>
          </p:nvSpPr>
          <p:spPr>
            <a:xfrm>
              <a:off x="6019920" y="16765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35"/>
            <p:cNvSpPr/>
            <p:nvPr/>
          </p:nvSpPr>
          <p:spPr>
            <a:xfrm>
              <a:off x="7238880" y="16765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36"/>
            <p:cNvSpPr/>
            <p:nvPr/>
          </p:nvSpPr>
          <p:spPr>
            <a:xfrm>
              <a:off x="6019920" y="28954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37"/>
            <p:cNvSpPr/>
            <p:nvPr/>
          </p:nvSpPr>
          <p:spPr>
            <a:xfrm>
              <a:off x="723888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5105520" y="22860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5" name="AutoShape 39"/>
            <p:cNvCxnSpPr>
              <a:stCxn id="222" idx="7"/>
              <a:endCxn id="220" idx="5"/>
            </p:cNvCxnSpPr>
            <p:nvPr/>
          </p:nvCxnSpPr>
          <p:spPr>
            <a:xfrm flipV="1">
              <a:off x="6409800" y="206640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26" name="AutoShape 40"/>
            <p:cNvCxnSpPr>
              <a:stCxn id="220" idx="3"/>
              <a:endCxn id="222" idx="1"/>
            </p:cNvCxnSpPr>
            <p:nvPr/>
          </p:nvCxnSpPr>
          <p:spPr>
            <a:xfrm flipH="1">
              <a:off x="6085800" y="206676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27" name="AutoShape 41"/>
            <p:cNvCxnSpPr>
              <a:stCxn id="220" idx="6"/>
              <a:endCxn id="221" idx="2"/>
            </p:cNvCxnSpPr>
            <p:nvPr/>
          </p:nvCxnSpPr>
          <p:spPr>
            <a:xfrm>
              <a:off x="6477120" y="19047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28" name="AutoShape 42"/>
            <p:cNvCxnSpPr>
              <a:stCxn id="222" idx="7"/>
              <a:endCxn id="221" idx="3"/>
            </p:cNvCxnSpPr>
            <p:nvPr/>
          </p:nvCxnSpPr>
          <p:spPr>
            <a:xfrm flipV="1">
              <a:off x="6410160" y="2066400"/>
              <a:ext cx="89640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29" name="AutoShape 43"/>
            <p:cNvCxnSpPr>
              <a:stCxn id="221" idx="3"/>
              <a:endCxn id="223" idx="1"/>
            </p:cNvCxnSpPr>
            <p:nvPr/>
          </p:nvCxnSpPr>
          <p:spPr>
            <a:xfrm>
              <a:off x="7305480" y="206676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30" name="AutoShape 44"/>
            <p:cNvCxnSpPr>
              <a:stCxn id="223" idx="7"/>
              <a:endCxn id="221" idx="5"/>
            </p:cNvCxnSpPr>
            <p:nvPr/>
          </p:nvCxnSpPr>
          <p:spPr>
            <a:xfrm flipV="1">
              <a:off x="7629120" y="2066400"/>
              <a:ext cx="1080" cy="896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31" name="AutoShape 45"/>
            <p:cNvCxnSpPr>
              <a:stCxn id="222" idx="6"/>
              <a:endCxn id="223" idx="2"/>
            </p:cNvCxnSpPr>
            <p:nvPr/>
          </p:nvCxnSpPr>
          <p:spPr>
            <a:xfrm>
              <a:off x="6477120" y="312372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32" name="AutoShape 46"/>
            <p:cNvCxnSpPr>
              <a:stCxn id="223" idx="1"/>
              <a:endCxn id="224" idx="6"/>
            </p:cNvCxnSpPr>
            <p:nvPr/>
          </p:nvCxnSpPr>
          <p:spPr>
            <a:xfrm flipH="1" flipV="1">
              <a:off x="5562360" y="2514240"/>
              <a:ext cx="174384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33" name="AutoShape 47"/>
            <p:cNvCxnSpPr>
              <a:stCxn id="224" idx="5"/>
              <a:endCxn id="222" idx="2"/>
            </p:cNvCxnSpPr>
            <p:nvPr/>
          </p:nvCxnSpPr>
          <p:spPr>
            <a:xfrm>
              <a:off x="5495760" y="2676240"/>
              <a:ext cx="524880" cy="44820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34" name="AutoShape 48"/>
            <p:cNvCxnSpPr>
              <a:stCxn id="224" idx="7"/>
              <a:endCxn id="220" idx="2"/>
            </p:cNvCxnSpPr>
            <p:nvPr/>
          </p:nvCxnSpPr>
          <p:spPr>
            <a:xfrm flipV="1">
              <a:off x="5495760" y="1904400"/>
              <a:ext cx="524880" cy="44820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sp>
          <p:nvSpPr>
            <p:cNvPr id="235" name="Text Box 49"/>
            <p:cNvSpPr/>
            <p:nvPr/>
          </p:nvSpPr>
          <p:spPr>
            <a:xfrm>
              <a:off x="4800600" y="2286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50"/>
            <p:cNvSpPr/>
            <p:nvPr/>
          </p:nvSpPr>
          <p:spPr>
            <a:xfrm>
              <a:off x="6095880" y="1295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51"/>
            <p:cNvSpPr/>
            <p:nvPr/>
          </p:nvSpPr>
          <p:spPr>
            <a:xfrm>
              <a:off x="7315200" y="1295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52"/>
            <p:cNvSpPr/>
            <p:nvPr/>
          </p:nvSpPr>
          <p:spPr>
            <a:xfrm>
              <a:off x="7315200" y="327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53"/>
            <p:cNvSpPr/>
            <p:nvPr/>
          </p:nvSpPr>
          <p:spPr>
            <a:xfrm>
              <a:off x="6095880" y="3276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54"/>
            <p:cNvSpPr/>
            <p:nvPr/>
          </p:nvSpPr>
          <p:spPr>
            <a:xfrm>
              <a:off x="5410080" y="1752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5"/>
            <p:cNvSpPr/>
            <p:nvPr/>
          </p:nvSpPr>
          <p:spPr>
            <a:xfrm>
              <a:off x="5410080" y="274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6"/>
            <p:cNvSpPr/>
            <p:nvPr/>
          </p:nvSpPr>
          <p:spPr>
            <a:xfrm>
              <a:off x="6629400" y="1523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7"/>
            <p:cNvSpPr/>
            <p:nvPr/>
          </p:nvSpPr>
          <p:spPr>
            <a:xfrm>
              <a:off x="5791320" y="2209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6400800" y="22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9"/>
            <p:cNvSpPr/>
            <p:nvPr/>
          </p:nvSpPr>
          <p:spPr>
            <a:xfrm>
              <a:off x="67816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7010280" y="2362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1"/>
            <p:cNvSpPr/>
            <p:nvPr/>
          </p:nvSpPr>
          <p:spPr>
            <a:xfrm>
              <a:off x="7620120" y="2362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2"/>
            <p:cNvSpPr/>
            <p:nvPr/>
          </p:nvSpPr>
          <p:spPr>
            <a:xfrm>
              <a:off x="6705720" y="25146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705720" y="3048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Text Box 81"/>
          <p:cNvSpPr/>
          <p:nvPr/>
        </p:nvSpPr>
        <p:spPr>
          <a:xfrm>
            <a:off x="2286000" y="3733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2"/>
          <p:cNvSpPr/>
          <p:nvPr/>
        </p:nvSpPr>
        <p:spPr>
          <a:xfrm>
            <a:off x="3505320" y="37339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128"/>
          <p:cNvGrpSpPr/>
          <p:nvPr/>
        </p:nvGrpSpPr>
        <p:grpSpPr>
          <a:xfrm>
            <a:off x="990720" y="3962520"/>
            <a:ext cx="3124080" cy="2151360"/>
            <a:chOff x="990720" y="3962520"/>
            <a:chExt cx="3124080" cy="2151360"/>
          </a:xfrm>
        </p:grpSpPr>
        <p:sp>
          <p:nvSpPr>
            <p:cNvPr id="253" name="Oval 65"/>
            <p:cNvSpPr/>
            <p:nvPr/>
          </p:nvSpPr>
          <p:spPr>
            <a:xfrm>
              <a:off x="2209680" y="4114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66"/>
            <p:cNvSpPr/>
            <p:nvPr/>
          </p:nvSpPr>
          <p:spPr>
            <a:xfrm>
              <a:off x="3429000" y="4114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67"/>
            <p:cNvSpPr/>
            <p:nvPr/>
          </p:nvSpPr>
          <p:spPr>
            <a:xfrm>
              <a:off x="2209680" y="53341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68"/>
            <p:cNvSpPr/>
            <p:nvPr/>
          </p:nvSpPr>
          <p:spPr>
            <a:xfrm>
              <a:off x="3429000" y="53341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69"/>
            <p:cNvSpPr/>
            <p:nvPr/>
          </p:nvSpPr>
          <p:spPr>
            <a:xfrm>
              <a:off x="1295280" y="4724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AutoShape 70"/>
            <p:cNvCxnSpPr>
              <a:stCxn id="255" idx="7"/>
              <a:endCxn id="253" idx="5"/>
            </p:cNvCxnSpPr>
            <p:nvPr/>
          </p:nvCxnSpPr>
          <p:spPr>
            <a:xfrm flipV="1">
              <a:off x="2599920" y="4504680"/>
              <a:ext cx="1080" cy="8960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59" name="AutoShape 71"/>
            <p:cNvCxnSpPr>
              <a:stCxn id="253" idx="3"/>
              <a:endCxn id="255" idx="1"/>
            </p:cNvCxnSpPr>
            <p:nvPr/>
          </p:nvCxnSpPr>
          <p:spPr>
            <a:xfrm flipH="1">
              <a:off x="2275920" y="450504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0" name="AutoShape 72"/>
            <p:cNvCxnSpPr>
              <a:stCxn id="253" idx="6"/>
              <a:endCxn id="254" idx="2"/>
            </p:cNvCxnSpPr>
            <p:nvPr/>
          </p:nvCxnSpPr>
          <p:spPr>
            <a:xfrm>
              <a:off x="2666520" y="434304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1" name="AutoShape 73"/>
            <p:cNvCxnSpPr>
              <a:stCxn id="255" idx="7"/>
              <a:endCxn id="254" idx="3"/>
            </p:cNvCxnSpPr>
            <p:nvPr/>
          </p:nvCxnSpPr>
          <p:spPr>
            <a:xfrm flipV="1">
              <a:off x="2599920" y="4504680"/>
              <a:ext cx="896040" cy="8960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62" name="AutoShape 74"/>
            <p:cNvCxnSpPr>
              <a:stCxn id="254" idx="3"/>
              <a:endCxn id="256" idx="1"/>
            </p:cNvCxnSpPr>
            <p:nvPr/>
          </p:nvCxnSpPr>
          <p:spPr>
            <a:xfrm>
              <a:off x="3495240" y="450504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3" name="AutoShape 75"/>
            <p:cNvCxnSpPr>
              <a:stCxn id="256" idx="7"/>
              <a:endCxn id="254" idx="5"/>
            </p:cNvCxnSpPr>
            <p:nvPr/>
          </p:nvCxnSpPr>
          <p:spPr>
            <a:xfrm flipV="1">
              <a:off x="3819240" y="450468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4" name="AutoShape 76"/>
            <p:cNvCxnSpPr>
              <a:stCxn id="255" idx="6"/>
              <a:endCxn id="256" idx="2"/>
            </p:cNvCxnSpPr>
            <p:nvPr/>
          </p:nvCxnSpPr>
          <p:spPr>
            <a:xfrm>
              <a:off x="2666520" y="5562360"/>
              <a:ext cx="7628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65" name="AutoShape 77"/>
            <p:cNvCxnSpPr>
              <a:stCxn id="256" idx="1"/>
              <a:endCxn id="257" idx="6"/>
            </p:cNvCxnSpPr>
            <p:nvPr/>
          </p:nvCxnSpPr>
          <p:spPr>
            <a:xfrm flipH="1" flipV="1">
              <a:off x="1752120" y="4952520"/>
              <a:ext cx="174384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6" name="AutoShape 78"/>
            <p:cNvCxnSpPr>
              <a:stCxn id="257" idx="5"/>
              <a:endCxn id="255" idx="2"/>
            </p:cNvCxnSpPr>
            <p:nvPr/>
          </p:nvCxnSpPr>
          <p:spPr>
            <a:xfrm>
              <a:off x="1685520" y="5114880"/>
              <a:ext cx="524160" cy="44856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67" name="AutoShape 79"/>
            <p:cNvCxnSpPr>
              <a:stCxn id="257" idx="7"/>
              <a:endCxn id="253" idx="2"/>
            </p:cNvCxnSpPr>
            <p:nvPr/>
          </p:nvCxnSpPr>
          <p:spPr>
            <a:xfrm flipV="1">
              <a:off x="1685520" y="4343040"/>
              <a:ext cx="52416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268" name="Text Box 80"/>
            <p:cNvSpPr/>
            <p:nvPr/>
          </p:nvSpPr>
          <p:spPr>
            <a:xfrm>
              <a:off x="990720" y="4724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83"/>
            <p:cNvSpPr/>
            <p:nvPr/>
          </p:nvSpPr>
          <p:spPr>
            <a:xfrm>
              <a:off x="3505320" y="5715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84"/>
            <p:cNvSpPr/>
            <p:nvPr/>
          </p:nvSpPr>
          <p:spPr>
            <a:xfrm>
              <a:off x="2286000" y="5715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5"/>
            <p:cNvSpPr/>
            <p:nvPr/>
          </p:nvSpPr>
          <p:spPr>
            <a:xfrm>
              <a:off x="16002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86"/>
            <p:cNvSpPr/>
            <p:nvPr/>
          </p:nvSpPr>
          <p:spPr>
            <a:xfrm>
              <a:off x="1600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87"/>
            <p:cNvSpPr/>
            <p:nvPr/>
          </p:nvSpPr>
          <p:spPr>
            <a:xfrm>
              <a:off x="2819520" y="3962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88"/>
            <p:cNvSpPr/>
            <p:nvPr/>
          </p:nvSpPr>
          <p:spPr>
            <a:xfrm>
              <a:off x="198108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89"/>
            <p:cNvSpPr/>
            <p:nvPr/>
          </p:nvSpPr>
          <p:spPr>
            <a:xfrm>
              <a:off x="2590920" y="46483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2971800" y="4495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91"/>
            <p:cNvSpPr/>
            <p:nvPr/>
          </p:nvSpPr>
          <p:spPr>
            <a:xfrm>
              <a:off x="320040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92"/>
            <p:cNvSpPr/>
            <p:nvPr/>
          </p:nvSpPr>
          <p:spPr>
            <a:xfrm>
              <a:off x="380988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93"/>
            <p:cNvSpPr/>
            <p:nvPr/>
          </p:nvSpPr>
          <p:spPr>
            <a:xfrm>
              <a:off x="2895480" y="4952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94"/>
            <p:cNvSpPr/>
            <p:nvPr/>
          </p:nvSpPr>
          <p:spPr>
            <a:xfrm>
              <a:off x="2895480" y="5486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29"/>
          <p:cNvGrpSpPr/>
          <p:nvPr/>
        </p:nvGrpSpPr>
        <p:grpSpPr>
          <a:xfrm>
            <a:off x="4800600" y="3657600"/>
            <a:ext cx="3124080" cy="2379960"/>
            <a:chOff x="4800600" y="3657600"/>
            <a:chExt cx="3124080" cy="2379960"/>
          </a:xfrm>
        </p:grpSpPr>
        <p:sp>
          <p:nvSpPr>
            <p:cNvPr id="282" name="Oval 96"/>
            <p:cNvSpPr/>
            <p:nvPr/>
          </p:nvSpPr>
          <p:spPr>
            <a:xfrm>
              <a:off x="6019920" y="40384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97"/>
            <p:cNvSpPr/>
            <p:nvPr/>
          </p:nvSpPr>
          <p:spPr>
            <a:xfrm>
              <a:off x="7238880" y="4038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98"/>
            <p:cNvSpPr/>
            <p:nvPr/>
          </p:nvSpPr>
          <p:spPr>
            <a:xfrm>
              <a:off x="6019920" y="5257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99"/>
            <p:cNvSpPr/>
            <p:nvPr/>
          </p:nvSpPr>
          <p:spPr>
            <a:xfrm>
              <a:off x="7238880" y="5257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100"/>
            <p:cNvSpPr/>
            <p:nvPr/>
          </p:nvSpPr>
          <p:spPr>
            <a:xfrm>
              <a:off x="5105520" y="4648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AutoShape 101"/>
            <p:cNvCxnSpPr>
              <a:stCxn id="284" idx="7"/>
              <a:endCxn id="282" idx="5"/>
            </p:cNvCxnSpPr>
            <p:nvPr/>
          </p:nvCxnSpPr>
          <p:spPr>
            <a:xfrm flipV="1">
              <a:off x="6409800" y="4428360"/>
              <a:ext cx="1080" cy="8960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88" name="AutoShape 102"/>
            <p:cNvCxnSpPr>
              <a:stCxn id="282" idx="3"/>
              <a:endCxn id="284" idx="1"/>
            </p:cNvCxnSpPr>
            <p:nvPr/>
          </p:nvCxnSpPr>
          <p:spPr>
            <a:xfrm flipH="1">
              <a:off x="6085800" y="442872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89" name="AutoShape 103"/>
            <p:cNvCxnSpPr>
              <a:stCxn id="282" idx="6"/>
              <a:endCxn id="283" idx="2"/>
            </p:cNvCxnSpPr>
            <p:nvPr/>
          </p:nvCxnSpPr>
          <p:spPr>
            <a:xfrm>
              <a:off x="6477120" y="426672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90" name="AutoShape 104"/>
            <p:cNvCxnSpPr>
              <a:stCxn id="284" idx="7"/>
              <a:endCxn id="283" idx="3"/>
            </p:cNvCxnSpPr>
            <p:nvPr/>
          </p:nvCxnSpPr>
          <p:spPr>
            <a:xfrm flipV="1">
              <a:off x="6410160" y="4428360"/>
              <a:ext cx="89640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91" name="AutoShape 105"/>
            <p:cNvCxnSpPr>
              <a:stCxn id="283" idx="3"/>
              <a:endCxn id="285" idx="1"/>
            </p:cNvCxnSpPr>
            <p:nvPr/>
          </p:nvCxnSpPr>
          <p:spPr>
            <a:xfrm>
              <a:off x="7305480" y="442872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92" name="AutoShape 106"/>
            <p:cNvCxnSpPr>
              <a:stCxn id="285" idx="7"/>
              <a:endCxn id="283" idx="5"/>
            </p:cNvCxnSpPr>
            <p:nvPr/>
          </p:nvCxnSpPr>
          <p:spPr>
            <a:xfrm flipV="1">
              <a:off x="7629120" y="4428360"/>
              <a:ext cx="1080" cy="8960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93" name="AutoShape 107"/>
            <p:cNvCxnSpPr>
              <a:stCxn id="284" idx="6"/>
              <a:endCxn id="285" idx="2"/>
            </p:cNvCxnSpPr>
            <p:nvPr/>
          </p:nvCxnSpPr>
          <p:spPr>
            <a:xfrm>
              <a:off x="6477120" y="5486040"/>
              <a:ext cx="76248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94" name="AutoShape 108"/>
            <p:cNvCxnSpPr>
              <a:stCxn id="285" idx="1"/>
              <a:endCxn id="286" idx="6"/>
            </p:cNvCxnSpPr>
            <p:nvPr/>
          </p:nvCxnSpPr>
          <p:spPr>
            <a:xfrm flipH="1" flipV="1">
              <a:off x="5562360" y="4876200"/>
              <a:ext cx="174384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95" name="AutoShape 109"/>
            <p:cNvCxnSpPr>
              <a:stCxn id="286" idx="5"/>
              <a:endCxn id="284" idx="2"/>
            </p:cNvCxnSpPr>
            <p:nvPr/>
          </p:nvCxnSpPr>
          <p:spPr>
            <a:xfrm>
              <a:off x="5495760" y="5038560"/>
              <a:ext cx="524880" cy="44856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296" name="AutoShape 110"/>
            <p:cNvCxnSpPr>
              <a:stCxn id="286" idx="7"/>
              <a:endCxn id="282" idx="2"/>
            </p:cNvCxnSpPr>
            <p:nvPr/>
          </p:nvCxnSpPr>
          <p:spPr>
            <a:xfrm flipV="1">
              <a:off x="5495760" y="4266720"/>
              <a:ext cx="52488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297" name="Text Box 111"/>
            <p:cNvSpPr/>
            <p:nvPr/>
          </p:nvSpPr>
          <p:spPr>
            <a:xfrm>
              <a:off x="4800600" y="4648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112"/>
            <p:cNvSpPr/>
            <p:nvPr/>
          </p:nvSpPr>
          <p:spPr>
            <a:xfrm>
              <a:off x="609588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13"/>
            <p:cNvSpPr/>
            <p:nvPr/>
          </p:nvSpPr>
          <p:spPr>
            <a:xfrm>
              <a:off x="7315200" y="3657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14"/>
            <p:cNvSpPr/>
            <p:nvPr/>
          </p:nvSpPr>
          <p:spPr>
            <a:xfrm>
              <a:off x="7315200" y="5638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115"/>
            <p:cNvSpPr/>
            <p:nvPr/>
          </p:nvSpPr>
          <p:spPr>
            <a:xfrm>
              <a:off x="6095880" y="5638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16"/>
            <p:cNvSpPr/>
            <p:nvPr/>
          </p:nvSpPr>
          <p:spPr>
            <a:xfrm>
              <a:off x="5410080" y="4114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17"/>
            <p:cNvSpPr/>
            <p:nvPr/>
          </p:nvSpPr>
          <p:spPr>
            <a:xfrm>
              <a:off x="5410080" y="5105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18"/>
            <p:cNvSpPr/>
            <p:nvPr/>
          </p:nvSpPr>
          <p:spPr>
            <a:xfrm>
              <a:off x="6629400" y="3886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19"/>
            <p:cNvSpPr/>
            <p:nvPr/>
          </p:nvSpPr>
          <p:spPr>
            <a:xfrm>
              <a:off x="5791320" y="4572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20"/>
            <p:cNvSpPr/>
            <p:nvPr/>
          </p:nvSpPr>
          <p:spPr>
            <a:xfrm>
              <a:off x="6400800" y="4572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21"/>
            <p:cNvSpPr/>
            <p:nvPr/>
          </p:nvSpPr>
          <p:spPr>
            <a:xfrm>
              <a:off x="6781680" y="4419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22"/>
            <p:cNvSpPr/>
            <p:nvPr/>
          </p:nvSpPr>
          <p:spPr>
            <a:xfrm>
              <a:off x="7010280" y="4724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3"/>
            <p:cNvSpPr/>
            <p:nvPr/>
          </p:nvSpPr>
          <p:spPr>
            <a:xfrm>
              <a:off x="7620120" y="4724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124"/>
            <p:cNvSpPr/>
            <p:nvPr/>
          </p:nvSpPr>
          <p:spPr>
            <a:xfrm>
              <a:off x="6705720" y="4876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25"/>
            <p:cNvSpPr/>
            <p:nvPr/>
          </p:nvSpPr>
          <p:spPr>
            <a:xfrm>
              <a:off x="6705720" y="54100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B517-C1D1-4679-8F9E-DD7DC98A50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Obser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relaxation step (lines 10-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etting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updates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(needs Decrease-K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imilar to Prim's MST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’s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Oval 4"/>
          <p:cNvSpPr/>
          <p:nvPr/>
        </p:nvSpPr>
        <p:spPr>
          <a:xfrm>
            <a:off x="2057400" y="175248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3276720" y="1752480"/>
            <a:ext cx="457200" cy="4572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2057400" y="297180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3276720" y="297180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8"/>
          <p:cNvSpPr/>
          <p:nvPr/>
        </p:nvSpPr>
        <p:spPr>
          <a:xfrm>
            <a:off x="1143000" y="2362320"/>
            <a:ext cx="457200" cy="457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AutoShape 9"/>
          <p:cNvCxnSpPr>
            <a:stCxn id="318" idx="7"/>
            <a:endCxn id="316" idx="5"/>
          </p:cNvCxnSpPr>
          <p:nvPr/>
        </p:nvCxnSpPr>
        <p:spPr>
          <a:xfrm flipV="1">
            <a:off x="2447640" y="2142360"/>
            <a:ext cx="1080" cy="8960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med" type="triangle" w="sm"/>
          </a:ln>
        </p:spPr>
      </p:cxnSp>
      <p:cxnSp>
        <p:nvCxnSpPr>
          <p:cNvPr id="322" name="AutoShape 10"/>
          <p:cNvCxnSpPr>
            <a:stCxn id="316" idx="3"/>
            <a:endCxn id="318" idx="1"/>
          </p:cNvCxnSpPr>
          <p:nvPr/>
        </p:nvCxnSpPr>
        <p:spPr>
          <a:xfrm flipH="1">
            <a:off x="2123280" y="2142720"/>
            <a:ext cx="108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23" name="AutoShape 11"/>
          <p:cNvCxnSpPr>
            <a:stCxn id="316" idx="6"/>
            <a:endCxn id="317" idx="2"/>
          </p:cNvCxnSpPr>
          <p:nvPr/>
        </p:nvCxnSpPr>
        <p:spPr>
          <a:xfrm>
            <a:off x="2514240" y="1980720"/>
            <a:ext cx="7628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med" type="triangle" w="sm"/>
          </a:ln>
        </p:spPr>
      </p:cxnSp>
      <p:cxnSp>
        <p:nvCxnSpPr>
          <p:cNvPr id="324" name="AutoShape 12"/>
          <p:cNvCxnSpPr>
            <a:stCxn id="318" idx="7"/>
            <a:endCxn id="317" idx="3"/>
          </p:cNvCxnSpPr>
          <p:nvPr/>
        </p:nvCxnSpPr>
        <p:spPr>
          <a:xfrm flipV="1">
            <a:off x="2447640" y="2142360"/>
            <a:ext cx="89604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25" name="AutoShape 13"/>
          <p:cNvCxnSpPr>
            <a:stCxn id="317" idx="3"/>
            <a:endCxn id="319" idx="1"/>
          </p:cNvCxnSpPr>
          <p:nvPr/>
        </p:nvCxnSpPr>
        <p:spPr>
          <a:xfrm>
            <a:off x="3342960" y="2142720"/>
            <a:ext cx="108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26" name="AutoShape 14"/>
          <p:cNvCxnSpPr>
            <a:stCxn id="319" idx="7"/>
            <a:endCxn id="317" idx="5"/>
          </p:cNvCxnSpPr>
          <p:nvPr/>
        </p:nvCxnSpPr>
        <p:spPr>
          <a:xfrm flipV="1">
            <a:off x="3666600" y="2142360"/>
            <a:ext cx="1080" cy="89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27" name="AutoShape 15"/>
          <p:cNvCxnSpPr>
            <a:stCxn id="318" idx="6"/>
            <a:endCxn id="319" idx="2"/>
          </p:cNvCxnSpPr>
          <p:nvPr/>
        </p:nvCxnSpPr>
        <p:spPr>
          <a:xfrm>
            <a:off x="2514240" y="3200040"/>
            <a:ext cx="7628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med" type="triangle" w="sm"/>
          </a:ln>
        </p:spPr>
      </p:cxnSp>
      <p:cxnSp>
        <p:nvCxnSpPr>
          <p:cNvPr id="328" name="AutoShape 16"/>
          <p:cNvCxnSpPr>
            <a:stCxn id="319" idx="1"/>
            <a:endCxn id="320" idx="6"/>
          </p:cNvCxnSpPr>
          <p:nvPr/>
        </p:nvCxnSpPr>
        <p:spPr>
          <a:xfrm flipH="1" flipV="1">
            <a:off x="1599840" y="2590200"/>
            <a:ext cx="1743840" cy="448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29" name="AutoShape 17"/>
          <p:cNvCxnSpPr>
            <a:stCxn id="320" idx="5"/>
            <a:endCxn id="318" idx="2"/>
          </p:cNvCxnSpPr>
          <p:nvPr/>
        </p:nvCxnSpPr>
        <p:spPr>
          <a:xfrm>
            <a:off x="1533240" y="2752560"/>
            <a:ext cx="524160" cy="44856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med" type="triangle" w="sm"/>
          </a:ln>
        </p:spPr>
      </p:cxnSp>
      <p:cxnSp>
        <p:nvCxnSpPr>
          <p:cNvPr id="330" name="AutoShape 18"/>
          <p:cNvCxnSpPr>
            <a:stCxn id="320" idx="7"/>
            <a:endCxn id="316" idx="2"/>
          </p:cNvCxnSpPr>
          <p:nvPr/>
        </p:nvCxnSpPr>
        <p:spPr>
          <a:xfrm flipV="1">
            <a:off x="1533240" y="1980720"/>
            <a:ext cx="524160" cy="44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31" name="Text Box 19"/>
          <p:cNvSpPr/>
          <p:nvPr/>
        </p:nvSpPr>
        <p:spPr>
          <a:xfrm>
            <a:off x="1752480" y="1371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2971800" y="1371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3352680" y="3352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21337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1447920" y="1828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144792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66688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182880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438280" y="22860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819520" y="2133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0481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3657600" y="2438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743200" y="2590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2743200" y="31240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33"/>
          <p:cNvGrpSpPr/>
          <p:nvPr/>
        </p:nvGrpSpPr>
        <p:grpSpPr>
          <a:xfrm>
            <a:off x="4724280" y="1371600"/>
            <a:ext cx="2819520" cy="2379960"/>
            <a:chOff x="4724280" y="1371600"/>
            <a:chExt cx="2819520" cy="2379960"/>
          </a:xfrm>
        </p:grpSpPr>
        <p:sp>
          <p:nvSpPr>
            <p:cNvPr id="346" name="Oval 34"/>
            <p:cNvSpPr/>
            <p:nvPr/>
          </p:nvSpPr>
          <p:spPr>
            <a:xfrm>
              <a:off x="5638680" y="17524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35"/>
            <p:cNvSpPr/>
            <p:nvPr/>
          </p:nvSpPr>
          <p:spPr>
            <a:xfrm>
              <a:off x="6858000" y="17524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36"/>
            <p:cNvSpPr/>
            <p:nvPr/>
          </p:nvSpPr>
          <p:spPr>
            <a:xfrm>
              <a:off x="5638680" y="2971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37"/>
            <p:cNvSpPr/>
            <p:nvPr/>
          </p:nvSpPr>
          <p:spPr>
            <a:xfrm>
              <a:off x="6858000" y="297180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38"/>
            <p:cNvSpPr/>
            <p:nvPr/>
          </p:nvSpPr>
          <p:spPr>
            <a:xfrm>
              <a:off x="472428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AutoShape 39"/>
            <p:cNvCxnSpPr>
              <a:stCxn id="348" idx="7"/>
              <a:endCxn id="346" idx="5"/>
            </p:cNvCxnSpPr>
            <p:nvPr/>
          </p:nvCxnSpPr>
          <p:spPr>
            <a:xfrm flipV="1">
              <a:off x="6028920" y="2142360"/>
              <a:ext cx="1080" cy="8960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352" name="AutoShape 40"/>
            <p:cNvCxnSpPr>
              <a:stCxn id="346" idx="3"/>
              <a:endCxn id="348" idx="1"/>
            </p:cNvCxnSpPr>
            <p:nvPr/>
          </p:nvCxnSpPr>
          <p:spPr>
            <a:xfrm flipH="1">
              <a:off x="5704920" y="214272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53" name="AutoShape 41"/>
            <p:cNvCxnSpPr>
              <a:stCxn id="346" idx="6"/>
              <a:endCxn id="347" idx="2"/>
            </p:cNvCxnSpPr>
            <p:nvPr/>
          </p:nvCxnSpPr>
          <p:spPr>
            <a:xfrm>
              <a:off x="6095520" y="1980720"/>
              <a:ext cx="7628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354" name="AutoShape 42"/>
            <p:cNvCxnSpPr>
              <a:stCxn id="348" idx="7"/>
              <a:endCxn id="347" idx="3"/>
            </p:cNvCxnSpPr>
            <p:nvPr/>
          </p:nvCxnSpPr>
          <p:spPr>
            <a:xfrm flipV="1">
              <a:off x="6028920" y="2142360"/>
              <a:ext cx="89604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55" name="AutoShape 43"/>
            <p:cNvCxnSpPr>
              <a:stCxn id="347" idx="3"/>
              <a:endCxn id="349" idx="1"/>
            </p:cNvCxnSpPr>
            <p:nvPr/>
          </p:nvCxnSpPr>
          <p:spPr>
            <a:xfrm>
              <a:off x="6924240" y="214272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56" name="AutoShape 44"/>
            <p:cNvCxnSpPr>
              <a:stCxn id="349" idx="7"/>
              <a:endCxn id="347" idx="5"/>
            </p:cNvCxnSpPr>
            <p:nvPr/>
          </p:nvCxnSpPr>
          <p:spPr>
            <a:xfrm flipV="1">
              <a:off x="7248240" y="214236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57" name="AutoShape 45"/>
            <p:cNvCxnSpPr>
              <a:stCxn id="348" idx="6"/>
              <a:endCxn id="349" idx="2"/>
            </p:cNvCxnSpPr>
            <p:nvPr/>
          </p:nvCxnSpPr>
          <p:spPr>
            <a:xfrm>
              <a:off x="6095520" y="3200040"/>
              <a:ext cx="7628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358" name="AutoShape 46"/>
            <p:cNvCxnSpPr>
              <a:stCxn id="349" idx="1"/>
              <a:endCxn id="350" idx="6"/>
            </p:cNvCxnSpPr>
            <p:nvPr/>
          </p:nvCxnSpPr>
          <p:spPr>
            <a:xfrm flipH="1" flipV="1">
              <a:off x="5181120" y="2590200"/>
              <a:ext cx="174384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59" name="AutoShape 47"/>
            <p:cNvCxnSpPr>
              <a:stCxn id="350" idx="5"/>
              <a:endCxn id="348" idx="2"/>
            </p:cNvCxnSpPr>
            <p:nvPr/>
          </p:nvCxnSpPr>
          <p:spPr>
            <a:xfrm>
              <a:off x="5114520" y="2752560"/>
              <a:ext cx="524160" cy="44856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med" type="triangle" w="sm"/>
            </a:ln>
          </p:spPr>
        </p:cxnSp>
        <p:cxnSp>
          <p:nvCxnSpPr>
            <p:cNvPr id="360" name="AutoShape 48"/>
            <p:cNvCxnSpPr>
              <a:stCxn id="350" idx="7"/>
              <a:endCxn id="346" idx="2"/>
            </p:cNvCxnSpPr>
            <p:nvPr/>
          </p:nvCxnSpPr>
          <p:spPr>
            <a:xfrm flipV="1">
              <a:off x="5114520" y="1980720"/>
              <a:ext cx="52416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361" name="Text Box 49"/>
            <p:cNvSpPr/>
            <p:nvPr/>
          </p:nvSpPr>
          <p:spPr>
            <a:xfrm>
              <a:off x="5715000" y="1371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50"/>
            <p:cNvSpPr/>
            <p:nvPr/>
          </p:nvSpPr>
          <p:spPr>
            <a:xfrm>
              <a:off x="6934320" y="13716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51"/>
            <p:cNvSpPr/>
            <p:nvPr/>
          </p:nvSpPr>
          <p:spPr>
            <a:xfrm>
              <a:off x="6934320" y="3352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52"/>
            <p:cNvSpPr/>
            <p:nvPr/>
          </p:nvSpPr>
          <p:spPr>
            <a:xfrm>
              <a:off x="5715000" y="3352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53"/>
            <p:cNvSpPr/>
            <p:nvPr/>
          </p:nvSpPr>
          <p:spPr>
            <a:xfrm>
              <a:off x="5029200" y="1828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54"/>
            <p:cNvSpPr/>
            <p:nvPr/>
          </p:nvSpPr>
          <p:spPr>
            <a:xfrm>
              <a:off x="5029200" y="2819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55"/>
            <p:cNvSpPr/>
            <p:nvPr/>
          </p:nvSpPr>
          <p:spPr>
            <a:xfrm>
              <a:off x="624852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56"/>
            <p:cNvSpPr/>
            <p:nvPr/>
          </p:nvSpPr>
          <p:spPr>
            <a:xfrm>
              <a:off x="5410080" y="2286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57"/>
            <p:cNvSpPr/>
            <p:nvPr/>
          </p:nvSpPr>
          <p:spPr>
            <a:xfrm>
              <a:off x="6019920" y="2286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58"/>
            <p:cNvSpPr/>
            <p:nvPr/>
          </p:nvSpPr>
          <p:spPr>
            <a:xfrm>
              <a:off x="6400800" y="2133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59"/>
            <p:cNvSpPr/>
            <p:nvPr/>
          </p:nvSpPr>
          <p:spPr>
            <a:xfrm>
              <a:off x="6629400" y="2438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60"/>
            <p:cNvSpPr/>
            <p:nvPr/>
          </p:nvSpPr>
          <p:spPr>
            <a:xfrm>
              <a:off x="7238880" y="24382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61"/>
            <p:cNvSpPr/>
            <p:nvPr/>
          </p:nvSpPr>
          <p:spPr>
            <a:xfrm>
              <a:off x="6324480" y="2590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62"/>
            <p:cNvSpPr/>
            <p:nvPr/>
          </p:nvSpPr>
          <p:spPr>
            <a:xfrm>
              <a:off x="632448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B09C-F3E0-4B5F-BA12-D2A5A944E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’s Correct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e will prove that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whenever </a:t>
            </a:r>
            <a:r>
              <a:rPr b="1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is added to </a:t>
            </a:r>
            <a:r>
              <a:rPr b="1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, i.e., tha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s minimum, and that equality is maintained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Not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be the first 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vertex picke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uch tha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horter path than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, i.e.,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We will show that the assumption  of such a vertex leads to a contra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9" name="Object 4"/>
          <p:cNvGraphicFramePr/>
          <p:nvPr/>
        </p:nvGraphicFramePr>
        <p:xfrm>
          <a:off x="4767120" y="4878360"/>
          <a:ext cx="362124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7120" y="4878360"/>
                    <a:ext cx="362124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825A-F17C-44BE-886F-C7BE6775F0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 Correctnes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be the first vertex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on the actual shortest path from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then it must be tha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bec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is set correctly for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's predecessor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on the shortest path (by choice of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as the first vertex for which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s set incorrect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when the algorithm inserted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 it relaxed the edge 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, assigning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the correct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2847960" y="4695840"/>
          <a:ext cx="372096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7960" y="4695840"/>
                    <a:ext cx="372096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A86-0D17-4E01-9B02-FA907996B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u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&gt;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lgorithm would have chose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(from the PQ) to process next, no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Contra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us d[u] =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at time of insertion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and Dijkstra's algorithm is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 Correctnes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368280" y="2062080"/>
          <a:ext cx="525780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2062080"/>
                    <a:ext cx="525780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5"/>
          <p:cNvGraphicFramePr/>
          <p:nvPr/>
        </p:nvGraphicFramePr>
        <p:xfrm>
          <a:off x="5664240" y="1670040"/>
          <a:ext cx="3479760" cy="17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4240" y="1670040"/>
                    <a:ext cx="347976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673-6A05-43FC-8713-87208C6C45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’s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96520" y="1547640"/>
            <a:ext cx="835812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Extract-Min executed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crease-Key executed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ime =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Extract-Mi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+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Decrease-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depends on different Q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841320" y="3851280"/>
          <a:ext cx="7794720" cy="2193840"/>
        </p:xfrm>
        <a:graphic>
          <a:graphicData uri="http://schemas.openxmlformats.org/drawingml/2006/table">
            <a:tbl>
              <a:tblPr/>
              <a:tblGrid>
                <a:gridCol w="2403360"/>
                <a:gridCol w="1435320"/>
                <a:gridCol w="1835280"/>
                <a:gridCol w="2120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(Extract-M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(Decrease-K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</a:t>
                      </a:r>
                      <a:r>
                        <a:rPr b="0" lang="da-DK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he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 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lg 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bonacci he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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+ 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023-F13E-4B53-B792-2C1CA79FF0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lman-Ford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jkstra’s doesn’t work when there are negative ed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on – we can not be greedy on the assumption that the lengths of paths will only increase in th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lman-Ford algorithm detects negative cycles (retur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l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returns the shortest path-tre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643-8B6D-4927-8E3E-56953F5C6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lman-Ford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0160" y="1665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llman-For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G,w,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[G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   d[v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d[s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r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V[G]|-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edge (u,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[G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a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u,v,w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edge (u,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[G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[v] &gt; d[u] + w(u,v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retur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53DA-C6CC-4A74-8276-71F97747CA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lman-For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2556000" y="1460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Group 125"/>
          <p:cNvGrpSpPr/>
          <p:nvPr/>
        </p:nvGrpSpPr>
        <p:grpSpPr>
          <a:xfrm>
            <a:off x="762120" y="1492200"/>
            <a:ext cx="3124080" cy="2373840"/>
            <a:chOff x="762120" y="1492200"/>
            <a:chExt cx="3124080" cy="2373840"/>
          </a:xfrm>
        </p:grpSpPr>
        <p:sp>
          <p:nvSpPr>
            <p:cNvPr id="413" name="Oval 4"/>
            <p:cNvSpPr/>
            <p:nvPr/>
          </p:nvSpPr>
          <p:spPr>
            <a:xfrm>
              <a:off x="1981080" y="18669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3200400" y="18669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1981080" y="30862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3200400" y="30862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066680" y="247644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8" name="AutoShape 10"/>
            <p:cNvCxnSpPr>
              <a:stCxn id="413" idx="3"/>
              <a:endCxn id="415" idx="1"/>
            </p:cNvCxnSpPr>
            <p:nvPr/>
          </p:nvCxnSpPr>
          <p:spPr>
            <a:xfrm flipH="1">
              <a:off x="2047320" y="225720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19" name="AutoShape 11"/>
            <p:cNvCxnSpPr>
              <a:stCxn id="413" idx="7"/>
              <a:endCxn id="414" idx="1"/>
            </p:cNvCxnSpPr>
            <p:nvPr/>
          </p:nvCxnSpPr>
          <p:spPr>
            <a:xfrm flipH="1" rot="16200000">
              <a:off x="2818440" y="1486440"/>
              <a:ext cx="2160" cy="896040"/>
            </a:xfrm>
            <a:prstGeom prst="curvedConnector5">
              <a:avLst>
                <a:gd name="adj1" fmla="val -8900000"/>
                <a:gd name="adj2" fmla="val 50000"/>
                <a:gd name="adj3" fmla="val -8900000"/>
              </a:avLst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0" name="AutoShape 12"/>
            <p:cNvCxnSpPr>
              <a:stCxn id="415" idx="7"/>
              <a:endCxn id="414" idx="3"/>
            </p:cNvCxnSpPr>
            <p:nvPr/>
          </p:nvCxnSpPr>
          <p:spPr>
            <a:xfrm flipV="1">
              <a:off x="2371320" y="2256840"/>
              <a:ext cx="89604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1" name="AutoShape 14"/>
            <p:cNvCxnSpPr>
              <a:stCxn id="416" idx="7"/>
              <a:endCxn id="414" idx="5"/>
            </p:cNvCxnSpPr>
            <p:nvPr/>
          </p:nvCxnSpPr>
          <p:spPr>
            <a:xfrm flipV="1">
              <a:off x="3590640" y="225684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2" name="AutoShape 15"/>
            <p:cNvCxnSpPr>
              <a:stCxn id="415" idx="6"/>
              <a:endCxn id="416" idx="2"/>
            </p:cNvCxnSpPr>
            <p:nvPr/>
          </p:nvCxnSpPr>
          <p:spPr>
            <a:xfrm>
              <a:off x="2437920" y="331452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3" name="AutoShape 16"/>
            <p:cNvCxnSpPr>
              <a:stCxn id="416" idx="1"/>
              <a:endCxn id="417" idx="6"/>
            </p:cNvCxnSpPr>
            <p:nvPr/>
          </p:nvCxnSpPr>
          <p:spPr>
            <a:xfrm flipH="1" flipV="1">
              <a:off x="1523520" y="2704680"/>
              <a:ext cx="174384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4" name="AutoShape 17"/>
            <p:cNvCxnSpPr>
              <a:stCxn id="417" idx="5"/>
              <a:endCxn id="415" idx="2"/>
            </p:cNvCxnSpPr>
            <p:nvPr/>
          </p:nvCxnSpPr>
          <p:spPr>
            <a:xfrm>
              <a:off x="1456920" y="2867040"/>
              <a:ext cx="52416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25" name="AutoShape 18"/>
            <p:cNvCxnSpPr>
              <a:stCxn id="417" idx="7"/>
              <a:endCxn id="413" idx="2"/>
            </p:cNvCxnSpPr>
            <p:nvPr/>
          </p:nvCxnSpPr>
          <p:spPr>
            <a:xfrm flipV="1">
              <a:off x="1456920" y="2094840"/>
              <a:ext cx="52416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26" name="Text Box 19"/>
            <p:cNvSpPr/>
            <p:nvPr/>
          </p:nvSpPr>
          <p:spPr>
            <a:xfrm>
              <a:off x="762120" y="24764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20"/>
            <p:cNvSpPr/>
            <p:nvPr/>
          </p:nvSpPr>
          <p:spPr>
            <a:xfrm>
              <a:off x="3276720" y="34671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2057400" y="3467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22"/>
            <p:cNvSpPr/>
            <p:nvPr/>
          </p:nvSpPr>
          <p:spPr>
            <a:xfrm>
              <a:off x="1371600" y="1943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23"/>
            <p:cNvSpPr/>
            <p:nvPr/>
          </p:nvSpPr>
          <p:spPr>
            <a:xfrm>
              <a:off x="1371600" y="2933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Text Box 25"/>
            <p:cNvSpPr/>
            <p:nvPr/>
          </p:nvSpPr>
          <p:spPr>
            <a:xfrm>
              <a:off x="1752480" y="2400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2751120" y="217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29"/>
            <p:cNvSpPr/>
            <p:nvPr/>
          </p:nvSpPr>
          <p:spPr>
            <a:xfrm>
              <a:off x="3581280" y="25527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2790720" y="2724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31"/>
            <p:cNvSpPr/>
            <p:nvPr/>
          </p:nvSpPr>
          <p:spPr>
            <a:xfrm>
              <a:off x="2666880" y="32385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6" name="AutoShape 32"/>
            <p:cNvCxnSpPr>
              <a:stCxn id="414" idx="2"/>
              <a:endCxn id="413" idx="6"/>
            </p:cNvCxnSpPr>
            <p:nvPr/>
          </p:nvCxnSpPr>
          <p:spPr>
            <a:xfrm flipH="1" flipV="1">
              <a:off x="2437560" y="209484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37" name="Text Box 33"/>
            <p:cNvSpPr/>
            <p:nvPr/>
          </p:nvSpPr>
          <p:spPr>
            <a:xfrm>
              <a:off x="2681280" y="1766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34"/>
            <p:cNvSpPr/>
            <p:nvPr/>
          </p:nvSpPr>
          <p:spPr>
            <a:xfrm>
              <a:off x="3267000" y="15019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35"/>
            <p:cNvSpPr/>
            <p:nvPr/>
          </p:nvSpPr>
          <p:spPr>
            <a:xfrm>
              <a:off x="2031840" y="1492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AutoShape 36"/>
            <p:cNvCxnSpPr>
              <a:stCxn id="413" idx="5"/>
              <a:endCxn id="416" idx="0"/>
            </p:cNvCxnSpPr>
            <p:nvPr/>
          </p:nvCxnSpPr>
          <p:spPr>
            <a:xfrm>
              <a:off x="2371320" y="2257560"/>
              <a:ext cx="1058040" cy="829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41" name="Text Box 37"/>
            <p:cNvSpPr/>
            <p:nvPr/>
          </p:nvSpPr>
          <p:spPr>
            <a:xfrm>
              <a:off x="3089160" y="25797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126"/>
          <p:cNvGrpSpPr/>
          <p:nvPr/>
        </p:nvGrpSpPr>
        <p:grpSpPr>
          <a:xfrm>
            <a:off x="4273560" y="1486080"/>
            <a:ext cx="3124080" cy="2373480"/>
            <a:chOff x="4273560" y="1486080"/>
            <a:chExt cx="3124080" cy="2373480"/>
          </a:xfrm>
        </p:grpSpPr>
        <p:sp>
          <p:nvSpPr>
            <p:cNvPr id="443" name="Oval 38"/>
            <p:cNvSpPr/>
            <p:nvPr/>
          </p:nvSpPr>
          <p:spPr>
            <a:xfrm>
              <a:off x="5492880" y="18604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39"/>
            <p:cNvSpPr/>
            <p:nvPr/>
          </p:nvSpPr>
          <p:spPr>
            <a:xfrm>
              <a:off x="6711840" y="18604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40"/>
            <p:cNvSpPr/>
            <p:nvPr/>
          </p:nvSpPr>
          <p:spPr>
            <a:xfrm>
              <a:off x="5492880" y="307980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41"/>
            <p:cNvSpPr/>
            <p:nvPr/>
          </p:nvSpPr>
          <p:spPr>
            <a:xfrm>
              <a:off x="6711840" y="307980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42"/>
            <p:cNvSpPr/>
            <p:nvPr/>
          </p:nvSpPr>
          <p:spPr>
            <a:xfrm>
              <a:off x="4578480" y="24703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8" name="AutoShape 43"/>
            <p:cNvCxnSpPr>
              <a:stCxn id="443" idx="3"/>
              <a:endCxn id="445" idx="1"/>
            </p:cNvCxnSpPr>
            <p:nvPr/>
          </p:nvCxnSpPr>
          <p:spPr>
            <a:xfrm flipH="1">
              <a:off x="5558760" y="225072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49" name="AutoShape 44"/>
            <p:cNvCxnSpPr>
              <a:stCxn id="443" idx="7"/>
              <a:endCxn id="444" idx="1"/>
            </p:cNvCxnSpPr>
            <p:nvPr/>
          </p:nvCxnSpPr>
          <p:spPr>
            <a:xfrm flipH="1" rot="16200000">
              <a:off x="6329880" y="1478880"/>
              <a:ext cx="2520" cy="896400"/>
            </a:xfrm>
            <a:prstGeom prst="curvedConnector5">
              <a:avLst>
                <a:gd name="adj1" fmla="val -8900000"/>
                <a:gd name="adj2" fmla="val 49979"/>
                <a:gd name="adj3" fmla="val -8900000"/>
              </a:avLst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50" name="AutoShape 45"/>
            <p:cNvCxnSpPr>
              <a:stCxn id="445" idx="7"/>
              <a:endCxn id="444" idx="3"/>
            </p:cNvCxnSpPr>
            <p:nvPr/>
          </p:nvCxnSpPr>
          <p:spPr>
            <a:xfrm flipV="1">
              <a:off x="5883120" y="2250360"/>
              <a:ext cx="89640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51" name="AutoShape 46"/>
            <p:cNvCxnSpPr>
              <a:stCxn id="446" idx="7"/>
              <a:endCxn id="444" idx="5"/>
            </p:cNvCxnSpPr>
            <p:nvPr/>
          </p:nvCxnSpPr>
          <p:spPr>
            <a:xfrm flipV="1">
              <a:off x="7102080" y="225036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52" name="AutoShape 47"/>
            <p:cNvCxnSpPr>
              <a:stCxn id="445" idx="6"/>
              <a:endCxn id="446" idx="2"/>
            </p:cNvCxnSpPr>
            <p:nvPr/>
          </p:nvCxnSpPr>
          <p:spPr>
            <a:xfrm>
              <a:off x="5950080" y="330804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53" name="AutoShape 48"/>
            <p:cNvCxnSpPr>
              <a:stCxn id="446" idx="1"/>
              <a:endCxn id="447" idx="6"/>
            </p:cNvCxnSpPr>
            <p:nvPr/>
          </p:nvCxnSpPr>
          <p:spPr>
            <a:xfrm flipH="1" flipV="1">
              <a:off x="5035320" y="2698200"/>
              <a:ext cx="174384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54" name="AutoShape 49"/>
            <p:cNvCxnSpPr>
              <a:stCxn id="447" idx="5"/>
              <a:endCxn id="445" idx="2"/>
            </p:cNvCxnSpPr>
            <p:nvPr/>
          </p:nvCxnSpPr>
          <p:spPr>
            <a:xfrm>
              <a:off x="4968720" y="2860560"/>
              <a:ext cx="524880" cy="4485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455" name="AutoShape 50"/>
            <p:cNvCxnSpPr>
              <a:stCxn id="447" idx="7"/>
              <a:endCxn id="443" idx="2"/>
            </p:cNvCxnSpPr>
            <p:nvPr/>
          </p:nvCxnSpPr>
          <p:spPr>
            <a:xfrm flipV="1">
              <a:off x="4968720" y="2088720"/>
              <a:ext cx="524880" cy="4485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56" name="Text Box 51"/>
            <p:cNvSpPr/>
            <p:nvPr/>
          </p:nvSpPr>
          <p:spPr>
            <a:xfrm>
              <a:off x="4273560" y="2470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52"/>
            <p:cNvSpPr/>
            <p:nvPr/>
          </p:nvSpPr>
          <p:spPr>
            <a:xfrm>
              <a:off x="6788160" y="34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53"/>
            <p:cNvSpPr/>
            <p:nvPr/>
          </p:nvSpPr>
          <p:spPr>
            <a:xfrm>
              <a:off x="5568840" y="3460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54"/>
            <p:cNvSpPr/>
            <p:nvPr/>
          </p:nvSpPr>
          <p:spPr>
            <a:xfrm>
              <a:off x="4883040" y="19368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55"/>
            <p:cNvSpPr/>
            <p:nvPr/>
          </p:nvSpPr>
          <p:spPr>
            <a:xfrm>
              <a:off x="4883040" y="2927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56"/>
            <p:cNvSpPr/>
            <p:nvPr/>
          </p:nvSpPr>
          <p:spPr>
            <a:xfrm>
              <a:off x="5264280" y="23940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57"/>
            <p:cNvSpPr/>
            <p:nvPr/>
          </p:nvSpPr>
          <p:spPr>
            <a:xfrm>
              <a:off x="6262560" y="21668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Text Box 58"/>
            <p:cNvSpPr/>
            <p:nvPr/>
          </p:nvSpPr>
          <p:spPr>
            <a:xfrm>
              <a:off x="7093080" y="2546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59"/>
            <p:cNvSpPr/>
            <p:nvPr/>
          </p:nvSpPr>
          <p:spPr>
            <a:xfrm>
              <a:off x="6302520" y="27176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60"/>
            <p:cNvSpPr/>
            <p:nvPr/>
          </p:nvSpPr>
          <p:spPr>
            <a:xfrm>
              <a:off x="6178680" y="32320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AutoShape 61"/>
            <p:cNvCxnSpPr>
              <a:stCxn id="444" idx="2"/>
              <a:endCxn id="443" idx="6"/>
            </p:cNvCxnSpPr>
            <p:nvPr/>
          </p:nvCxnSpPr>
          <p:spPr>
            <a:xfrm flipH="1" flipV="1">
              <a:off x="5949720" y="20883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67" name="Text Box 62"/>
            <p:cNvSpPr/>
            <p:nvPr/>
          </p:nvSpPr>
          <p:spPr>
            <a:xfrm>
              <a:off x="6192720" y="1760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63"/>
            <p:cNvSpPr/>
            <p:nvPr/>
          </p:nvSpPr>
          <p:spPr>
            <a:xfrm>
              <a:off x="6778800" y="14954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64"/>
            <p:cNvSpPr/>
            <p:nvPr/>
          </p:nvSpPr>
          <p:spPr>
            <a:xfrm>
              <a:off x="5543640" y="14860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5"/>
            <p:cNvCxnSpPr>
              <a:stCxn id="443" idx="5"/>
              <a:endCxn id="446" idx="0"/>
            </p:cNvCxnSpPr>
            <p:nvPr/>
          </p:nvCxnSpPr>
          <p:spPr>
            <a:xfrm>
              <a:off x="5882760" y="2251080"/>
              <a:ext cx="1058040" cy="829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71" name="Text Box 66"/>
            <p:cNvSpPr/>
            <p:nvPr/>
          </p:nvSpPr>
          <p:spPr>
            <a:xfrm>
              <a:off x="6600960" y="25732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127"/>
          <p:cNvGrpSpPr/>
          <p:nvPr/>
        </p:nvGrpSpPr>
        <p:grpSpPr>
          <a:xfrm>
            <a:off x="797040" y="3908520"/>
            <a:ext cx="3124080" cy="2373480"/>
            <a:chOff x="797040" y="3908520"/>
            <a:chExt cx="3124080" cy="2373480"/>
          </a:xfrm>
        </p:grpSpPr>
        <p:sp>
          <p:nvSpPr>
            <p:cNvPr id="473" name="Oval 67"/>
            <p:cNvSpPr/>
            <p:nvPr/>
          </p:nvSpPr>
          <p:spPr>
            <a:xfrm>
              <a:off x="2016000" y="42829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Oval 68"/>
            <p:cNvSpPr/>
            <p:nvPr/>
          </p:nvSpPr>
          <p:spPr>
            <a:xfrm>
              <a:off x="3235320" y="42829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69"/>
            <p:cNvSpPr/>
            <p:nvPr/>
          </p:nvSpPr>
          <p:spPr>
            <a:xfrm>
              <a:off x="2016000" y="550224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Oval 70"/>
            <p:cNvSpPr/>
            <p:nvPr/>
          </p:nvSpPr>
          <p:spPr>
            <a:xfrm>
              <a:off x="3235320" y="550224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71"/>
            <p:cNvSpPr/>
            <p:nvPr/>
          </p:nvSpPr>
          <p:spPr>
            <a:xfrm>
              <a:off x="1101600" y="48927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8" name="AutoShape 72"/>
            <p:cNvCxnSpPr>
              <a:stCxn id="473" idx="3"/>
              <a:endCxn id="475" idx="1"/>
            </p:cNvCxnSpPr>
            <p:nvPr/>
          </p:nvCxnSpPr>
          <p:spPr>
            <a:xfrm flipH="1">
              <a:off x="2082240" y="467316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79" name="AutoShape 73"/>
            <p:cNvCxnSpPr>
              <a:stCxn id="473" idx="7"/>
              <a:endCxn id="474" idx="1"/>
            </p:cNvCxnSpPr>
            <p:nvPr/>
          </p:nvCxnSpPr>
          <p:spPr>
            <a:xfrm flipH="1" rot="16200000">
              <a:off x="2853360" y="3902760"/>
              <a:ext cx="2160" cy="896040"/>
            </a:xfrm>
            <a:prstGeom prst="curvedConnector5">
              <a:avLst>
                <a:gd name="adj1" fmla="val -8900000"/>
                <a:gd name="adj2" fmla="val 50000"/>
                <a:gd name="adj3" fmla="val -8900000"/>
              </a:avLst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80" name="AutoShape 74"/>
            <p:cNvCxnSpPr>
              <a:stCxn id="475" idx="7"/>
              <a:endCxn id="474" idx="3"/>
            </p:cNvCxnSpPr>
            <p:nvPr/>
          </p:nvCxnSpPr>
          <p:spPr>
            <a:xfrm flipV="1">
              <a:off x="2406240" y="4672800"/>
              <a:ext cx="896040" cy="8960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481" name="AutoShape 75"/>
            <p:cNvCxnSpPr>
              <a:stCxn id="476" idx="7"/>
              <a:endCxn id="474" idx="5"/>
            </p:cNvCxnSpPr>
            <p:nvPr/>
          </p:nvCxnSpPr>
          <p:spPr>
            <a:xfrm flipV="1">
              <a:off x="3625560" y="467280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82" name="AutoShape 76"/>
            <p:cNvCxnSpPr>
              <a:stCxn id="475" idx="6"/>
              <a:endCxn id="476" idx="2"/>
            </p:cNvCxnSpPr>
            <p:nvPr/>
          </p:nvCxnSpPr>
          <p:spPr>
            <a:xfrm>
              <a:off x="2472840" y="573048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83" name="AutoShape 77"/>
            <p:cNvCxnSpPr>
              <a:stCxn id="476" idx="1"/>
              <a:endCxn id="477" idx="6"/>
            </p:cNvCxnSpPr>
            <p:nvPr/>
          </p:nvCxnSpPr>
          <p:spPr>
            <a:xfrm flipH="1" flipV="1">
              <a:off x="1558440" y="5120640"/>
              <a:ext cx="174384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484" name="AutoShape 78"/>
            <p:cNvCxnSpPr>
              <a:stCxn id="477" idx="5"/>
              <a:endCxn id="475" idx="2"/>
            </p:cNvCxnSpPr>
            <p:nvPr/>
          </p:nvCxnSpPr>
          <p:spPr>
            <a:xfrm>
              <a:off x="1491840" y="5283000"/>
              <a:ext cx="524160" cy="44820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485" name="AutoShape 79"/>
            <p:cNvCxnSpPr>
              <a:stCxn id="477" idx="7"/>
              <a:endCxn id="473" idx="2"/>
            </p:cNvCxnSpPr>
            <p:nvPr/>
          </p:nvCxnSpPr>
          <p:spPr>
            <a:xfrm flipV="1">
              <a:off x="1491840" y="4511160"/>
              <a:ext cx="524160" cy="44856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486" name="Text Box 80"/>
            <p:cNvSpPr/>
            <p:nvPr/>
          </p:nvSpPr>
          <p:spPr>
            <a:xfrm>
              <a:off x="797040" y="48927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81"/>
            <p:cNvSpPr/>
            <p:nvPr/>
          </p:nvSpPr>
          <p:spPr>
            <a:xfrm>
              <a:off x="3311640" y="5883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82"/>
            <p:cNvSpPr/>
            <p:nvPr/>
          </p:nvSpPr>
          <p:spPr>
            <a:xfrm>
              <a:off x="2092320" y="5883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83"/>
            <p:cNvSpPr/>
            <p:nvPr/>
          </p:nvSpPr>
          <p:spPr>
            <a:xfrm>
              <a:off x="1406520" y="4359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84"/>
            <p:cNvSpPr/>
            <p:nvPr/>
          </p:nvSpPr>
          <p:spPr>
            <a:xfrm>
              <a:off x="1406520" y="5349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Text Box 85"/>
            <p:cNvSpPr/>
            <p:nvPr/>
          </p:nvSpPr>
          <p:spPr>
            <a:xfrm>
              <a:off x="1787400" y="4816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86"/>
            <p:cNvSpPr/>
            <p:nvPr/>
          </p:nvSpPr>
          <p:spPr>
            <a:xfrm>
              <a:off x="2786040" y="45896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87"/>
            <p:cNvSpPr/>
            <p:nvPr/>
          </p:nvSpPr>
          <p:spPr>
            <a:xfrm>
              <a:off x="3616200" y="4968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88"/>
            <p:cNvSpPr/>
            <p:nvPr/>
          </p:nvSpPr>
          <p:spPr>
            <a:xfrm>
              <a:off x="2825640" y="5140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89"/>
            <p:cNvSpPr/>
            <p:nvPr/>
          </p:nvSpPr>
          <p:spPr>
            <a:xfrm>
              <a:off x="2701800" y="5654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6" name="AutoShape 90"/>
            <p:cNvCxnSpPr>
              <a:stCxn id="474" idx="2"/>
              <a:endCxn id="473" idx="6"/>
            </p:cNvCxnSpPr>
            <p:nvPr/>
          </p:nvCxnSpPr>
          <p:spPr>
            <a:xfrm flipH="1" flipV="1">
              <a:off x="2472480" y="451080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497" name="Text Box 91"/>
            <p:cNvSpPr/>
            <p:nvPr/>
          </p:nvSpPr>
          <p:spPr>
            <a:xfrm>
              <a:off x="2716200" y="418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92"/>
            <p:cNvSpPr/>
            <p:nvPr/>
          </p:nvSpPr>
          <p:spPr>
            <a:xfrm>
              <a:off x="3330720" y="39178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93"/>
            <p:cNvSpPr/>
            <p:nvPr/>
          </p:nvSpPr>
          <p:spPr>
            <a:xfrm>
              <a:off x="2095560" y="3908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AutoShape 94"/>
            <p:cNvCxnSpPr>
              <a:stCxn id="473" idx="5"/>
              <a:endCxn id="476" idx="0"/>
            </p:cNvCxnSpPr>
            <p:nvPr/>
          </p:nvCxnSpPr>
          <p:spPr>
            <a:xfrm>
              <a:off x="2406240" y="4673520"/>
              <a:ext cx="1058040" cy="829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01" name="Text Box 95"/>
            <p:cNvSpPr/>
            <p:nvPr/>
          </p:nvSpPr>
          <p:spPr>
            <a:xfrm>
              <a:off x="3124080" y="4995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128"/>
          <p:cNvGrpSpPr/>
          <p:nvPr/>
        </p:nvGrpSpPr>
        <p:grpSpPr>
          <a:xfrm>
            <a:off x="4272120" y="3908520"/>
            <a:ext cx="3124080" cy="2373480"/>
            <a:chOff x="4272120" y="3908520"/>
            <a:chExt cx="3124080" cy="2373480"/>
          </a:xfrm>
        </p:grpSpPr>
        <p:sp>
          <p:nvSpPr>
            <p:cNvPr id="503" name="Oval 96"/>
            <p:cNvSpPr/>
            <p:nvPr/>
          </p:nvSpPr>
          <p:spPr>
            <a:xfrm>
              <a:off x="5491080" y="42829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97"/>
            <p:cNvSpPr/>
            <p:nvPr/>
          </p:nvSpPr>
          <p:spPr>
            <a:xfrm>
              <a:off x="6710400" y="428292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98"/>
            <p:cNvSpPr/>
            <p:nvPr/>
          </p:nvSpPr>
          <p:spPr>
            <a:xfrm>
              <a:off x="5491080" y="550224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99"/>
            <p:cNvSpPr/>
            <p:nvPr/>
          </p:nvSpPr>
          <p:spPr>
            <a:xfrm>
              <a:off x="6710400" y="550224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100"/>
            <p:cNvSpPr/>
            <p:nvPr/>
          </p:nvSpPr>
          <p:spPr>
            <a:xfrm>
              <a:off x="4576680" y="48927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8" name="AutoShape 101"/>
            <p:cNvCxnSpPr>
              <a:stCxn id="503" idx="3"/>
              <a:endCxn id="505" idx="1"/>
            </p:cNvCxnSpPr>
            <p:nvPr/>
          </p:nvCxnSpPr>
          <p:spPr>
            <a:xfrm flipH="1">
              <a:off x="5556960" y="467316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09" name="AutoShape 102"/>
            <p:cNvCxnSpPr>
              <a:stCxn id="503" idx="7"/>
              <a:endCxn id="504" idx="1"/>
            </p:cNvCxnSpPr>
            <p:nvPr/>
          </p:nvCxnSpPr>
          <p:spPr>
            <a:xfrm flipH="1" rot="16200000">
              <a:off x="6328440" y="3902760"/>
              <a:ext cx="2160" cy="896040"/>
            </a:xfrm>
            <a:prstGeom prst="curvedConnector5">
              <a:avLst>
                <a:gd name="adj1" fmla="val -8900000"/>
                <a:gd name="adj2" fmla="val 50000"/>
                <a:gd name="adj3" fmla="val -8900000"/>
              </a:avLst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10" name="AutoShape 103"/>
            <p:cNvCxnSpPr>
              <a:stCxn id="505" idx="7"/>
              <a:endCxn id="504" idx="3"/>
            </p:cNvCxnSpPr>
            <p:nvPr/>
          </p:nvCxnSpPr>
          <p:spPr>
            <a:xfrm flipV="1">
              <a:off x="5881320" y="4672800"/>
              <a:ext cx="896040" cy="8960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511" name="AutoShape 104"/>
            <p:cNvCxnSpPr>
              <a:stCxn id="506" idx="7"/>
              <a:endCxn id="504" idx="5"/>
            </p:cNvCxnSpPr>
            <p:nvPr/>
          </p:nvCxnSpPr>
          <p:spPr>
            <a:xfrm flipV="1">
              <a:off x="7100640" y="467280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12" name="AutoShape 105"/>
            <p:cNvCxnSpPr>
              <a:stCxn id="505" idx="6"/>
              <a:endCxn id="506" idx="2"/>
            </p:cNvCxnSpPr>
            <p:nvPr/>
          </p:nvCxnSpPr>
          <p:spPr>
            <a:xfrm>
              <a:off x="5947920" y="5730480"/>
              <a:ext cx="762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13" name="AutoShape 106"/>
            <p:cNvCxnSpPr>
              <a:stCxn id="506" idx="1"/>
              <a:endCxn id="507" idx="6"/>
            </p:cNvCxnSpPr>
            <p:nvPr/>
          </p:nvCxnSpPr>
          <p:spPr>
            <a:xfrm flipH="1" flipV="1">
              <a:off x="5033520" y="5120640"/>
              <a:ext cx="174384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14" name="AutoShape 107"/>
            <p:cNvCxnSpPr>
              <a:stCxn id="507" idx="5"/>
              <a:endCxn id="505" idx="2"/>
            </p:cNvCxnSpPr>
            <p:nvPr/>
          </p:nvCxnSpPr>
          <p:spPr>
            <a:xfrm>
              <a:off x="4966920" y="5283000"/>
              <a:ext cx="524160" cy="44820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515" name="AutoShape 108"/>
            <p:cNvCxnSpPr>
              <a:stCxn id="507" idx="7"/>
              <a:endCxn id="503" idx="2"/>
            </p:cNvCxnSpPr>
            <p:nvPr/>
          </p:nvCxnSpPr>
          <p:spPr>
            <a:xfrm flipV="1">
              <a:off x="4966920" y="4511160"/>
              <a:ext cx="52416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516" name="Text Box 109"/>
            <p:cNvSpPr/>
            <p:nvPr/>
          </p:nvSpPr>
          <p:spPr>
            <a:xfrm>
              <a:off x="4272120" y="48927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110"/>
            <p:cNvSpPr/>
            <p:nvPr/>
          </p:nvSpPr>
          <p:spPr>
            <a:xfrm>
              <a:off x="6786720" y="58831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111"/>
            <p:cNvSpPr/>
            <p:nvPr/>
          </p:nvSpPr>
          <p:spPr>
            <a:xfrm>
              <a:off x="5567400" y="58831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112"/>
            <p:cNvSpPr/>
            <p:nvPr/>
          </p:nvSpPr>
          <p:spPr>
            <a:xfrm>
              <a:off x="4881600" y="4359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113"/>
            <p:cNvSpPr/>
            <p:nvPr/>
          </p:nvSpPr>
          <p:spPr>
            <a:xfrm>
              <a:off x="4881600" y="5349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14"/>
            <p:cNvSpPr/>
            <p:nvPr/>
          </p:nvSpPr>
          <p:spPr>
            <a:xfrm>
              <a:off x="5262480" y="4816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115"/>
            <p:cNvSpPr/>
            <p:nvPr/>
          </p:nvSpPr>
          <p:spPr>
            <a:xfrm>
              <a:off x="6261120" y="4589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116"/>
            <p:cNvSpPr/>
            <p:nvPr/>
          </p:nvSpPr>
          <p:spPr>
            <a:xfrm>
              <a:off x="7091280" y="49687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Text Box 117"/>
            <p:cNvSpPr/>
            <p:nvPr/>
          </p:nvSpPr>
          <p:spPr>
            <a:xfrm>
              <a:off x="6300720" y="51404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118"/>
            <p:cNvSpPr/>
            <p:nvPr/>
          </p:nvSpPr>
          <p:spPr>
            <a:xfrm>
              <a:off x="6176880" y="5654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6" name="AutoShape 119"/>
            <p:cNvCxnSpPr>
              <a:stCxn id="504" idx="2"/>
              <a:endCxn id="503" idx="6"/>
            </p:cNvCxnSpPr>
            <p:nvPr/>
          </p:nvCxnSpPr>
          <p:spPr>
            <a:xfrm flipH="1" flipV="1">
              <a:off x="5947560" y="4510800"/>
              <a:ext cx="76284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27" name="Text Box 120"/>
            <p:cNvSpPr/>
            <p:nvPr/>
          </p:nvSpPr>
          <p:spPr>
            <a:xfrm>
              <a:off x="6191280" y="4183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21"/>
            <p:cNvSpPr/>
            <p:nvPr/>
          </p:nvSpPr>
          <p:spPr>
            <a:xfrm>
              <a:off x="6805440" y="3917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122"/>
            <p:cNvSpPr/>
            <p:nvPr/>
          </p:nvSpPr>
          <p:spPr>
            <a:xfrm>
              <a:off x="5570640" y="39085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" name="AutoShape 123"/>
            <p:cNvCxnSpPr>
              <a:stCxn id="503" idx="5"/>
              <a:endCxn id="506" idx="0"/>
            </p:cNvCxnSpPr>
            <p:nvPr/>
          </p:nvCxnSpPr>
          <p:spPr>
            <a:xfrm>
              <a:off x="5881320" y="4673520"/>
              <a:ext cx="1058040" cy="829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31" name="Text Box 124"/>
            <p:cNvSpPr/>
            <p:nvPr/>
          </p:nvSpPr>
          <p:spPr>
            <a:xfrm>
              <a:off x="6599160" y="4995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129"/>
          <p:cNvSpPr/>
          <p:nvPr/>
        </p:nvSpPr>
        <p:spPr>
          <a:xfrm>
            <a:off x="6159600" y="1414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30"/>
          <p:cNvSpPr/>
          <p:nvPr/>
        </p:nvSpPr>
        <p:spPr>
          <a:xfrm>
            <a:off x="2722680" y="3857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31"/>
          <p:cNvSpPr/>
          <p:nvPr/>
        </p:nvSpPr>
        <p:spPr>
          <a:xfrm>
            <a:off x="6188040" y="38480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805F-44D5-445A-8704-9ED73E1BB5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ingle-source shortest paths in weighted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hortest-Path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perties of Shortest Paths, Relax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ijkstra’s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ellman-For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hortest-Paths in DAG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F992-AF6E-459E-96D6-15D74E4A3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lman-Ford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38" name="Group 33"/>
          <p:cNvGrpSpPr/>
          <p:nvPr/>
        </p:nvGrpSpPr>
        <p:grpSpPr>
          <a:xfrm>
            <a:off x="758880" y="1636560"/>
            <a:ext cx="3124080" cy="2373480"/>
            <a:chOff x="758880" y="1636560"/>
            <a:chExt cx="3124080" cy="2373480"/>
          </a:xfrm>
        </p:grpSpPr>
        <p:sp>
          <p:nvSpPr>
            <p:cNvPr id="539" name="Oval 4"/>
            <p:cNvSpPr/>
            <p:nvPr/>
          </p:nvSpPr>
          <p:spPr>
            <a:xfrm>
              <a:off x="1978200" y="20109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5"/>
            <p:cNvSpPr/>
            <p:nvPr/>
          </p:nvSpPr>
          <p:spPr>
            <a:xfrm>
              <a:off x="3197160" y="201096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6"/>
            <p:cNvSpPr/>
            <p:nvPr/>
          </p:nvSpPr>
          <p:spPr>
            <a:xfrm>
              <a:off x="1978200" y="32302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7"/>
            <p:cNvSpPr/>
            <p:nvPr/>
          </p:nvSpPr>
          <p:spPr>
            <a:xfrm>
              <a:off x="3197160" y="323028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1063800" y="2620800"/>
              <a:ext cx="457200" cy="4572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9"/>
            <p:cNvCxnSpPr>
              <a:stCxn id="539" idx="3"/>
              <a:endCxn id="541" idx="1"/>
            </p:cNvCxnSpPr>
            <p:nvPr/>
          </p:nvCxnSpPr>
          <p:spPr>
            <a:xfrm flipH="1">
              <a:off x="2044080" y="240120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45" name="AutoShape 10"/>
            <p:cNvCxnSpPr>
              <a:stCxn id="539" idx="7"/>
              <a:endCxn id="540" idx="1"/>
            </p:cNvCxnSpPr>
            <p:nvPr/>
          </p:nvCxnSpPr>
          <p:spPr>
            <a:xfrm flipH="1" rot="16200000">
              <a:off x="2815200" y="1630800"/>
              <a:ext cx="2160" cy="896040"/>
            </a:xfrm>
            <a:prstGeom prst="curvedConnector5">
              <a:avLst>
                <a:gd name="adj1" fmla="val -8900000"/>
                <a:gd name="adj2" fmla="val 50000"/>
                <a:gd name="adj3" fmla="val -8900000"/>
              </a:avLst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46" name="AutoShape 11"/>
            <p:cNvCxnSpPr>
              <a:stCxn id="541" idx="7"/>
              <a:endCxn id="540" idx="3"/>
            </p:cNvCxnSpPr>
            <p:nvPr/>
          </p:nvCxnSpPr>
          <p:spPr>
            <a:xfrm flipV="1">
              <a:off x="2368080" y="2400840"/>
              <a:ext cx="896040" cy="8960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547" name="AutoShape 12"/>
            <p:cNvCxnSpPr>
              <a:stCxn id="542" idx="7"/>
              <a:endCxn id="540" idx="5"/>
            </p:cNvCxnSpPr>
            <p:nvPr/>
          </p:nvCxnSpPr>
          <p:spPr>
            <a:xfrm flipV="1">
              <a:off x="3587400" y="2400840"/>
              <a:ext cx="1080" cy="896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48" name="AutoShape 13"/>
            <p:cNvCxnSpPr>
              <a:stCxn id="541" idx="6"/>
              <a:endCxn id="542" idx="2"/>
            </p:cNvCxnSpPr>
            <p:nvPr/>
          </p:nvCxnSpPr>
          <p:spPr>
            <a:xfrm>
              <a:off x="2435400" y="345852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49" name="AutoShape 14"/>
            <p:cNvCxnSpPr>
              <a:stCxn id="542" idx="1"/>
              <a:endCxn id="543" idx="6"/>
            </p:cNvCxnSpPr>
            <p:nvPr/>
          </p:nvCxnSpPr>
          <p:spPr>
            <a:xfrm flipH="1" flipV="1">
              <a:off x="1520280" y="2848680"/>
              <a:ext cx="1743480" cy="448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550" name="AutoShape 15"/>
            <p:cNvCxnSpPr>
              <a:stCxn id="543" idx="5"/>
              <a:endCxn id="541" idx="2"/>
            </p:cNvCxnSpPr>
            <p:nvPr/>
          </p:nvCxnSpPr>
          <p:spPr>
            <a:xfrm>
              <a:off x="1454040" y="3011040"/>
              <a:ext cx="524880" cy="44820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cxnSp>
          <p:nvCxnSpPr>
            <p:cNvPr id="551" name="AutoShape 16"/>
            <p:cNvCxnSpPr>
              <a:stCxn id="543" idx="7"/>
              <a:endCxn id="539" idx="2"/>
            </p:cNvCxnSpPr>
            <p:nvPr/>
          </p:nvCxnSpPr>
          <p:spPr>
            <a:xfrm flipV="1">
              <a:off x="1454040" y="2239200"/>
              <a:ext cx="524880" cy="448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552" name="Text Box 17"/>
            <p:cNvSpPr/>
            <p:nvPr/>
          </p:nvSpPr>
          <p:spPr>
            <a:xfrm>
              <a:off x="758880" y="26208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8"/>
            <p:cNvSpPr/>
            <p:nvPr/>
          </p:nvSpPr>
          <p:spPr>
            <a:xfrm>
              <a:off x="3273480" y="3611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9"/>
            <p:cNvSpPr/>
            <p:nvPr/>
          </p:nvSpPr>
          <p:spPr>
            <a:xfrm>
              <a:off x="2054160" y="36111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20"/>
            <p:cNvSpPr/>
            <p:nvPr/>
          </p:nvSpPr>
          <p:spPr>
            <a:xfrm>
              <a:off x="1368360" y="2087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1"/>
            <p:cNvSpPr/>
            <p:nvPr/>
          </p:nvSpPr>
          <p:spPr>
            <a:xfrm>
              <a:off x="1368360" y="30780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22"/>
            <p:cNvSpPr/>
            <p:nvPr/>
          </p:nvSpPr>
          <p:spPr>
            <a:xfrm>
              <a:off x="1749600" y="25444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23"/>
            <p:cNvSpPr/>
            <p:nvPr/>
          </p:nvSpPr>
          <p:spPr>
            <a:xfrm>
              <a:off x="2747880" y="23176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24"/>
            <p:cNvSpPr/>
            <p:nvPr/>
          </p:nvSpPr>
          <p:spPr>
            <a:xfrm>
              <a:off x="3578400" y="26967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25"/>
            <p:cNvSpPr/>
            <p:nvPr/>
          </p:nvSpPr>
          <p:spPr>
            <a:xfrm>
              <a:off x="2787480" y="286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6"/>
            <p:cNvSpPr/>
            <p:nvPr/>
          </p:nvSpPr>
          <p:spPr>
            <a:xfrm>
              <a:off x="2664000" y="338256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AutoShape 27"/>
            <p:cNvCxnSpPr>
              <a:stCxn id="540" idx="2"/>
              <a:endCxn id="539" idx="6"/>
            </p:cNvCxnSpPr>
            <p:nvPr/>
          </p:nvCxnSpPr>
          <p:spPr>
            <a:xfrm flipH="1" flipV="1">
              <a:off x="2435040" y="2238840"/>
              <a:ext cx="762480" cy="108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63" name="Text Box 28"/>
            <p:cNvSpPr/>
            <p:nvPr/>
          </p:nvSpPr>
          <p:spPr>
            <a:xfrm>
              <a:off x="2678040" y="1911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3292560" y="1645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2057400" y="163656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6" name="AutoShape 31"/>
            <p:cNvCxnSpPr>
              <a:stCxn id="539" idx="5"/>
              <a:endCxn id="542" idx="0"/>
            </p:cNvCxnSpPr>
            <p:nvPr/>
          </p:nvCxnSpPr>
          <p:spPr>
            <a:xfrm>
              <a:off x="2368080" y="2401560"/>
              <a:ext cx="1058040" cy="829440"/>
            </a:xfrm>
            <a:prstGeom prst="straightConnector1">
              <a:avLst/>
            </a:prstGeom>
            <a:ln w="63360">
              <a:solidFill>
                <a:srgbClr val="000000"/>
              </a:solidFill>
              <a:miter/>
              <a:tailEnd len="med" type="triangle" w="sm"/>
            </a:ln>
          </p:spPr>
        </p:cxnSp>
        <p:sp>
          <p:nvSpPr>
            <p:cNvPr id="567" name="Text Box 32"/>
            <p:cNvSpPr/>
            <p:nvPr/>
          </p:nvSpPr>
          <p:spPr>
            <a:xfrm>
              <a:off x="3086280" y="27237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7777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6520" y="4363560"/>
            <a:ext cx="835812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lman-Ford running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|V|-1)|E| + |E|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36"/>
          <p:cNvSpPr/>
          <p:nvPr/>
        </p:nvSpPr>
        <p:spPr>
          <a:xfrm>
            <a:off x="2711520" y="16034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CB7-E0D0-456A-8E2E-B2A93E2DF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ctness of Bellman-F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,u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 the length of path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at is shortest among all paths, that contain at mo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e by induction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[u]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s,u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iteration of Bellman-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case, 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tive step (sa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[u]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,u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th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s,u)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s,u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s,u)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s,z) + w(z,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teration we try to relax each edge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z,u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), so we will catch both cases, thu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[u]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s,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F2D-F9F8-412F-888E-0A76BB909A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ctness of Bellman-F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ons,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[u]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,u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for each verte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is still some edge to relax in the graph, then there is a vertex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,u) &lt;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,u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t there are onl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tices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a cycle, and it must be neg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wise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[u]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,u)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s,u)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any shortest path will have at mos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-1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C807-0DEE-410E-909A-8C49AEC109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-Path in DAG’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shortest paths in DAG’s is much easier, because it is easy to find an order in which to do relaxations – Topological sorting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85880" y="3216240"/>
            <a:ext cx="835812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G-Shortest-Path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G,w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[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   d[v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d[s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topologically sort V[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ertex u, taken in topolog. or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ach vertex 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j[u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a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,v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9F7C-A907-483A-A312-04E69B1C8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-Paths in DAG’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ning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V+E) – only one relaxation for each edge, V times faster than Bellman-F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03D6-56C5-4248-B8D5-001B278B1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hortest Pa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eneralize distance to weighted s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igraph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with weight fun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signing real values to ed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eight of path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hortest path = a path of the minimum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tatic/dynamic network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robot motion 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map/route generation in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712960" y="3481560"/>
          <a:ext cx="267336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2960" y="3481560"/>
                    <a:ext cx="267336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655-151C-4320-AA41-E5CBCC06DC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-Path Proble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est-Path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-source (single-destination)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 shortest path from a given source to each of the 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le-pair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wo vertices, find a shortest path between them. Solution to single-source problem solves this problem efficiently, to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-pairs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shortest-paths for every pair of vertices. Dynamic programming algorith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weighted shortest-paths – BFS.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7046-CABF-428E-BABB-1687B87DD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Optimal Sub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orem: subpaths of shortest paths are shortest pa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Proof (cut and pas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f some subpath were not the shortest path, one could substitute the shorter subpath and create a shorter total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420920" y="4773600"/>
          <a:ext cx="60292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0920" y="4773600"/>
                    <a:ext cx="60292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37F5-19F1-404F-AEE0-81781150C1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riangle Inequ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weight of a shortest path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for any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hortest path u </a:t>
            </a:r>
            <a:r>
              <a:rPr b="0" lang="da-DK" sz="24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v is no longer than any other path u </a:t>
            </a:r>
            <a:r>
              <a:rPr b="0" lang="da-DK" sz="24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v – in particular, the path concatenating the shortest path u </a:t>
            </a:r>
            <a:r>
              <a:rPr b="0" lang="da-DK" sz="24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x with the shortest path x </a:t>
            </a:r>
            <a:r>
              <a:rPr b="0" lang="da-DK" sz="2400" spc="-1" strike="noStrike">
                <a:solidFill>
                  <a:srgbClr val="000000"/>
                </a:solidFill>
                <a:latin typeface="Euclid Math One"/>
                <a:ea typeface="Euclid Math One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170080" y="4967280"/>
          <a:ext cx="502920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0080" y="4967280"/>
                    <a:ext cx="502920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E1C0-EF6F-40B4-A955-0BCB06A2F3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gative Weights and Cycl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gative edges are OK, as long as there are n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egative weight cycl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therwise paths with arbitrary small “lengths” would be possib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st-paths can have no cycles (otherwise we could improve them by removing cyc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shortest-path in grap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n be no lon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edges, whe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number of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966-531A-440D-9D4F-216BBF8A5F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Relax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or each vertex in the graph, we maintain d[v], the shortest path estimate, initialized to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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t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laxing an edge (u,v) means testing whether we can improve the shortest path to v found so far by going through 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03200" y="457200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AutoShape 5"/>
          <p:cNvCxnSpPr>
            <a:stCxn id="144" idx="6"/>
          </p:cNvCxnSpPr>
          <p:nvPr/>
        </p:nvCxnSpPr>
        <p:spPr>
          <a:xfrm>
            <a:off x="860040" y="48002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6" name="AutoShape 6"/>
          <p:cNvCxnSpPr/>
          <p:nvPr/>
        </p:nvCxnSpPr>
        <p:spPr>
          <a:xfrm>
            <a:off x="860040" y="580680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7" name="Text Box 7"/>
          <p:cNvSpPr/>
          <p:nvPr/>
        </p:nvSpPr>
        <p:spPr>
          <a:xfrm>
            <a:off x="479520" y="4191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698480" y="4191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698480" y="5959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79520" y="59594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01268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089000" y="5730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1622520" y="458784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03200" y="557856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1622520" y="557856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1012680" y="4952880"/>
            <a:ext cx="0" cy="685800"/>
          </a:xfrm>
          <a:prstGeom prst="line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1165320" y="5105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Relax(u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8"/>
          <p:cNvSpPr/>
          <p:nvPr/>
        </p:nvSpPr>
        <p:spPr>
          <a:xfrm>
            <a:off x="2851200" y="457200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AutoShape 19"/>
          <p:cNvCxnSpPr>
            <a:stCxn id="158" idx="6"/>
          </p:cNvCxnSpPr>
          <p:nvPr/>
        </p:nvCxnSpPr>
        <p:spPr>
          <a:xfrm>
            <a:off x="3308040" y="480024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AutoShape 20"/>
          <p:cNvCxnSpPr/>
          <p:nvPr/>
        </p:nvCxnSpPr>
        <p:spPr>
          <a:xfrm>
            <a:off x="3308040" y="5806800"/>
            <a:ext cx="762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1" name="Text Box 21"/>
          <p:cNvSpPr/>
          <p:nvPr/>
        </p:nvSpPr>
        <p:spPr>
          <a:xfrm>
            <a:off x="2927520" y="41911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4146480" y="4191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4146480" y="59594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2927520" y="59594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3460680" y="4419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3537000" y="5730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7"/>
          <p:cNvSpPr/>
          <p:nvPr/>
        </p:nvSpPr>
        <p:spPr>
          <a:xfrm>
            <a:off x="4070520" y="458784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2851200" y="557856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29"/>
          <p:cNvSpPr/>
          <p:nvPr/>
        </p:nvSpPr>
        <p:spPr>
          <a:xfrm>
            <a:off x="4070520" y="5578560"/>
            <a:ext cx="457200" cy="4572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0"/>
          <p:cNvSpPr/>
          <p:nvPr/>
        </p:nvSpPr>
        <p:spPr>
          <a:xfrm>
            <a:off x="3460680" y="4952880"/>
            <a:ext cx="0" cy="685800"/>
          </a:xfrm>
          <a:prstGeom prst="line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4390920" y="5114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Relax(u,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4"/>
          <p:cNvSpPr/>
          <p:nvPr/>
        </p:nvSpPr>
        <p:spPr>
          <a:xfrm>
            <a:off x="5340240" y="3621240"/>
            <a:ext cx="350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la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,v,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[v]&gt;d[u]+w(u,v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[v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[u]+w(u,v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v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6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5A2-0DFA-4B05-8053-3DF9ADDA7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ijkstra's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Non-negative edge we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eedy, similar to Prim's algorithm for M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ike breadth-first search (if all weights = 1, one can simply use BF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priority queue keyed by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(BFS used FIFO queue, here we use a PQ, which is re-ordered whenever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decrea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asic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maintain a set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of solved 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at each step select "closest" vertex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 add it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 and relax all edges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24:30Z</dcterms:modified>
  <cp:revision>126</cp:revision>
  <dc:subject/>
  <dc:title>Algorithms and Data Structures</dc:title>
</cp:coreProperties>
</file>