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3A0-6F41-4B42-A028-8D3ED920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517-8C6E-4C89-BA58-D296825C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74C-2B73-490F-AF6A-D6D2F1DA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56D-C192-4132-857A-9E41A930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15AF-329B-46B4-BBEB-6D4C2157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29D-FE56-4A8B-B32B-88F00E35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3C1-2FD7-4F1E-90E2-E269D3E6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0E6-8239-459F-AE9A-3EC03A0E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985-3E37-49B6-9B62-488E5B40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18F-1941-4BF4-9115-62E1B87E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9B3-8888-4065-91FF-0AE64E9C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EAF-66E5-413A-BB95-3F34860B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D04F-1B95-44F9-9646-E844B81D7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Conventional Encryption Message Confidentia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029200"/>
            <a:ext cx="9144000" cy="15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33920" y="6324480"/>
            <a:ext cx="1600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94A-306E-481D-8810-E14526A7BB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nventional 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ata Encryption Standard (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most widely used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algorithm is reffered to the Data Encryption Algorithm (D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ES is a block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plaintext is processed in 64-bi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key is 56-bits in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DFA-0EE6-433D-9420-3F2FD19E01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28760" y="181080"/>
          <a:ext cx="4686480" cy="649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81080"/>
                    <a:ext cx="4686480" cy="64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A56-85DC-494F-A475-EE9F186E97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B87-4E33-401C-A689-B8C348D331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The overall processing at each ite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= L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     F(R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-1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, K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omic Sans MS"/>
              </a:rPr>
              <a:t>Concerns abou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he algorithm and the key length (56-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971800" y="3657600"/>
                <a:ext cx="436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6B8-ECF3-44B3-AE5E-34FC7FEFCE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ime to break a code (10</a:t>
            </a:r>
            <a:r>
              <a:rPr b="1" lang="sv-SE" sz="4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 decryptions/µ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105160" cy="50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9F2-556E-4CF0-A7BD-A7A409CEE8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iple 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ree keys and three executions of the DES algorithm (encrypt-decrypt-encry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C = cipher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P = Plai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EK[X] = encryption of X using key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DK[Y] = decryption of Y using key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ffective key length of 16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962520"/>
            <a:ext cx="29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581280"/>
            <a:ext cx="3657600" cy="52056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 = E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K3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D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K2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E</a:t>
            </a:r>
            <a:r>
              <a:rPr b="0" lang="sv-SE" sz="1800" spc="-1" strike="noStrike">
                <a:solidFill>
                  <a:srgbClr val="000000"/>
                </a:solidFill>
                <a:latin typeface="Comic Sans MS"/>
              </a:rPr>
              <a:t>K1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[P]]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2F6-69F6-4B06-BC15-170BEA8906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iple 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9000" y="1038240"/>
          <a:ext cx="40860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9000" y="1038240"/>
                    <a:ext cx="40860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6FF-AEE1-426C-99DF-C46FE441A7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Symmetric Block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International Data Encryption Algorithm (ID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128-bi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Used in P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Comic Sans MS"/>
              </a:rPr>
              <a:t>Blow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High execution spe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un in less than 5K of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D17-F5FB-4538-90E7-1DD1CD8BEB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Symmetric Block Cip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RC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itable for hardware and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ast, si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daptable to processors of different word leng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ble number of ro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ariable-leng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ow memory requi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igh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ata-dependent ro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Cast-12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ey size from 40 to 128 b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e round function differs from round to 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261-0F35-4370-A47B-56C10C5426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ipher Block Modes of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pher Block Chaining Mode (CB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put to the encryption algorithm is the XOR of the current plaintext block and the preceding ciphertext b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ing pattern of 64-bits are not ex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600200" y="4191120"/>
            <a:ext cx="4905360" cy="231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F62-FFA3-4D1F-B8FC-8F82E967B7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pher Block Modes of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cation of Encryption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y D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2EF-7B79-4445-B5FF-B31C753122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2C40-FC7B-4EA3-865C-887DB00009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Location of Encryption De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Link encry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 lot of encryption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igh level of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crypt each packet at every swit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End-to-end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e source encrypt and the receiver decry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ayload encry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Header in the 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High Security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Both link and end-to-end encryption are needed (see Figure 2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B43-2B16-4F00-B96C-90DA076A87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640" y="163440"/>
            <a:ext cx="9107280" cy="652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9DF-341B-4DB2-959E-46C88138DB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key could be selected by A and physically delivered to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ird party could select the key and physically deliver it to A and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and B have previously used a key, one party could transmit the new key to the other, encrypted using the old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 and B each have an encrypted connection to a third party C, C could deliver a key on the encrypted links to A and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8063-98C8-4558-850C-03A6763D0B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Distribution (See Figure 2.10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ssion k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ta encrypted with a one-time session key.At the conclusion of the session the key is destroy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anent ke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between entities for the purpose of distributing session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3DF-F519-4E52-AE30-FC9FDE5946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9144000" cy="618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9D2-B7EC-4EFA-88EC-D8DF7982B9C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tallings, W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Cryptography and Network Security: Principles and Practice, 2</a:t>
            </a:r>
            <a:r>
              <a:rPr b="0" i="1" lang="sv-SE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 edition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Prentice Hall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cneier, B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Applied Cryptography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, New York: Wiley, 19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Mel, H.X. Baker, D. </a:t>
            </a:r>
            <a:r>
              <a:rPr b="0" i="1" lang="sv-SE" sz="3200" spc="-1" strike="noStrike">
                <a:solidFill>
                  <a:srgbClr val="000000"/>
                </a:solidFill>
                <a:latin typeface="Comic Sans MS"/>
              </a:rPr>
              <a:t>Cryptography Decrypted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. Addison Wesley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DCA5-AC7E-4403-BB8D-BA43768A39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ncryption scheme has five ingredi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i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ryption 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pher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rity depends on the secrecy of the key, not the secrecy of th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B15-D4F1-4E71-A55E-13593CA4EA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Conventional Encryption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7C8-3C19-4A5E-A864-B19725549D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ypt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ed along three independent dimens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ype of operations used for transforming plaintext to cipher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mber of key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 (single 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ymmetric (two-keys, or public-key encryp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ay in which the plaintext is pro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E14-4ED9-4EEC-8BE4-FC4F21E5A5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verage time required for exhaustive</a:t>
            </a: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 key se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209680"/>
          <a:ext cx="8305920" cy="3799080"/>
        </p:xfrm>
        <a:graphic>
          <a:graphicData uri="http://schemas.openxmlformats.org/drawingml/2006/table">
            <a:tbl>
              <a:tblPr/>
              <a:tblGrid>
                <a:gridCol w="1752480"/>
                <a:gridCol w="3124440"/>
                <a:gridCol w="342900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ey Size (bit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ber of Alternative Ke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me required at 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Decryption/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µ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.3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5 milliseco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7.2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ho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8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3.4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4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sv-SE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68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3.7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 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sv-SE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DB4-109A-4588-A90F-EAB240C763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eistel Ciphe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rtually all conventional block encryption algorithms, including DES have a structure first described by Horst Feistel of IBM in 197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ealisation of a Fesitel Network depends on the choice of the following parameters and desi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g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eatures (see next slide)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9BE-0CAD-4920-8998-EB347D67FF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eistel Ciphe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ock siz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r block sizes mean grea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ey Siz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r key size means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greater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Number of rounds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multiple rounds offer increas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Subkey generation algorithm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greater complexity will lead to greater difficulty of crypt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Fast software encryption/decryption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he speed of execution of the algorithm becomes a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ED8F-0F2E-4672-8B47-898EE72A9B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74056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5F8-699E-4612-A7F4-29ABA10D17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49:13Z</dcterms:created>
  <dc:creator>Henric Johnson</dc:creator>
  <dc:description/>
  <dc:language>en-US</dc:language>
  <cp:lastModifiedBy>Henric Johnson</cp:lastModifiedBy>
  <dcterms:modified xsi:type="dcterms:W3CDTF">2001-08-23T09:47:13Z</dcterms:modified>
  <cp:revision>23</cp:revision>
  <dc:subject/>
  <dc:title>Chapter 2</dc:title>
</cp:coreProperties>
</file>