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A7F-DAFC-476D-97C5-9C2945F9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3A1-7501-4B30-BA3A-E5DFEC82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B0A-8006-4BAB-9242-F585D537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58F-8F7F-456B-9AC9-99907879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210-9A90-4187-BF2F-EA3F9CF5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A82-8148-4512-8C01-88C03909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1DD-521A-4B3E-933D-AA89172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310-0CB5-4F4C-B69D-96153733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D50-B545-4586-8EC6-F1F632D8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1444-5A30-4D90-9C89-BE5E9582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5CA-13AE-40D5-A6E6-E412435F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431-8825-43B8-B524-F11D21C8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9180-AC4E-4EB6-BBB1-766575E41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5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0000"/>
                </a:solidFill>
                <a:latin typeface="Comic Sans MS"/>
              </a:rPr>
              <a:t>Electronic mail security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86200" y="6248520"/>
            <a:ext cx="1295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CF3-104B-4745-BC1E-118B0A8AB1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umary of PGP Services 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43000" y="1295280"/>
          <a:ext cx="7088040" cy="813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7088040" cy="813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886200" y="6324480"/>
            <a:ext cx="13716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568-34B3-4181-80A0-8D6D3197E5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04920" y="90360"/>
          <a:ext cx="8686800" cy="615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0360"/>
                    <a:ext cx="86868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E77-65E0-4836-B579-3C57258625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ormat of PGP Messag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905120" y="1295280"/>
          <a:ext cx="556236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5623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01A-E444-40F7-B7CC-05C5D96D3F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60480"/>
          <a:ext cx="8915400" cy="60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480"/>
                    <a:ext cx="8915400" cy="60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CDE-E918-4999-9C23-4E25A56CBF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2280" y="147600"/>
          <a:ext cx="8839440" cy="613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13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1FFB-F04B-426F-8286-7B9939A15F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04920" y="160200"/>
          <a:ext cx="8610480" cy="61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200"/>
                    <a:ext cx="8610480" cy="61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E57-D6D4-421F-8DA2-1F01516005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Use of Trus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legitimacy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gnature trust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wner trust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4419720"/>
            <a:ext cx="4191120" cy="947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e Table 5.2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W. Stallin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8AD-5404-4A24-AC8D-3C973786F5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28760" y="561960"/>
          <a:ext cx="8288280" cy="57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561960"/>
                    <a:ext cx="8288280" cy="57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CF1-A5A9-40FE-AB03-21D27958CC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voking Public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Keys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wner issue a key revocation certific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rmal signature certificate with a revote indica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rresponding private key is used to sign the certific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F40-A976-4C89-8573-D0CA15ABDE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/MIM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e/Multipurpose Internet Mail Exten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/MIME will probably emerge as the industry standar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GP for personal e-mail secur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B94-F0F2-448B-BB68-760AE44854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retty good priva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/M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ecommended web s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5592-B47B-4011-A95E-0C47C686C2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imple Mail Transfer Protocol (SMTP, RFC 822)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MTP Limitations - Can not transmit, or has a problem wit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ecutable files, or other binary files (jpeg imag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ional language” characters (non-ASCI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ssages over a certain 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CII to EBCDIC translation probl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s longer than a certain length (72 to 254 character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7F2-7109-42D7-B84B-F978C8BDE0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ader fields in MIM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ME-Vers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ust be “1.0” -&gt; RFC 2045, RFC 20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ent-Typ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More types being added by developers (application/wor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ent-Transfer-Encod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How message has been encoded (radix-6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ent-I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Unique identifying character str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ent Descrip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Needed when content is not readable text (e.g.,mpe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129-67E8-4304-8D14-D94A3FE5FC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/MIME Func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veloped Dat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crypted content and encrypted session keys for recipi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gned Dat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essage Digest encrypted with private key of “signer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ear-Signed Dat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ed but not encryp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gned and Enveloped Data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arious orderings for encrypting and sign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632-4EEB-4543-B8C8-A0B3FC38A3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lgorithms Used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ssage Digest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A-1 and M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gital Signatur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ret-Key Encryp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riple-DES, RC2/40 (exportabl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blic-Private Key Encrypt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RSA with key sizes of 512 and 1024 bits, and Diffie-Hellman (for session keys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0C5-6041-4522-ACF9-0BFFCE8014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ser Agent Rol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/MIME uses Public-Key Certificates - X.509 version 3 signed by Certification Autho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c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Key Gener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Diffie-Hellman, DSS, and RSA key-pai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gistratio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 Public keys must be registered with X.509 C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ertificate Stora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Local (as in browser application) for different servic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gned and Enveloped Dat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Various orderings for encrypting and signin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42F5-015D-4740-9224-2738C502F4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ser Agent Rol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ample: Verisign (www.verisign.co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ass-1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Buyer’s email address confirmed by emailing vital inf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ass-2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Postal address is confirmed as well, and data checked against director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ass-3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Buyer must appear in person, or send notarized docu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E8D-C39B-4562-B07D-43D785161A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commended Web Sit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59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GP home page: www.pgp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T distribution site for PG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/MIME Char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/MIME Central: RSA Inc.’s Web Si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3DB-DD54-4000-BEFB-CA5014B7A8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retty Good Privac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hilip R. Zimmerman is the creator of PG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GP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rovides a confidentiality and authentication service that can be used for electronic mail and file storage applica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2D17-B330-43E1-AD87-36F67D051F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Why Is PGP Popular?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It is availiable free on a variety of platfo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d on well know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lgorithms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Wide range of applic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Not developed or controlled by governmental or standards organizati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51C-26D5-4226-BA27-30E6CDA76F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perational Descrip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sist of five servic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-mail compati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30A-8A08-41A7-815A-1B01B07D3A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181080"/>
          <a:ext cx="8991720" cy="61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1080"/>
                    <a:ext cx="8991720" cy="61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54B-99DD-4FA9-92C3-5ECBE2B29B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mpress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GP compresses the message after applying the signature but before encry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e placement of the compression algorithm is critic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e compression algorithm used is ZIP (described in appendix 5A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280-8332-4C65-8B11-61A41791E5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-mail Compatibilit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cheme used is radix-64 conversion (see appendix 5B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se of radix-64 expands the message by 33%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0" y="3276720"/>
          <a:ext cx="525780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276720"/>
                    <a:ext cx="525780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14D-4896-4654-A2BE-FE040BEE90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gmentation and Reassembl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ten restricted to a maximum message length of 50,000 octe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nger messages must be broken up into segm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GP automatically subdivides a message that is to lar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ceiver strip of all e-mail headers and reassemble the bloc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C0B-47E4-4514-B601-2E17EA0A2E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13:21:20Z</dcterms:created>
  <dc:creator>Henric Johnson</dc:creator>
  <dc:description/>
  <dc:language>en-US</dc:language>
  <cp:lastModifiedBy>Henric Johnson</cp:lastModifiedBy>
  <dcterms:modified xsi:type="dcterms:W3CDTF">2001-08-23T09:50:11Z</dcterms:modified>
  <cp:revision>16</cp:revision>
  <dc:subject/>
  <dc:title>CHAPTER 5</dc:title>
</cp:coreProperties>
</file>