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F21-15FD-475E-A4F9-DBF208B6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142-DF10-4AAB-91A4-8022A1E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20D-8B73-40F6-BEF9-EAD418EE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CE87-804F-491F-A9CE-71975968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F9C-C2B0-4070-859C-108695CA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521A-B0CD-4124-A687-5CA7C24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990F-FCE8-48E2-9164-450AF94C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BC5-01C5-417D-89BA-5EC4DE2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77D-065A-4F5A-B30A-E634D51A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770-48D2-42AA-822D-EF45457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3D2-54F8-4B9F-8618-A23234FA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818-C541-43A0-98FF-D6BCFA99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305-9A31-479F-8DDA-7054D77A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Network Security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ww.its.bth.se/staff/hjo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46 708 250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j0254382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15416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bth" descr=""/>
          <p:cNvPicPr/>
          <p:nvPr/>
        </p:nvPicPr>
        <p:blipFill>
          <a:blip r:embed="rId2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86200" y="6248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E01-4C97-46B8-B2DD-360DA4AC37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1600" y="1346040"/>
            <a:ext cx="8739360" cy="416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E505-A2E2-417F-A07B-F57DB0B353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ethods of Def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ftware Controls (access limitations in a data base, in operating system protect each user from other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rdware Controls (smartc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licies (frequent changes of passw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al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18C-44B6-4F59-847A-0B8D4EABDB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Internet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Architecture Board (IA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Task Force (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Engineering Steering Group (IES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3CA-DA10-4497-B245-9B3F87C9E4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ernet RFC Publicatio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743200" y="2133720"/>
            <a:ext cx="4052880" cy="418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ED26-527A-4C41-9B37-A7A0F77D4E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Pfleeger, C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Security in Computing.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Prentice Hall, 199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508-4D62-42F9-B7A0-6CF67A19A0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hods of Def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odel for Internetwork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et standards and RF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341-7841-4F6B-A2F1-EF0C3B89B8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ttacks, Services and Mechanis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Attack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action that compromises the security of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Mechanism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echanism that is designed to detect, prevent, or recover from a security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urity Servic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vice that enhances the security of data processing systems and information transfers.  A security service makes use of one or more security mech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DF2-BC40-4886-A4D0-129A93FB9C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7712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8E9B-0FC8-484F-B4C0-74C47F114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ru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cep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f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integt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bric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is is an attack on authen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F49-28BA-474C-91DD-DA3EB65F1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905120"/>
            <a:ext cx="3276360" cy="2971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276720"/>
            <a:ext cx="3276720" cy="2971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352680"/>
            <a:ext cx="3276360" cy="297180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2590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5105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a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1CF-8144-4269-A5B9-E054F6F53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402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1925-CA78-4A4D-9FDF-A3E5F3D098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ecur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dentiality (priv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entication (who created or sent the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ity (has not been alt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repudiation (the order is fi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control (prevent misuse of resour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ility (permanence, non-era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ial of Service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us that deletes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76F-0A1F-4CEF-96C8-179F0535B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8080" y="341280"/>
            <a:ext cx="8726400" cy="617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C4A-0265-4012-B270-114F2F3A7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0:52:39Z</dcterms:created>
  <dc:creator>Vicky</dc:creator>
  <dc:description/>
  <dc:language>en-US</dc:language>
  <cp:lastModifiedBy>Henric Johnson</cp:lastModifiedBy>
  <dcterms:modified xsi:type="dcterms:W3CDTF">2001-08-23T09:46:37Z</dcterms:modified>
  <cp:revision>11</cp:revision>
  <dc:subject/>
  <dc:title>Network Security</dc:title>
</cp:coreProperties>
</file>