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E146-41CC-4B7D-AA2A-04F0FD79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CCF-8A6F-4CCE-8878-A8F0E9F8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4DB-4B27-4729-9D77-6144098F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0C8-3619-4B57-A907-29EDA768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A35-0694-4C46-AF46-60F0FA60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633-4AF9-456C-8710-0AA61D58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00AF-DD74-4310-919E-363AB52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611-0951-4875-8B7E-49BB382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81B-A4D2-47E1-96F6-3D52E044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281-0B2E-4882-BA3B-07E6573A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C69-99E6-420E-AF97-ECF8995A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A44E-F225-4FA5-A333-A9CA5BA5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0630-9E47-4D66-A129-3A4852E1E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6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omic Sans MS"/>
              </a:rPr>
              <a:t>IP Securit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64832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62520" y="6248520"/>
            <a:ext cx="1218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47B-9F3F-41ED-932F-E8CA9D4B8C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Archite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PSec document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1: An overview of security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2: Description of a packet encryption extension to IPv4 and IPv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6: Description of a packet emcryption extension to IPv4 and IPv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FC 2408: Specification of key managament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124-0261-4974-A464-46531E2A37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Sec Document Overview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09680" y="1447920"/>
          <a:ext cx="4559400" cy="52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5594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17C-D3CF-46FD-ACBC-8CA6EDBAD5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Sec Servic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ccess Contr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nectionless integ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ata origin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jection of replayed pack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fidentiality (encryp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Limited traffic flow confidential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174-B459-43FE-844D-69EEE4ACDE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Associations (SA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 one way relationsship between a sender and a recei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dentified by three paramet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ity Parameter Index (SP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Destination add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ity Protocol Identifi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64E-6EF8-4B3E-9A48-D180241F86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33520" y="609480"/>
          <a:ext cx="8229600" cy="5600520"/>
        </p:xfrm>
        <a:graphic>
          <a:graphicData uri="http://schemas.openxmlformats.org/drawingml/2006/table">
            <a:tbl>
              <a:tblPr/>
              <a:tblGrid>
                <a:gridCol w="2743200"/>
                <a:gridCol w="2895840"/>
                <a:gridCol w="2590560"/>
              </a:tblGrid>
              <a:tr h="114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ansport Mode 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nel Mode 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henticates IP payload and selected portions of IP header and IPv6 extension he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henticates entire inner IP packet plus selected portions of outer 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P payload and any IPv6 extesion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nner IP pac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P with authent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P payload and any IPv6 extesion header. Authenticates IP payload but no IP hea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crypts inner IP packet. Authenticates inner IP packe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0C58-BB5A-4717-A616-2241E0B7D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Before applying AH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280" y="2514600"/>
          <a:ext cx="8305920" cy="27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514600"/>
                    <a:ext cx="8305920" cy="27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370-73E2-4775-8EA3-85556875C0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ansport Mode (AH Authentication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2286000"/>
          <a:ext cx="8478720" cy="33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47872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36F-DD6F-4188-8993-1A20FB4E0E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unnel Mode (AH Authentication)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880" y="2065320"/>
          <a:ext cx="8229600" cy="35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65320"/>
                    <a:ext cx="822960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739-0496-4712-B945-43096C6DCC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uthentication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rovides support for data integrity and authentication (MAC code) of IP packe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Guards against replay att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447920" y="2819520"/>
          <a:ext cx="609588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819520"/>
                    <a:ext cx="609588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482-499D-4270-B3FA-BD1AB56DEF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d-to-end versus End-to-Intermediate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981080"/>
          <a:ext cx="883908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83908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EA4-7774-4698-B7DE-79362CDFA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nternetworking and Internet Protocols (Appendix 6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 Security Archite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F92-0A0B-4B11-828A-8FF1E7D7C1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apsulating Security Payloa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SP provides confidentiality serv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00200" y="2133720"/>
          <a:ext cx="58435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843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B6A5-93B7-405B-A3A5-19FD22DDE9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ryption and Authentication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cryp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ree-key triple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ree-key triple ID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Blowfis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MAC-MD5-9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MAC-SHA-1-9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015-7946-4A2C-BCD5-E32C273188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SP Encryption and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905120"/>
          <a:ext cx="8305920" cy="41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305920" cy="41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8CA-F32A-4F48-B883-970AAB1679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SP Encryption and 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2149560"/>
          <a:ext cx="82296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49560"/>
                    <a:ext cx="82296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7F59-EC3F-4F0B-97AE-41D9EFDAB3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24160" y="1981080"/>
          <a:ext cx="6295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1981080"/>
                    <a:ext cx="6295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4FB-1E45-41E9-9301-9CC8017EF2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174680" y="1981080"/>
          <a:ext cx="6792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4680" y="1981080"/>
                    <a:ext cx="6792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A50-9AEE-4116-A286-0CF443F925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676520" y="2057400"/>
          <a:ext cx="575784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5784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E65-CBC5-4010-A713-A0476A2B12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binations of Security Associations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57400" y="1905120"/>
          <a:ext cx="530064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905120"/>
                    <a:ext cx="530064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885-9AE4-44B8-A954-4476896300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wo typ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omated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Oakley Key Determination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nternet Security Association and Key Management Protocol (ISAKM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7BC3-82B3-4BE8-884E-F5AE7646FB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akle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ree authentication method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igital sign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ublic-key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ymmetric-key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82E-E0EB-4B23-8E0B-52496A0608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CP/IP Examp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38080" y="1371600"/>
          <a:ext cx="737892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37892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464-966E-4169-B3F1-465B472539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SAKMP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47920" y="1523880"/>
          <a:ext cx="6173640" cy="49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173640" cy="49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2F1-D782-4CBE-8CC0-0E73AF3F7F0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m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Internetworking with TCP/IP, Volume I: Principles, Protocols and Architecture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Prentic Hall, 19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even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TCP/IP Illustrated, Volume 1: The Protocols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-Wesley, 199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189-EBDF-40D0-8B44-5BFA8890F9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v4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2286000"/>
          <a:ext cx="8825040" cy="34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0"/>
                    <a:ext cx="8825040" cy="34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B5F0-AD62-42C8-9243-6C0E11766C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v6 Header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7363080" cy="436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363080" cy="43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1C75-421F-49F8-86CE-4B41188876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PSec is not a single protocol. Instead, IPSec provides a set of security algorithms plus a general framework that allows a pair of communicating entities to use whichever algorithms provide security appropriate for the communic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BAB-371A-43C3-89AE-EF2DE33925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pplications of IPS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e branch office connectivity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cure remote access over the Intern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stablsihing extranet and intranet connectivity with part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nhancing electronic commerce secur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9A8-DEEE-4C44-B21C-7FEBD0E207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Scenario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1828800"/>
          <a:ext cx="662940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662940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608-ACAC-4290-9E6D-3AC21B5403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IP Security Overview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Benefits of IPSe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ransparent to applications (below transport layer (TCP, UD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rovide security for individual us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PSec can assur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outer or neighbor advertisement comes from an authorized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edirect message comes from the router to which the initial packet was 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routing update is not forg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8A2-1EAE-4CB4-9ED7-A6C7303B61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1T08:22:57Z</dcterms:created>
  <dc:creator>Henric Johnson</dc:creator>
  <dc:description/>
  <dc:language>en-US</dc:language>
  <cp:lastModifiedBy>Henric Johnson</cp:lastModifiedBy>
  <dcterms:modified xsi:type="dcterms:W3CDTF">2001-08-23T09:50:36Z</dcterms:modified>
  <cp:revision>14</cp:revision>
  <dc:subject/>
  <dc:title>Chapter 6</dc:title>
</cp:coreProperties>
</file>