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30C-554F-4C5A-9C6D-97B6C712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A20-AA94-4290-A166-EBA99740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C069-87FD-4440-B1B8-E126CC16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1277-53AE-4495-BEDD-2A53310D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0EA2-B4CB-4C9F-9B51-368B77FC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ED7-3258-4845-ACD7-9CF9922F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5F5D-8B2F-4A47-8158-3A84B081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332-A4D9-4EB8-A077-4DA8D3C4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8E9-6827-4CDF-A31B-0079251A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D91C-EFE8-4590-93FD-B5E62777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8AD9-9D9F-48E5-A941-684701A2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6139-CD94-4D00-9468-CA6DC8D9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9BF7-BD24-43CE-9FC6-E8E1C0D92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Comic Sans MS"/>
              </a:rPr>
              <a:t>Chapter 4</a:t>
            </a: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800" spc="-1" strike="noStrike">
                <a:solidFill>
                  <a:srgbClr val="000000"/>
                </a:solidFill>
                <a:latin typeface="Comic Sans MS"/>
              </a:rPr>
              <a:t>Authentication Application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24280"/>
            <a:ext cx="914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lekinge Institute of Technology,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33920" y="62485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9A8-46FA-49DE-B413-3DD4D77293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200" spc="-1" strike="noStrike">
                <a:solidFill>
                  <a:srgbClr val="000000"/>
                </a:solidFill>
                <a:latin typeface="Comic Sans MS"/>
              </a:rPr>
              <a:t>Version 4 Authentication Dialogue</a:t>
            </a:r>
            <a:endParaRPr b="1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1447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mic Sans MS"/>
              </a:rPr>
              <a:t>Authentication Service Exhange: To obtain Ticket-Granting Tick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Comic Sans MS"/>
              </a:rPr>
              <a:t>AS: </a:t>
            </a:r>
            <a:r>
              <a:rPr b="0" lang="sv-S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000" spc="-1" strike="noStrike">
                <a:solidFill>
                  <a:srgbClr val="000000"/>
                </a:solidFill>
                <a:latin typeface="Comic Sans MS"/>
              </a:rPr>
              <a:t>         IDc || IDtgs ||TS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C: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        E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Kc 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[K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c,tgs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|| ID</a:t>
            </a:r>
            <a:r>
              <a:rPr b="0" lang="sv-SE" sz="1400" spc="-1" strike="noStrike">
                <a:solidFill>
                  <a:srgbClr val="000000"/>
                </a:solidFill>
                <a:latin typeface="Comic Sans MS"/>
              </a:rPr>
              <a:t>tgs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|| TS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|| Lifetime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|| Ticket</a:t>
            </a:r>
            <a:r>
              <a:rPr b="0" lang="sv-SE" sz="1200" spc="-1" strike="noStrike">
                <a:solidFill>
                  <a:srgbClr val="000000"/>
                </a:solidFill>
                <a:latin typeface="Comic Sans MS"/>
              </a:rPr>
              <a:t>tgs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048120"/>
            <a:ext cx="8534160" cy="1710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900" spc="-1" strike="noStrike">
                <a:solidFill>
                  <a:srgbClr val="000000"/>
                </a:solidFill>
                <a:latin typeface="Comic Sans MS"/>
              </a:rPr>
              <a:t>Ticket-Granting Service Echange: To obtain Service-Granting Tick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(3)  C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TGS:             IDv ||Ticket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tgs 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||Authenticato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(4)    TGS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C:           E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Kc 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[K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c,¨v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|| IDv || TS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|| Ticket</a:t>
            </a:r>
            <a:r>
              <a:rPr b="0" lang="sv-SE" sz="12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952880"/>
            <a:ext cx="8534160" cy="1223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mic Sans MS"/>
              </a:rPr>
              <a:t>Client/Server Authentication Exhange: To Obtain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(5) C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V:                 Ticket</a:t>
            </a:r>
            <a:r>
              <a:rPr b="0" lang="sv-SE" sz="1800" spc="-1" strike="noStrike" baseline="-25000">
                <a:solidFill>
                  <a:srgbClr val="000000"/>
                </a:solidFill>
                <a:latin typeface="Comic Sans MS"/>
              </a:rPr>
              <a:t>v 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|| Authenticator</a:t>
            </a:r>
            <a:r>
              <a:rPr b="0" lang="sv-SE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(6)  V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C: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          EKc,v[TS5 +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F824-2A1C-4BE9-97C5-A1ACF601C2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verview of Kerbero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095480"/>
            <a:ext cx="7543800" cy="544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8925-B431-4927-88A2-E2F62F6E97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quest for Service in Another Realm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0574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743200" y="1371600"/>
          <a:ext cx="42022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371600"/>
                    <a:ext cx="42022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7479-F093-4BED-9857-234234C5B0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fference Between Version 4 and 5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ryption system dependence (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V.4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net protocol depend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ssage byte order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cket life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hentication forwar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realm authent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0D0D-C112-46E3-A4F6-134B582A8D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Kerberos Encryption Techniques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327400" y="914400"/>
          <a:ext cx="47149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7400" y="914400"/>
                    <a:ext cx="47149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686-2AEC-4207-AC32-4C6CC54E77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CBC Mod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0102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0B6B-E9F6-4382-B6DA-D12CB97C6B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Kerberos - in practise</a:t>
            </a: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urrently have two Kerberos versions</a:t>
            </a:r>
            <a:r>
              <a:rPr b="1" lang="sv-SE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4 : restricted to a single realm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5 : allows inter-realm authentication, in beta test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erberos v5 is an Internet standard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ecified in RFC1510, and used by many utilitie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o use Kerberos</a:t>
            </a:r>
            <a:r>
              <a:rPr b="1" lang="sv-SE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ed to have a KDC on your network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eed to have Kerberised applications running on all participating system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jor problem - US export restriction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erberos cannot be directly distributed outside the US in source format (&amp; binary versions must obscure crypto routine entry points and have no encryption)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lse crypto libraries must be reimplemented locally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Comic Sans MS"/>
                <a:hlinkClick r:id="rId1" action="ppaction://hlinksldjump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DD20-C4E8-4C72-93D6-266E9302F3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.509 Authentication Servic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ed set of servers that maintains a database about us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certificate contains the public key of a user and is signed with the private key of a 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used in S/MIME, IP Security, SSL/TLS and S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SA is recommended to u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4DEF-CFF0-42E5-95D9-9ED977365F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.509 Format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620120" cy="558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E4EE-9C64-4F6A-A0B2-92898BF0AC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858000" cy="4471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90720" y="838080"/>
            <a:ext cx="73152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114300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ical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igital Signatur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FDD-9D6E-4840-8D6B-5C05724B2F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ecurity Concer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Kerber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X.509 Authentication Serv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Recommended reading and Web Si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E94-7E3D-4ABF-B55E-CE3233D924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btaining a User’s Certificat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racteristics of certificates generated by C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user with access to the public key of the CA can recover the user public key that was certifi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part other than the CA can modify the certificate without this being detect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D80-CDEC-4C83-B2CC-91E734167C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.509 CA Hierarch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4865760" cy="555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1E68-4469-4CB8-B7C6-8E3A9C0983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vocation of Certificat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sons for revocatio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rs secret key is assumed to be compromis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r is no longer certified by this C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A’s certificate is assumed to be compromis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5DD4-3D8B-4A18-9263-0D1B621282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uthentication Procedur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71800" y="1143000"/>
          <a:ext cx="3693960" cy="53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143000"/>
                    <a:ext cx="369396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254F-11F7-4651-A29C-F8C6EA41B0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ecommended Reading and WEB Sit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.whatis.com (search for kerbero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yant, W. Designing an Authentication System: A Dialogue in Four Scene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://web.mit.edu/kerberos/www/dialogue.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ohl, J.; Neuman, B. “The Evolotion of the Kerberos Authentication Service”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ttp://web.mit.edu/kerberos/www/papers.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www.isi.edu/gost/info/kerberos/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241-97C6-47C0-A496-DE2E606BE9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curity Concer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 concerns ar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fidentiali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melines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provide confidentiality must encrypt identification and session key inf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requires the use of previously shared private or public key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 timeliness to prevent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play attack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d by using sequence numbers or timestamps or challenge/respons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D1A3-4FB0-4CF0-BFD1-0D42B34B99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RBERO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In Greek mythology, a many headed dog, the guardian of the entrance of Ha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krblogo_big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153036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1CF7-587D-41B6-83D4-8D1A70B93D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RBERO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rs wish to access services on serv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ee threats exis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 pretend to be another us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 alter the network address of a worksta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 eavesdrop on exchanges and use a replay attac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1A3-9865-4240-B354-410A7A9AF0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RBERO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es a centralized authentication server to authenticate users to servers and servers to us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ies on conventional encryption, making no use of public-key encryp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wo versions: version 4 and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sion 4 makes use of D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4F3-98E2-4E27-BBD0-5BAC8AFEE2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rberos Version 4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rm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 = Cli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= authentication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 = ser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identifier of user on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identifier of 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password of user on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network address of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secret encryption key shared by AS an 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TS = timesta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|| = concate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157-054A-49C4-B0DA-17D26FF225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A Simple Authentication Dialogu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AS: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||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||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0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C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ick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V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||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Tick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icket = E</a:t>
            </a:r>
            <a:r>
              <a:rPr b="0" lang="sv-SE" sz="28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sv-SE" sz="2400" spc="-1" strike="noStrike" baseline="-25000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||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c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||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8A1-056B-4D19-9D55-9161198421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Version 4 Authentication Dialogu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fetime associated with the ticket-granting tick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o short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peatedly asked for passwo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o long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reater opportunity to rep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hreat is that an opponent will steal the ticket and us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fore it expi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243-D96B-4A6E-A61F-DD79322166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09:51:07Z</dcterms:created>
  <dc:creator>Henric Johnson</dc:creator>
  <dc:description/>
  <dc:language>en-US</dc:language>
  <cp:lastModifiedBy>Henric Johnson</cp:lastModifiedBy>
  <dcterms:modified xsi:type="dcterms:W3CDTF">2001-08-23T09:48:51Z</dcterms:modified>
  <cp:revision>20</cp:revision>
  <dc:subject/>
  <dc:title>PowerPoint Presentation</dc:title>
</cp:coreProperties>
</file>