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B44-2D98-431A-B169-14191EED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3E3-1B23-4E0B-B43F-1602321A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F34-B2C3-4D7F-A548-7296B062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B39-D888-40B8-BC3A-9F8B2644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1100-845E-4A95-8002-7FB16864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56AC-6E62-4977-B408-342126EC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4534-430C-4186-844F-DDE1B4DF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A2C-2812-4EA0-AA4E-9E5E0337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129-1872-4AB0-B287-B017857F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9B6-A91A-498A-A4BA-404E08FC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8C2-F7F7-45BE-AAE5-03B6B5F3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3C1-95F4-4A59-B7D8-EEA744B9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D693-9382-40F8-9D86-822E41BBCA28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8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6782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Network Management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80060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248520"/>
            <a:ext cx="1447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B2E-5A8D-4273-ADAC-15AB6D5C26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1 Administrative Concep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523880" y="2057400"/>
          <a:ext cx="61531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6153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F2B-0092-4CE9-9146-2651818385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3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 defines a security capability to be used in conjunction with SNMPv1 or v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2666880"/>
          <a:ext cx="609624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666880"/>
                    <a:ext cx="60962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5E9-D55B-450E-B156-F23C18B0A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3 Flo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295280"/>
          <a:ext cx="784836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784836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96F-E14A-4037-A66C-44BAC7AB22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ditional SNMP Manag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0" y="1295280"/>
          <a:ext cx="47768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95280"/>
                    <a:ext cx="4776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388-1BB3-4DB1-9E16-DA60D0D800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ditional SNMP Agen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71880" y="1447920"/>
          <a:ext cx="47224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447920"/>
                    <a:ext cx="4722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EC9-FFC5-4C37-8F54-562593AA30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3 Message Format with US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0" y="1905120"/>
          <a:ext cx="4800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4800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DA7-A6EB-4267-9775-08B48B4460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User Security Model (USM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esigned to secure again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odification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essage stream mod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ot intended to secure again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nial of Service (DoS attack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F56F-A46C-47F5-B51D-B5E6B1CA0E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Localization Proces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2120" y="1752480"/>
          <a:ext cx="751356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7513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6E2-C334-4683-B71C-89019B5C74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View-Based Access Control Model (VACM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VACM has two characteristic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termines wheter access to a managed object should be allow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ke use of an MIB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fines the access control policy for this ag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kes it possible for remote configuration to be us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475-2644-4DBC-A4ED-87423AE577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ccess control decis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14400" y="1143000"/>
          <a:ext cx="708660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086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537-CEE9-4684-A78F-5FBF0DEF21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Basic Concepts of SNM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1 Community Fac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350-C80A-4EEB-A2E0-95467A819C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ubramanian, Mani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Network Management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20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alling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SNMP, SNMPv1, SNMPv3 and RMON 1 and 2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199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ETF SNMPv3 working group (Web sit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3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F514-37FE-4E42-8172-FF841446ED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Basic Concepts of SN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n integrated collection of tools for network monitoring and contr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Single operator interf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inimal amount of separate equipment. Software and network communications capability built into the existing equip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NMP key element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ement s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ament ag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anagement information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Network Management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Get, Set and Notif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4BC-6BD4-4247-85EC-65DC2868E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otocol context of SN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1600" y="1981080"/>
          <a:ext cx="6545160" cy="45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6545160" cy="45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293-0960-4567-971F-7BBCF21E74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oxy Configur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1981080"/>
          <a:ext cx="861048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81080"/>
                    <a:ext cx="861048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DC5F-E52B-495C-9A50-22A047DF67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152280"/>
          <a:ext cx="86108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6108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384-D244-4DFF-A17B-97B5A9167F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 v1 and v2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rap – an unsolicited message (reporting an alarm condi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1 is ”connectionless” since it utilizes UDP (rather than TCP) as the transport layer protoco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v2 allows the use of TCP for ”reliable, connection-oriented” serv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EAE-4C34-4628-8A4F-53B63895A3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000000"/>
                </a:solidFill>
                <a:latin typeface="Comic Sans MS"/>
              </a:rPr>
              <a:t>Comparison of SNMPv1 and SNMPv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1089000"/>
          <a:ext cx="8763120" cy="571824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1 P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2 P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nex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--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Bulk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quest multiple valu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ag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 value for each listed objec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----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ager to mana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mit unsolicited inform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tRespon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on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nt to manager or Manage  to manager(SNMPv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pond to manager requ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NMPv2-Tr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nt to manag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7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mit unsolicited inform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962520" y="6324480"/>
            <a:ext cx="121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EE91-1CE7-4924-90C4-A6066BFF0E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NMPv1 Community Facil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NMP Community – Relationship between an SNMP agent and SNMP manag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ree aspect of agent contro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ccess polic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oxy serv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DB4-1006-4EE3-93E6-10E04ED146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4:34:11Z</dcterms:created>
  <dc:creator>Henric Johnson</dc:creator>
  <dc:description/>
  <dc:language>en-US</dc:language>
  <cp:lastModifiedBy>Henric Johnson</cp:lastModifiedBy>
  <dcterms:modified xsi:type="dcterms:W3CDTF">2001-08-23T09:51:22Z</dcterms:modified>
  <cp:revision>12</cp:revision>
  <dc:subject/>
  <dc:title>Chapter 8</dc:title>
</cp:coreProperties>
</file>