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8181-6E08-4A77-BBE5-860DFEBB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E7F5-77FF-44FC-9021-68230140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27A0-31FA-4460-8ED6-04B086EF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FCC1-DD0F-4567-B5A9-EE8481EC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385B-E90E-45AF-8B35-7FDCD13B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F870-835E-42F9-AD50-08E674F8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9C36-B847-4C8B-8C73-9FFCAE6F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70B8-7A19-47C8-A54E-6486E847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00C0-431A-4D72-AE02-6D75CCDC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CE71-B144-40F6-BD74-4044DCC5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1985-ED2B-4FE9-B2A1-85C9DDBF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44AF-8BF5-4D1C-884B-AA4CF18B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D7CB-9C41-45DD-AFCA-BE21F7EF04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omic Sans MS"/>
              </a:rPr>
              <a:t>Chapter3</a:t>
            </a:r>
            <a:endParaRPr b="1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8288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Public-Key Cryptography and Message Authentica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724280"/>
            <a:ext cx="9144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 Joh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lekinge Institute of Technology, Swe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ttp://www.its.bth.se/staff/hjo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nric.johnson@bth.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th" descr=""/>
          <p:cNvPicPr/>
          <p:nvPr/>
        </p:nvPicPr>
        <p:blipFill>
          <a:blip r:embed="rId1"/>
          <a:stretch/>
        </p:blipFill>
        <p:spPr>
          <a:xfrm>
            <a:off x="7772400" y="5562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9880" y="6248520"/>
            <a:ext cx="1524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D3B5-8D97-421A-83A3-F6EA23F8A3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Message Digest Generation Using SHA-1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472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409B-D8A1-44F9-84D1-5E8FB1A039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HA-1 Processing of single 512-Bit Block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41148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2344-3301-4ABC-B278-DA6D0C65A5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ther Secure HASH function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8600" y="1143000"/>
          <a:ext cx="8610480" cy="5662440"/>
        </p:xfrm>
        <a:graphic>
          <a:graphicData uri="http://schemas.openxmlformats.org/drawingml/2006/table">
            <a:tbl>
              <a:tblPr/>
              <a:tblGrid>
                <a:gridCol w="2590920"/>
                <a:gridCol w="2184120"/>
                <a:gridCol w="1778040"/>
                <a:gridCol w="2057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HA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D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IPEMD-1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gest leng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0 b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8 b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0 b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sic unit of process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2 b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2 b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2 b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mber of ste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0 (4 rounds of 2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 (4 rounds of 1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0 (5 paired rounds of 1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ximum message si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sv-SE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r>
                        <a:rPr b="0" lang="sv-SE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1 b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 rot="10800000">
                <a:off x="5257800" y="5943600"/>
                <a:ext cx="3808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 rot="10800000">
                <a:off x="7086600" y="5943600"/>
                <a:ext cx="3808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3962520" y="6324480"/>
            <a:ext cx="1218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A99-6F4B-4449-AD76-F263DE6178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HMAC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Use a MAC derived from a cryptographic hash code, such as SHA-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Motiva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Cryptographic hash functions executes faster in software than encryptoin algorithms such as 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Library code for cryptographic hash functions is widely avai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No export restrictions from the 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8CBF-2C0E-4A32-99F7-BAE14F07E6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HMAC Structur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87656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92A8-B9C4-473B-AA17-4523BB7223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ublic-Key Cryptography Principle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use of 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 keys has consequences in: 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y distribution, confidentiality and authentication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scheme has six ingredients </a:t>
            </a:r>
            <a:r>
              <a:rPr b="0" lang="sv-SE" sz="2000" spc="-1" strike="noStrike">
                <a:solidFill>
                  <a:srgbClr val="000000"/>
                </a:solidFill>
                <a:latin typeface="Comic Sans MS"/>
              </a:rPr>
              <a:t>(see Figure 3.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Plaintex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Ciphertex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A66E-9312-422F-ACF0-656AFC3DEC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Encryption using Public-Key system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343720" cy="474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C50E-1038-400D-88A4-CC6357AC69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Authentication using</a:t>
            </a: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Public-Key System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873920" cy="451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4FA7-F619-485F-8A03-82E9B0A3CC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Applications for Public-Key Cryptosystem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ree categori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Encryption/decryption: 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he sender encrypts a message with the recipient’s public ke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Digital signature: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The sender ”signs” a message with its private ke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Key echange: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Two sides cooperate two exhange a session ke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8A33-48A1-43AD-A398-BBA35D1985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Requirements for Public-Key Cryptograph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putationally easy for a party B to generate a pair (public key K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sv-SE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, private key KR</a:t>
            </a:r>
            <a:r>
              <a:rPr b="0" lang="sv-SE" sz="32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Easy for sender to generate ciphertext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Easy for the receiver to decrypt ciphertect using private ke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581280" y="4114800"/>
                <a:ext cx="21337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U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371600" y="5715000"/>
                <a:ext cx="50292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b</m:t>
                        </m:r>
                      </m:sub>
                    </m:sSub>
                    <m:r>
                      <m:t xml:space="preserve">[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U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F25B-F035-42DB-B437-F2855E0306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pproaches to Message Authenti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cure Hash Functions and HMA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ublic-Key Cryptography Princip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ublic-Key Cryptography Algorith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gital Signatu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ey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7AFE-D24C-4336-8C07-95800A3F3D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Requirements for Public-Key Cryptography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mputationally infeasible to determin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ivate key (K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knowing public key (KU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mputationally infeasible to recover message M, knowing KU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ciphertext 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Either of the two keys can be used for encryption, with the other used for decryp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371600" y="5334120"/>
                <a:ext cx="6248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b</m:t>
                        </m:r>
                      </m:sub>
                    </m:sSub>
                    <m:r>
                      <m:t xml:space="preserve">[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U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Ub</m:t>
                        </m:r>
                      </m:sub>
                    </m:sSub>
                    <m:r>
                      <m:t xml:space="preserve">[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8DB0-6FF5-407D-847D-BBA03E1277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ublic-Key Cryptographic Algorithm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RSA and Diffie-Hellma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RSA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- Ron Rives, Adi Shamir and Len Adleman at MIT, in 1977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RSA is a block cip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The most widely implemen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Comic Sans MS"/>
              </a:rPr>
              <a:t>Diffie-Hellman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Echange a secret key secure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Compute discrete logarith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EE5-FEA4-4010-9D81-65A6DE523D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he RSA Algorithm –    Key Generation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3810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elect </a:t>
            </a:r>
            <a:r>
              <a:rPr b="0" i="1" lang="sv-SE" sz="2800" spc="-1" strike="noStrike">
                <a:solidFill>
                  <a:srgbClr val="000000"/>
                </a:solidFill>
                <a:latin typeface="Comic Sans MS"/>
              </a:rPr>
              <a:t>p,q</a:t>
            </a:r>
            <a:r>
              <a:rPr b="0" i="1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sv-SE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sv-SE" sz="2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both pr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alculate </a:t>
            </a:r>
            <a:r>
              <a:rPr b="0" i="1" lang="sv-SE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r>
              <a:rPr b="0" i="1" lang="sv-SE" sz="2800" spc="-1" strike="noStrike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 x </a:t>
            </a:r>
            <a:r>
              <a:rPr b="0" i="1" lang="sv-SE" sz="28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alculat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Select integer </a:t>
            </a:r>
            <a:r>
              <a:rPr b="0" i="1" lang="sv-SE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Calculate </a:t>
            </a:r>
            <a:r>
              <a:rPr b="0" i="1" lang="sv-SE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Public Key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KU = {e,n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Private key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KR = {d,n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514600" y="3048120"/>
                <a:ext cx="29908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648320" y="3505320"/>
                <a:ext cx="4292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cd</m:t>
                    </m:r>
                    <m:r>
                      <m:t xml:space="preserve">(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e</m:t>
                    </m:r>
                    <m:r>
                      <m:t xml:space="preserve">&lt;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648320" y="3962520"/>
                <a:ext cx="27493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F8FF-E291-4B2C-A7AB-1337068AC2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Example of RSA Algorithm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96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B9B7-BB90-4915-A4F2-439C637BEA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he RSA Algorithm - Encryption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intex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&lt;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iphertex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 = M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e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mod 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4BB9-3766-4831-AE29-50D81A019F6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The RSA Algorithm - Decryption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iphertex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intext: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 = C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d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mod 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D85F-AAB7-4DAF-BDEC-0DC6010905B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Diffie-Hellman Key Echang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04E0-6B21-4A70-8A95-4B1DB838965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ther Public-Key Cryptographic Algorithm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Digital Signature Standard (DS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Makes use of the SHA-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Not for encryption or key echan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Elliptic-Curve Cryptography (ECC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Good for smaller bit siz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Low confidence level, compared with R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Very comple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EA74-0B33-47F5-AA4D-7B4B7B7D73E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Key Management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Public-Key Certificate Us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62940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B88C-3FA1-409B-A5BF-9EBFF0616C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Authenticat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quirements - must be able to verify tha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. Message came from apparent source 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author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. Contents have not been altered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. Sometimes, it was sent at a certain 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ime or sequen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tection against active attack (falsification of data and transaction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F89F-7ADF-4B95-92C1-011419BE0B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Approaches to Message Authentication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uthentication Using Conventional Encryp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nly the sender and receiver should share a ke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ssage Authentication without Message Encryp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An authentication tag is generated and appended to each mess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ssage Authentication Co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lculate the MAC as a function of the message and the key. MAC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 F(K, 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29F6-C63D-4858-9DA1-169D001AB5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93680"/>
            <a:ext cx="8534160" cy="666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8328-45DD-4CA1-AF61-D58E194FD3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562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066680" y="30492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ne-way HASH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C901-C944-4577-8AE9-8928380D32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One-way HASH function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omic Sans MS"/>
              </a:rPr>
              <a:t>Secret value is added before the hash and removed before transmiss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53416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BA01-1BA3-4673-BFB5-24582C7BAC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ecure HASH Function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urpose of the HASH function is to produce a ”fingerpri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perties of a HASH function H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 can be applied to a block of data at any si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 produces a fixed length outp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(x) is easy to compute for any given x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r any given block x, it is computationally infeasible to find x such that H(x) = 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r any given block x, it is computationally infeasible to find           with H(y) = H(x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 is computationally infeasible to find any pair (x, y) such that H(x) = H(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0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267080" y="5334120"/>
                <a:ext cx="838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≠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BAA3-1498-4154-BB63-9A61220B32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Comic Sans MS"/>
              </a:rPr>
              <a:t>Simple Hash Function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51055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One-bit circular shift on the hash value after each block is processed would impro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629400" cy="362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nric John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DC61-AB2F-4A72-9FF6-CA5A2EC181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20:46:40Z</dcterms:created>
  <dc:creator>Vicky</dc:creator>
  <dc:description/>
  <dc:language>en-US</dc:language>
  <cp:lastModifiedBy>Henric Johnson</cp:lastModifiedBy>
  <dcterms:modified xsi:type="dcterms:W3CDTF">2001-08-23T09:47:53Z</dcterms:modified>
  <cp:revision>20</cp:revision>
  <dc:subject/>
  <dc:title>Ingen bildrubrik</dc:title>
</cp:coreProperties>
</file>