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062-CEE9-4879-B00B-5D163DF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8B7-742D-4018-AF58-F0EAF2E3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C66-2DEF-445F-8991-85E33B50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7275-B03F-4EE9-BCB3-D60561F5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EB00-7496-4ABF-99E8-21D6724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5C4-854E-4104-958C-5C403B56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A8E-F1CE-4B2A-9362-6F247A5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030-1164-49E8-8E4D-5038BD9B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49D8-6112-4205-AC39-C4F45BB3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4FB-28F5-475F-94AA-6915DA7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574-00F5-431D-8EE6-96A06D0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32A-1A56-4123-B077-BB04A087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3B7B-3F6C-4095-9BCA-6095E598B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7200" spc="-1" strike="noStrike">
                <a:solidFill>
                  <a:srgbClr val="000000"/>
                </a:solidFill>
                <a:latin typeface="Comic Sans MS"/>
              </a:rPr>
              <a:t>Chapter 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800" spc="-1" strike="noStrike">
                <a:solidFill>
                  <a:srgbClr val="000000"/>
                </a:solidFill>
                <a:latin typeface="Comic Sans MS"/>
              </a:rPr>
              <a:t>Firewa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56740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4876920"/>
            <a:ext cx="75438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+46-708-2503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6248520"/>
            <a:ext cx="1295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BE8-6D6B-44D4-A504-598A4775DB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common types of Firewal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cket-filtering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-level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rcuit-level gat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astion h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822-92B3-4BF3-A588-7263EEC3D6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-filtering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47920" y="2666880"/>
          <a:ext cx="6440400" cy="21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440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E8F-4297-4D14-B5D1-8D675961D5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ket-filtering Ro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es a set of rules to each incoming IP packet and then forwards or discards th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ter packets going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cket filter is typically set up as a list of rules based on matches to fields in the IP or TC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efault policies (discard or forw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69F-7A2C-4F3A-B76D-EC5F6DA034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parency to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 sp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iculty of setting up packet filter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ck of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EED-94FE-4508-8DD0-53B4B6A9A4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sible attacks and appropriate counter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 address sp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rce rout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ny fragment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2DB-4999-4E97-AD22-759E2F1C94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447920" y="2743200"/>
          <a:ext cx="62769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2769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46B-18F3-4CB1-9E15-D04D48CEA9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ication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 called proxy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s as a relay of application-level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F0F-D9BF-44D2-93D8-56C9E37A9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security than packet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need to scrutinize a few allowabl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y to log and audit all incoming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cessing overhead on each connection (gateway as splice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166-850B-4A62-97CC-21C634F9D5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2666880"/>
          <a:ext cx="63356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666880"/>
                    <a:ext cx="63356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6A3-4997-4A41-A07B-A30F9A91F5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-alone system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ized function performed by an Application-lev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s up two TCP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gateway typically relays TCP segments from one connection to the other without examining the cont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073-86FE-4B17-9A47-EAC2E6FEC3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Firewall Design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Concept of Trust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4EC-AB7E-432B-8661-F51073FDC8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rcuit-level Gate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ecurity function consists of determining which connections will b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ically use is a situation in which the system administrator trusts the internal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ample is the SOCKS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2A1-5499-4DF6-AFC3-3C6A6DFCE7E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ypes of 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tion H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ystem identified by the firewall administrator as a critical strong point in the network´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stion host serves as a platform for an application-level or circuit-level gate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3B2-8457-4D07-9640-4347DDCBA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addition to the use of simple configuration of a single system (single packet filtering router or single gateway), more complex configurations ar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ee commo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8A0-06D1-4D05-BEF8-89D4BEA0A9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 system (single-homed bastion h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276720"/>
          <a:ext cx="70894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76720"/>
                    <a:ext cx="7089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6632-4D15-4A9E-9B28-8FB9DD1B47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, single-homed bastion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rewall consists of two sys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acket-filtering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as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523-B8AF-460C-B258-AE18D82174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figuration for the packet-filtering rout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packets from and to the bastion host are allowed to pass through the ro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stion host performs authentication and prox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4B4-634E-4B0D-8A5A-8B2552EA72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er security than single configurations because of two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configuration implements both packet-level and application-level filtering (allowing for flexibility in defining security poli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intruder must generally penetrate two separat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66E-07F5-4531-9F6F-85B50EE859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configuration also affords flexibility in providing direct Internet access (public information server, e.g. Web serv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863-CD36-41B7-A01B-2B5D4020EA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 system (dual-homed bastion h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3276720"/>
          <a:ext cx="6789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76720"/>
                    <a:ext cx="6789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A85-3E4C-4CCA-9EC4-405A620F524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host firewall, dual-homed bastion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acket-filtering router is not completely compr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ffic between the Internet and other hosts on the private network has to flow through the bastion h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230-15B3-4D7B-86D3-8B77E48592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ive means of protection a local system or network of systems from network-based security threats while affording access to the outside world via WAN`s o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AFC-F703-41B9-865F-B046FD4D38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-subnet firewal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43000" y="2819520"/>
          <a:ext cx="6967440" cy="23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6967440" cy="23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20E-4E48-44F1-B665-2810EB48EF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eened subnet firewal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secure configuration of the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acket-filtering routers ar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ion of an isolated sub-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DC4-31F3-4B54-B9E5-A8FC9B9327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ee levels of defense to thwart intru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utside router advertises only the existence of the screened subnet to the Internet (internal network is invisible to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AB4-F173-41AB-8DD7-7BE25C51D8F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onfigur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ide router advertises only the existence of the screened subnet to the internal network (the systems on the inside network cannot construct direct routes to the Intern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FE7-D767-4EFA-8D77-0C45634141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way to enhance the ability of a system to defend against intruders and malicious programs is to implement trusted system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7A07-7538-47F7-BA3D-3B369B9A36D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ugh the user access control procedure (log on), a user can be identified to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ciated with each user, there can be a profile that specifies permissible operations and file ac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peration system can enforce rules based on the user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E19-4C1F-4776-A6C6-CEAA34C0873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models of access contro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contro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ability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885-BF9E-46E6-812E-DC01AB61C7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743200"/>
          <a:ext cx="637056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743200"/>
                    <a:ext cx="63705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D71-FB6A-4242-815D-9157415CF4D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Matrix: Basic elements of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ct: An entity capable of accessing objects, the concept of subject equates with that of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: Anything to which access is controlled (e.g. files, pro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ss right: The way in which an object is accessed by a subject (e.g. read, write, exec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0A8-EFA2-49FF-8712-0354B298BC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 List: Decomposition of the matrix by colum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90920" y="3276720"/>
          <a:ext cx="411480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276720"/>
                    <a:ext cx="4114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03C-9429-47D4-AFAB-09CE9D2C9FC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Design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ation systems undergo a steady evolution (from small LAN`s to Internet connectiv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security features for all workstations and servers not esta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EF4-DFF3-4D17-B74C-534F1D7952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ess Control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ccess control list lists users and their permitted access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list may contain a default or public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48CD-DFB8-4BA5-98C0-A412C19F9F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bility list: Decomposition of the matrix by r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3429000"/>
          <a:ext cx="380988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429000"/>
                    <a:ext cx="380988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B4C-454B-421E-AB08-F6E04B003CF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ata Access Contr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pability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apability ticket specifies authorized objects and operations for a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user have a number of ti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B9C-0D2F-41E0-A0C2-4FF042BBD66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on of data and resources on the basis of levels of security (e.g. milita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can be granted clearances to access certain categorie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E19-4697-4B76-AE48-7357A6BAFCA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level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ion of multiple categories or level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level secure system must enfor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read up: A subject can only read an object of less or equal security level (Simple Security 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write down: A subject can only write into an object of greater or equal security level (*-Proper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3C9-071E-4017-B0ED-3AABFC2314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 Monitor Concept: Multilevel security for a data process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971800" y="3581280"/>
          <a:ext cx="313704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581280"/>
                    <a:ext cx="313704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762-0D28-442E-915E-85F348E60A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523880" y="1447920"/>
          <a:ext cx="609624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447920"/>
                    <a:ext cx="609624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78C-F5E8-4644-A221-97E2F7D94B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erence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ling element in the hardware and operating system of a computer that regulates the access of subjects to objects on basis of security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itor has access to a file (security kernel data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onitor enforces the security rules (no read up, no write dow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0AA-0DDB-44B4-9210-B993D9EB11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the Reference Mon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te mediation: Security rules are enforced on every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olation: The reference monitor and database are protected from unauthorized mod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ifiability: The reference monitor’s correctness must be provable (mathematic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937-B2D9-4EAC-B2FF-733AF104771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Concept of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usted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ystem that can provide such verifications (properties) is referred to as a trust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A891-419B-4AEA-B0EA-588F324A321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Design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ewall is inserted between the premises network and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 a controlle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 the premises network from Internet-based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 a single chok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E0F-4469-4742-A7E4-D8E0019135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ure, trusted operating systems are one way to secure against Trojan Horse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506-C11B-45C9-B523-23F6727C017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2057400"/>
          <a:ext cx="425772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425772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343400" y="1996920"/>
          <a:ext cx="428616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996920"/>
                    <a:ext cx="428616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B32-B8A5-41EC-964A-D7A6E165625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rojan Horse Defen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960560"/>
          <a:ext cx="44956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60560"/>
                    <a:ext cx="44956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1905120"/>
          <a:ext cx="4543560" cy="29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454356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727-97EA-4418-94BF-A7B21EE7AC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commended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hapman, D., and Zwicky, E. Building Internet Firewalls. O’Reilly,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heswick, W., and Bellovin, S. Firewalls and Internet Security: Repelling the Wily Hacker. Addison-Wesley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asser, M. Building a Secure Computer System. Reinhold, 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fleeger, C. Security in Computing. Prentice Hall,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886-5D57-4686-B8A2-1495134743C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raffic from inside to outside must pass through the firewall (physically blocking all access to the local network except via the firewa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authorized traffic (defined by the local security police) will be allowed to p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3F1-B425-431A-BA82-823313F155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ign g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rewall itself is immune to penetration (use of trusted system with a secure operating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9DB-D0F0-4B3C-8DB0-51AC7FC75A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 general techniq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s the types of Internet services that can be accessed, inbound or out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rect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ermines the direction in which particular service requests are allowed to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D5E-2C7F-4762-B315-B69B1C9FFF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Firewall Characterist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s access to a service according to which user is attempting to acces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s how particular services are used (e.g. filter e-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C10-B918-48C3-942B-31382DCD51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49:13Z</dcterms:created>
  <dc:creator>Holger Brachmann</dc:creator>
  <dc:description/>
  <dc:language>en-US</dc:language>
  <cp:lastModifiedBy>Henric Johnson</cp:lastModifiedBy>
  <dcterms:modified xsi:type="dcterms:W3CDTF">2001-08-23T09:53:02Z</dcterms:modified>
  <cp:revision>44</cp:revision>
  <dc:subject/>
  <dc:title>Chapter 2</dc:title>
</cp:coreProperties>
</file>