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75B1-B994-4266-923B-AEAE22176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3041-4744-44CF-8C84-2B21AC8B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5B81-AFCB-486A-AA6C-35DABEC4F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FBDC-B0E0-428E-B6E8-C42E28C1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CFDD-B74D-48A5-954D-306A5C88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DEDC-16AF-4100-8D05-E8F480D8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4E45-A659-41C1-B322-7CE23B20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8AE6-2EF0-440B-9406-833BEF0D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FE03-4ED3-4886-8134-6934DFC7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FFC5-094D-44D4-885B-59B12432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FD1E-0EB0-4C57-8524-45682EFA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0CBF-066E-4346-BBC1-23780C39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5752-CBEB-4488-A93E-4A5B95B02197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7200" spc="-1" strike="noStrike">
                <a:solidFill>
                  <a:srgbClr val="000000"/>
                </a:solidFill>
                <a:latin typeface="Comic Sans MS"/>
              </a:rPr>
              <a:t>Chapter 7</a:t>
            </a:r>
            <a:endParaRPr b="1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800" spc="-1" strike="noStrike">
                <a:solidFill>
                  <a:srgbClr val="000000"/>
                </a:solidFill>
                <a:latin typeface="Comic Sans MS"/>
              </a:rPr>
              <a:t>WEB Securit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4724280"/>
            <a:ext cx="85345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nric John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lekinge Institute of Technology, Swe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ttp://www.its.bth.se/staff/hjo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nric.johnson@bth.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th" descr=""/>
          <p:cNvPicPr/>
          <p:nvPr/>
        </p:nvPicPr>
        <p:blipFill>
          <a:blip r:embed="rId1"/>
          <a:stretch/>
        </p:blipFill>
        <p:spPr>
          <a:xfrm>
            <a:off x="7772400" y="55627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86200" y="624852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31EA-61F7-441A-80C6-ECD9A3EC9B4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Handshake Protocol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The most complex part of SS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Allows the server and client to authenticate each o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Negotiate encryption, MAC algorithm and cryptographic key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Used before any application data are transmitt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CE8A-218D-4B61-B120-7BA3AB1E19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Handshake Protocol Action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743200" y="1143000"/>
          <a:ext cx="44244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143000"/>
                    <a:ext cx="4424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15F0-F190-431F-9E2E-D7EA9585FE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ransport Layer Security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The same record format as the SSL record forma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Defined in RFC 2246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Similar to SSLv3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Differences in th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version numb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message authentication co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pseudorandom fun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alert cod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cipher suite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client certificate typ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certificate_verify and finished mess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cryptographic computa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1F01-AE7C-48D3-8EB7-865FCF87C4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ecure Electronic Transaction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An open encryption and security specific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Protect credit card transaction on the </a:t>
            </a:r>
            <a:r>
              <a:rPr b="0" sz="28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Companies involved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MasterCard, Visa, IBM, Microsoft, Netscape, RSA, Terisa and Verisig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Not a payment syste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Set of security protocols and forma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80F1-DB48-41FB-AE05-6C87EC5B8D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ET Service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Provides a secure communication channel in a transac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Provides tust by the use of X.509v3 digital certificat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Ensures privac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6747-2090-4597-84C3-8F105E50E8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ET Overview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Key Features of SET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Confidentiality of inform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Integrity of da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Cardholder account authenti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Merchant authenti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FDDC-2DF4-4036-AA6F-570353623F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ET Participant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62120" y="1600200"/>
          <a:ext cx="7391160" cy="495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39116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BE45-5FC3-415E-AEA2-B4214ADC92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equence of events for transaction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e customer opens an accou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e customer receives a certific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Merchants have their own certificat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e customer places an ord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e merchant is verifi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e order and payment are se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e merchant request payment authoriz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e merchant confirm the ord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e merchant provides the goods or servi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e merchant requests paymen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6D89-E9D1-4104-A360-9EA15DFD70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Dual Signatur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95480" y="1676520"/>
            <a:ext cx="3384720" cy="43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87" name=""/>
          <p:cNvGraphicFramePr/>
          <p:nvPr/>
        </p:nvGraphicFramePr>
        <p:xfrm>
          <a:off x="1219320" y="2438280"/>
          <a:ext cx="6858000" cy="384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438280"/>
                    <a:ext cx="6858000" cy="38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CAC8-8176-44B0-9128-8A4C39BBFA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Payment processing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Cardholder sends Purchase Reque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52480" y="1371600"/>
          <a:ext cx="570096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371600"/>
                    <a:ext cx="570096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FA4A-C3D9-4442-A76C-208B477A09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Web Security Considera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ecure Socket Layer (SSL) and Transport Layer Security (TL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ecure Electronic Transaction (SET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Recommended Reading and WEB Si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5658-BEB0-45A1-9CCC-BA6D9F8032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Payment processing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362320" y="1219320"/>
          <a:ext cx="4732200" cy="43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219320"/>
                    <a:ext cx="4732200" cy="43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143000" y="57913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Merchant Verifies Customer Purchase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EB0D-E459-47C0-A617-3281506FC5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Payment processing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Payment Authorization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Authorization Reque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Authorization Respon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Payment Captur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Capture Reque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Capture Respon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56FF-4EA6-4307-9954-7BCBF48160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Recommended Reading and WEB site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Drew, G. </a:t>
            </a:r>
            <a:r>
              <a:rPr b="0" i="1" lang="sv-SE" sz="2800" spc="-1" strike="noStrike">
                <a:solidFill>
                  <a:srgbClr val="000000"/>
                </a:solidFill>
                <a:latin typeface="Comic Sans MS"/>
              </a:rPr>
              <a:t>Using SET for Secure Electronic Commerce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. Prentice Hall, 199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Garfinkel, S., and Spafford, G. Web Security &amp; Commerce. O’Reilly and Associates, 199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MasterCard SET si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Visa Electronic Commerce Si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SETCo (documents and glossary of term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7975-9094-4F48-8BC1-5AD84EC5F0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Web Security Considerations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The WEB is very visib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Complex software hide many security flaw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Web servers are easy to configure and manag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Users are not aware of the risk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B98F-CED7-4ADD-9B8E-CE3F36E924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ecurity facilities in the TCP/IP protocol stack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2666880"/>
          <a:ext cx="8839080" cy="27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66880"/>
                    <a:ext cx="883908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C970-1860-4B10-A203-34D6B079FA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SL and TL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SL was originated by Netsca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TLS working group was formed within IET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First version of TLS can be viewed as an SSLv3.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D44E-5C6A-452B-8DE0-CF7A5BC8E5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SL Architectur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23880" y="1828800"/>
          <a:ext cx="6088320" cy="466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828800"/>
                    <a:ext cx="6088320" cy="46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35CF-176A-47C0-BF08-B182350BDD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SL Record Protocol Operation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14400" y="1752480"/>
          <a:ext cx="739152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739152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B438-B1CB-4A03-9695-F55D2C5C5C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SL Record Format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828800" y="1752480"/>
          <a:ext cx="5254560" cy="44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752480"/>
                    <a:ext cx="5254560" cy="44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1BEC-099F-4228-AED1-A1B65592B2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SL Record Protocol Payload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2209680"/>
          <a:ext cx="822960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09680"/>
                    <a:ext cx="82296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9DD4-DCA6-4E6E-845A-93737F64EF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15:17:12Z</dcterms:created>
  <dc:creator>Henric Johnson</dc:creator>
  <dc:description/>
  <dc:language>en-US</dc:language>
  <cp:lastModifiedBy>Henric Johnson</cp:lastModifiedBy>
  <dcterms:modified xsi:type="dcterms:W3CDTF">2001-08-23T09:51:04Z</dcterms:modified>
  <cp:revision>14</cp:revision>
  <dc:subject/>
  <dc:title>Chapter 7</dc:title>
</cp:coreProperties>
</file>