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CF1-00CE-4BE4-A21F-9CFF360E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4C5-5E34-43A7-B71D-321E3F2B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C63-74EA-4CDA-A830-AAA7FDEC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A6BA-1917-44C8-ABED-86589006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8BA4-F418-4B44-B57F-BCB900C3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1C43-EE86-4411-85CB-9CB1C985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8740-6D58-43D0-94F0-946A6218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62B1-FDB9-4ABD-AF22-C367A76A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8F3D-6F91-4724-B227-E8F56DDB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F9E0-C51E-4E48-AE3B-1468006F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701B-88D7-4CC0-A618-8C6CCB3B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ABDD-C249-42D3-91BE-42AEE495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BDE8-6907-4317-83FE-987DD30C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CE14-8ACE-496A-B43B-D042EA46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613F-17BF-40F5-BC75-D1B78C45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19FD-2B57-438C-ABDC-AC9D1D8E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16A7-4647-4884-9CD3-6A1410D2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0CE-9DCD-4D34-8CD8-863931BE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8926-69B4-47F6-8106-F6D27E93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853-2AB6-46E6-9359-EC89DE07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B7D-255F-4120-A553-240D512A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0D0E-426E-451D-8283-A213AB21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E1F-50D1-4C16-9A15-97A11C2F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062A-7718-47F0-8D1F-A9CA3F75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EBCF-4A67-4EF2-8E61-D5BEDE3AC81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9BA0-97FF-40C7-8B57-F173D8BA1D7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UZZY   SQL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72d5"/>
                </a:solidFill>
                <a:latin typeface="Arial"/>
              </a:rPr>
              <a:t>Radomir Tarabič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72d5"/>
                </a:solidFill>
                <a:latin typeface="Arial"/>
              </a:rPr>
              <a:t>Egor Iv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Výsledek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ý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ledek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plnuj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ožadavk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le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existuj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kty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kter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jso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elice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blízk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ožadavkům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ejsou ve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ýsledk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Zkusí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odmínk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zšíř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ct, Budget,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Budget&gt;75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Duration&lt;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4000680"/>
          <a:ext cx="8229600" cy="2130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(1000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Výsledek -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stali jsme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ětš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nožstv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le stale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existuj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ter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jsou na okraji, ale do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ýsledk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jsou zahrnu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příklad, projekt p03 má rozpočet 73 000 a délku trvání 102 a mohl by taky odpovídat naším potřebá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alší rozšiřování nemá smysl – jak budeme vědět kde zasta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usíme to zkusit ji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Výsledek s Fuzzy SQ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ujme fuzz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noži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so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pr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up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ujme fuzz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noži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át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pro sloupe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3527280" cy="3097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859280" y="2708280"/>
            <a:ext cx="345780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Výsledek s Fuzzy SQL -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graf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je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řejm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oli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ter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hodno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leží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fuzzy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noži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kusí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tvoř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braze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ter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m výpočte koli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lež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voji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udget, Duration) do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žadav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dělá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a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ž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počítáme aritmetick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ům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Výsledek s Fuzzy SQL - 3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použitím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avg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2421000"/>
          <a:ext cx="8229600" cy="3960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(1000$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8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3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7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Běžné problém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Zadání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Z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ákazník si vybírá barvu obkladového materiálu. Chce barvu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dobno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jiné barvě, kterou z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Řešení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dobn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barva je taková barva, jejíž složky RGB se liší maximálně o 10 od složek RGB barvy definované zákazník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blém: Pokud se barva liší od barvy zadané uživatelem pouze v 1 složce o 11, zákazník ji neuv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Běžné problémy -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Zadání2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: Realitní kancelář páruje nabídku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“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dpovídajíc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poptáv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. Nabídka i poptávka jsou charakterizované lokalitou, cenou a dalšími atribu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Řešení: Pro každý atribut zvolit jistou toleran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blém: Které dvojice nabíd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ptávka si ještě odpovídají a které už 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Elektronický katalog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 prohledávání elektronických katalogů zbož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diční relační databáze podporují vyhledávání na základě přesných podmí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sou vráceny právě výrobky přesně odpovídající zadané podmí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ákazník se většinou zeptá „špatně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liš nepřesná podmínka vracející obrovský počet zázna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liš detailní specifikace, která nic nevrá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dstava zákazní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ví, jak přesně popsat, co ch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á o tom jen nejasnou představ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Nedostatky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 SQ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azyk SQL používá Booleovu algebru, což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řináš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jeden velký problé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dotazu ty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e9ce8"/>
                </a:solidFill>
                <a:latin typeface="Tahoma"/>
              </a:rPr>
              <a:t>           </a:t>
            </a:r>
            <a:r>
              <a:rPr b="0" i="1" lang="en-US" sz="2400" spc="-1" strike="noStrike">
                <a:solidFill>
                  <a:srgbClr val="7e9ce8"/>
                </a:solidFill>
                <a:latin typeface="Tahoma"/>
              </a:rPr>
              <a:t>A</a:t>
            </a:r>
            <a:r>
              <a:rPr b="0" i="1" lang="cs-CZ" sz="2400" spc="-1" strike="noStrike">
                <a:solidFill>
                  <a:srgbClr val="7e9ce8"/>
                </a:solidFill>
                <a:latin typeface="Tahoma"/>
              </a:rPr>
              <a:t> and B and C and … and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 nesprávnost z našeho pohledu v tom, že dotaz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vyhovují údaje, které nesplňují jednu z podmínek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až Z, stejně ta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vyhovují údaje, které nesplňuj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vě a více podmíne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ní tedy rozdílu mezi údaji, které splňují různý počet podmínek dota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Zavedení fuzzy množin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aždému prvku je přiřazen stupeň příslušnosti, který vyjadřuje míru členství prvku 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množi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ahoma"/>
              </a:rPr>
              <a:t>Stupeň příslušnosti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nabývá hodnot z interval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&lt;0,1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ím vyšší (nižší) 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tupeň příslušnosti, tím více (méně) platí, že prvek náleží do fuzzy množi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inými slov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jadřuje míru relevantnosti prvku v dané množin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Hodnota 0 vyjadřuje stav, kdy prvek d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nožiny vůbec nepatří a hodnota 1 stav, kdy prvek do množiny zcela patř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Co je fuzzy logika 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logika operuje s tzv. mlhavými poj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iness = mlha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logika představuje rozšíření klasické booleovské logiky, díky němuž lze lépe pracovat s nepřesnými nebo vágními d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am, kde klasické logické uvažování vyžaduje pouze hodnoty ano a ne, může fuzzy logika pracovat s pojmy jako možná, skoro či vel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uzzy množin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(Plat): Pokud považujeme příjem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hruba n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35 000 Kč za vysoký, potom z tohoto pohledu je méně důležitý rozdíl mezi příjmem 34 000 Kč a 35 000 Kč než mezi platem 32 000 Kč a 33 000 Kč. Samozřejmě, s rostoucím platem roste i stupeň příslušnosti do fuzzy množiny vysoký příje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3357720"/>
          <a:ext cx="8229600" cy="3023640"/>
        </p:xfrm>
        <a:graphic>
          <a:graphicData uri="http://schemas.openxmlformats.org/drawingml/2006/table">
            <a:tbl>
              <a:tblPr/>
              <a:tblGrid>
                <a:gridCol w="2057400"/>
                <a:gridCol w="2060640"/>
                <a:gridCol w="2054160"/>
                <a:gridCol w="20574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em (Kč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íjem (Kč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1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uzzy množin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y -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ř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věk): Podívejme se na vágní pojem střední věk. Můžeme si jej představit jakožto člověka s věkem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kol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35 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3141720"/>
          <a:ext cx="8229600" cy="298908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ě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ě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1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Princip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relace Rf je podmnožina kartézského součinu domén 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kde jedno 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je DU — interval &lt;0,1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Hodnot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libovolné n-tic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říká, jak hodně tato n-tice náleží do fuzzy relace 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bvyklou relaci je možné považovat za fuzzy relaci, kde ve sloupci DU je stupe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ven vždy jedné pro každou n-t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uzzy 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modelování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relace se získá pomocí fuzz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dmínky aplikovan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 obvyklou rela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podmínka se reprezentuje čtyřmi typy term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Logické (Boolea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ransformace (Transformat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sívání, změny (Alte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terakce (Inter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Transforma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ansformace definuje fuzzy množinu, jejíž interpretace si můžeme představit jako převod z kartézského součinu množin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…,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o intervalu &lt;0,1&gt;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 transform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ký: VÝŠKA → &lt;0,1&gt;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h → µvysoký(h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tíhlý: VÝŠKA x VÁHA → &lt;0,1&gt;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h, w) → µštíhlý (h, w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ovnání může být i přímo mezi objek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í než: VÝŠKA x VÝŠKA → &lt;0,1&gt;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) → µvětší_než (h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Transformace -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vrže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ol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kc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jádře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dno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pez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ev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(x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             ,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≤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  nebo x ≥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(x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= (x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/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(x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         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(x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x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/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Transformace - 3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avděpodobnostní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(x) = 1 – prvek určitě patří do množi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(x) = 0 – prvek určitě nepatří do množi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(x) Î (0, 1) – prvek patří do množiny s pravděpodobností f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88000" y="2133720"/>
            <a:ext cx="37447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Přesívání, změn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sívání, změny má za úkol nějakým způsobem zpracovat slova typu </a:t>
            </a:r>
            <a:r>
              <a:rPr b="1" i="1" lang="cs-CZ" sz="2400" spc="-1" strike="noStrike">
                <a:solidFill>
                  <a:srgbClr val="000000"/>
                </a:solidFill>
                <a:latin typeface="Tahoma"/>
              </a:rPr>
              <a:t>mnoho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ahoma"/>
              </a:rPr>
              <a:t>okolo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ahoma"/>
              </a:rPr>
              <a:t>velmi mnoho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ahoma"/>
              </a:rPr>
              <a:t>málo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ahoma"/>
              </a:rPr>
              <a:t>víceméně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a neg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asto se slovo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elmi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presentuje následujícím způsob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elmi fuzzycon (x) = (µfuzzycon(x)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A neg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negace fuzzycon (x) = 1-µfuzzycon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Interak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akce má za úkol spolupráci mezi fuzzy množin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junk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mum z obou ohodnoc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2400" spc="-1" strike="noStrike" baseline="-25000">
                <a:solidFill>
                  <a:srgbClr val="000000"/>
                </a:solidFill>
                <a:latin typeface="Arial"/>
              </a:rPr>
              <a:t>۸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x)=min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x)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sj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ximum z obou ohodnoc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808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ar-SA" sz="2400" spc="-1" strike="noStrike" baseline="-25000">
                <a:solidFill>
                  <a:srgbClr val="000000"/>
                </a:solidFill>
                <a:latin typeface="Arial"/>
              </a:rPr>
              <a:t>٧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x)=max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x)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uzzy 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modelování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 - 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závěr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.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berme si člověka velmi vysokého a současně s věkem kolem 40 le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MEN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D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okolo-40)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S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velmi vysok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zzy podmínka bude vypadat následovn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min ((µvysoký(výška))</a:t>
            </a:r>
            <a:r>
              <a:rPr b="1" lang="cs-CZ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, µokolo-40(věk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Kdo jí vymyslel 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ícehodnotová  logi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byla "objevena" Mr. J. Lukadiewiczem v roce 19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logika a teorie množin jako taková byla představena Mr. Lotfi Zadehem v roce 196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vní kdo prakticky použil fuzzy logiku byl Abraham Mandani v roce 1970 (kontrolní systém pro turbí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říkaz 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SELEC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bvykle příka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QL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apisuje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attributes&gt;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relations&gt;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zz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LECT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íka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ůstáv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podstatě stejný, krom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ložen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zzy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dmínk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 můžu objevit na mís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usíme specifikov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regulacioni parame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ová formul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|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&lt;attributes&gt;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&lt;relations&gt;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fuzz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_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říkaz 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SELECT -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ř: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Vyber zaměstnance ve středním věku mající vysoký příj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lasické SQ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NAME, AGE, INCOME 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EMPLOYEE 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AGE &gt;= 25 and AGE &lt;= 45)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   </a:t>
            </a: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INCOME &gt;= 35, 000)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uzzy SQ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0.75  NAME, AGE, INCOME 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EMPLOYEE 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(AGE = middle)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   </a:t>
            </a:r>
            <a:r>
              <a:rPr b="1" i="1" lang="cs-CZ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INCOME &gt;= hig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Míra splnění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 každou podmínku je možné určit hodnotu při kter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žadujeme podmínku za splně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dmín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THOLD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ř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rat mi všechny osoby s čistými vlas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n minimum degree 0.5)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teré jsou možn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šší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ež proměnn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$Tall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n minimum degree 0.8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*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ers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i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E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$Fair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tho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0.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Height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G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$Tall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tho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0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uzzy 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komparátor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romě typických komparátory (=, &gt;...), FSQL zahrnuj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uzz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komparátory v následující tabul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11280" y="2708280"/>
          <a:ext cx="7993080" cy="342252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mparátor pro Mož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mparátor pro Nut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zna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Q nebo F 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FEQ nebo NF 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Rovna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DIF, F!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bo F = &lt;&gt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FDIF, NF! NF = nebo &lt;&gt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Různé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GT nebo F&gt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FGT NF&gt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Větší ne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GEQ nebo F&gt; 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FGEQ nebo NF&gt; 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Větší nebo se rovn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T nebo F &lt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FLT nebo NF &lt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Menší ne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EQ nebo F &lt;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FLEQ nebo NF &lt;=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Menší nebo rove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GT nebo F&gt;&gt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GT nebo NF&gt;&gt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ohem větší ne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LT nebo F &lt;&lt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MLT nebo NF &lt;&lt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ohem menší ne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Lingvistické proměnn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stli je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ož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vé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zzy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prav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 atributu, potom mu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ůže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rad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ngvistickou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mě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Existuj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v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ožnos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roměnné pro atribu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a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uspořadatelný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množ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a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é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atributu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je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přirazeni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pravděpodobnostní trapezoidní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rozdělení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- $Short, $Tall, $Very_Tall, $Very_Intelli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roměnné pro atribu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a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neuspořadatelný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množ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každou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dvojici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atributů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je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definovaná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relace podobnosti, 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která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le</a:t>
            </a:r>
            <a:r>
              <a:rPr b="0" i="1" lang="cs-CZ" sz="22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 do intervalu &lt;0,1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Množinové opera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retace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kladní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nožinový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perac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zzy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nožin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je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µAuB (x) = max (µA (x), µB (x))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ůni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µA∩B (x) = min (µA (x), µB (x))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dí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µA-B (x) = µA∩B‘ (x) = min (µA (x),(1-µB(x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Základní Fuzzy Konstant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SQ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uj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syntaxi pro některé fuzzy konstanty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které jsou podrobně uvedeny v následující tabul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84360" y="3141720"/>
          <a:ext cx="7848360" cy="2989080"/>
        </p:xfrm>
        <a:graphic>
          <a:graphicData uri="http://schemas.openxmlformats.org/drawingml/2006/table">
            <a:tbl>
              <a:tblPr/>
              <a:tblGrid>
                <a:gridCol w="2690640"/>
                <a:gridCol w="5157720"/>
              </a:tblGrid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Konstan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zna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KNOW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známá hodnota atributu, ale je použitel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DEFINE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 není použitelný ani nemá smys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L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prostá neznalost: Nevíme nic o t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[a, b, c, d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lichoběžník (&lt;= b &lt;= c &lt;= d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lab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zyková Nálep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n, m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val "Mezi n a m" (= b = n a c = d = m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zzy hodnota: "Přibližně n"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odmínka 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 I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Fuzzy_Atribut&gt;   IS  [NOT]    (UNKNOWN | UNDEFINED | NULL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ahle podmínka (bez NOT) bude splněná,  jestli se hodnota levého fuzzy atributu  (Fuzzy_Atribut) rovná  fuzzy konstanty která je na pravé stran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stli atribut není fuzzy a konstanta je rovná NULL, podmínka bude pochopena dle definice v DB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stli je použito FEQ namísto IS, stupeň kompatibility mezi atributem a konstantou je porovnaný i když se atribut nerovná konstan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Funkce 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CDEG(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obrazuje sloupec s plněním stupeň stavu dotazu na konkrétní atribut, který je vyjádřen v závorkách jako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: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Ukázk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užití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DEG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unkc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užívá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rapezoidní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onstantu a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yhýb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 UNKNOWN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hodnot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City, CDEG(Inhabit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Country=‘Czech Republic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abitants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GE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$[200,350,650,800]  .7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abitants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is  not  un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Having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važujme následující relac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loyee(epnum, name, age, depnum, job, salary, commi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dmín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 štěpení relace do podmnož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dmín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 používá na výběr některých z předchozích podmnož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ějme dota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ddělen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u kterých souč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latů zaměstnanců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advyšuj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0000$.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cs-CZ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el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pnum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mployee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pnum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m (salary) &gt; 10000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Proč je fuzzy logika důležitá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triktní popis vede k popisu skutečnosti pouze pomocí dvouprvkové množiny {0,1}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kud problém nelze jednoznačně určit, rozkládá se na menší podproblémy, ale za cenu místa a opět lze použít jen dvouprvkovou množi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případech, kdy je již nemožné nebo neúnosné takto problém rozdělit, dopouštíme se jisté chyby a tím je dán odklon od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Having - 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yhle možnosti jsou rozšířený tak, že supen náležení je přiděleny každé podmnožiny z daného rozdělení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|t &lt;atributes 1’&gt;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relations&gt;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&lt;bool-cond&gt;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atributes 1&gt;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fuzzy-cond-aggre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Nový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taz: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Dej mi 10 nejlepších oddělení s ohledem na podmínku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růměrná hodnota platů úředníku je kole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1000$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pnum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mployee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job = ‘clerk’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pnum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ound(avg(salary+comission), 1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700280"/>
            <a:ext cx="7543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lementace FSQL datab</a:t>
            </a: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á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Architektura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 a implementa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3 možnosti přístup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Klassicka data (crisp data) + fuzzy dotazy (obsahují fuzzy operát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uzzy data + klassicke dotazy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uzzy data + Fuzzy dotaz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Prototyp FRBD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ady popíšeme jeden z prototypu Fuzzy Relační DB. Tento FSQL server byl implementován pomoci existující DBMS. Toto řešení má 3 důsledky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malejší než nativní implement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Snadná implement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Dostáváme všechny výhody stávající DBMS(bezpečnost, a t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Prototyp FRBD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ako DBMS byla vybrána ORACLE, Kvůli flexibilitě, snadné šiřitelnosti. Procedurální jazyk PL/SQL umožňuje vytvoření , programových balíčku s funkce a procedury. Jistě může být vybrána jiná DBMS. Existuje implementace i na Postgre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chitektura FRB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 základě obsahuje 3 čá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atová model: Tradiční data (standartni databáze) a FMB (Fuzzy meta-knowledge 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SQL ser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FSQL cl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Data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Může být rozdělena do dvou kategori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radiční databáze - informace o relaci + speciální formát Pro uložení fuzzy atribu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uzzy atributy mají 3 různé typ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YP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Normální hodnoty (crisp values) , ale mají ještě definované lingvistické lichoběžné proměně nad nimi, které umožňuji dělat dotazy víc flexibilní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ři vytvoření dotazů můžeme použít fuzzy konstanty(viz tabulka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Tabulka konstant p</a:t>
            </a: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ři dotazech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06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uzzy atributy typ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Y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becně hodnoty , plus moznostni rozdělení (posibility distribution), nad setříděnou doménu (ordered underlying domain). Při dotazovaní můžeme ukládat a použít kterékoli fuzzy konstantu(viz tabul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uzzy atributy typ 3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YP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gvisticke prome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d nimi mu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e definovat podobnost ( pomoci FEQ), ale samoz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ř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jme nemu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e pou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nou konstantu s tabulk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kla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ha . Marek  ma vetsi vahu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než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arel  o koeficient 0.9=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zeme pouzit operator FEQ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roč je fuzzy logika důležitá?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 -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ýznam fuzzy logiky lze vnímat ve dvou rovin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vní rovinou je potřeba uchop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a pracovat s nepřesnými či mlhavými da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ruhou rovinou je celkový přístup k popis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álného svě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i používání přesných popisů totiž dochází k idealizování skutečnosti a te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dklonu od re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MB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zzy meta-knowledge base. Obsahuje data o FRDB v relačním formátu, A meta-data o jednotlyvych fuzzy atributech( typy 1,2,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Typy funk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Oracle verze FSQL Server obsahuje 3 typy fu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řekladové funkce (FSQL2SQL), po analýze dotazů, převádí ho do SQL dotazů nebo vypíše chyb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Zobrazovací funkc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řevádí fuzzy atributy s interního formátu do přehledně form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uzzy poravnovaci funkc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ravnava fuzzy hodnoty, a počítá stupeň kompatibility (CDEG(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SQL clien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louží jako interface mezi uživatelem a FSQL serverem.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živatel žádá dotaz, pak program postará o tom aby uživatel dostal výsled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chitektura, Sché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129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chitektura, Schém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) FSQL client posílá FSQL dotaz do server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) FSQL server provede analýzu dotazů, a pokud on je korektní, vytvoří příslušný SQL dotaz, pomoci Fuzzy Meta-knowledge b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3) Klient přečte převedeny SQL dota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4) Klient posílá dotaz do příslušné databáze. Při vykonání dotazů se používají funkce FSQL serverů (comparatory a td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5) Klient dostává výsledek a zobrazí 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Důsledk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to model není ideální pro konečný produkt Krok 3 a 4 je možné pro zvýšení efektivity vynechat . Ale je dobře že tady je oddělena funkce FSQL serverů (překládací funkce a td) a Database. Hlavní výhodou ale je to že můžeme použít velkou sadu fuzzy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Jiné SQL-based fuzzy languag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Qlf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[N|T|N,T] &lt;select lis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&lt;table lis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lt;fuzzy 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ato konstrukce vrátí jenom N řádku které splňuje podmínku víc než stupeň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Rozdíl FSQL a SQLf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aké je vidět SQLf je mnohem víc omezena než FSQL. 1) FSQL dovoluje použití thresholds(T hodnota) v libovolně jednoduché podmínce. 2) SQLf dovoluje porovnání jenom tradičných hodnot(crisp values) spolu s Lingustickymi proměny , neb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”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přibližně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ekvival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mezi tradiční hodnoty. (Příklad: Jestl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well-pa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; je definovány fuzzy predikáte pak můžeme napsa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WHERE saláry = well-pa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0" lang="cs-CZ" sz="26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dmFSQ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mFSQL je rozšíření FSQL, zaměřena na dobývání znalosti (data min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) Clust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) Klasifik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3) hledání Globální fuzzy závislosti (Fuzzy Globál Dependencies FGD).</a:t>
            </a:r>
            <a:r>
              <a:rPr b="0" lang="cs-CZ" sz="30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Byznys aplikace fuzzy databas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u z výhod Fuzzy Database je to že zachováme všechny výhody Relační Databa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le rozšiřujeme ji na novou funkcionalitu, jako možnost hledat nepřesná data pomoci lingustickych promenych, fuzzy poravnani a 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Kde se fuzzy logika používá 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Aplik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Řízení (robotika, spotřební elektronik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e9ce8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ční systémy (DBMS, získávání informací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vání obrazců (strojové vidění, zpracování obrázků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Jiné příklad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ožnost použití FSQL není omezena jenom na nějaké rozšíření byznes aplikace. Existuji oblasti kde Fuzzy database jsou taky velmi užitečné. Například jak jsme viděli Data Mining (Dobývání znalost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becně při dobývání znalosti používáme hodně různých metod (uměla intelligence, statistika a td). Tak že přidáním FSQL přidáme další metodu klassifikace a klasterizace d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Clusteriza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taz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table.*, CDEG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OM  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ERE  A1 FEQ #C1 THOLD 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 A2 FEQ #C2 THOLD 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 An FEQ #Cn THOLD τ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 tomto dotazů začínáme centrem (C1..i) pro každý atribut(A1..i) Pro specifický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luster C. (centr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jsou atributy které popisujou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luster) Pak dostaneme obj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y patřící C s minimálním stupněm prinadleznosti 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Konkrétní příklad s převodem do SQ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Internet Obchod Počítačů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CITAC(model_pocitacu, jmeno_vyrobce, model_processoru, model_videokarty, model_monitoru, operacni_pamet, hard_disk, nazev_OS, cena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YROBCE(jmeno_vyrobce,ze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OS(nazev_os,lice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ROCESSOR (model_processoru,vyrobce,frekve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IDEOKARTA (model_videokarty,vyrobce,pamet,chi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MONITOR (model_monitoru,vyrobce, diagona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Pokračování, Cizí klíč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citac: foreign key (jmeno_vyrobce) references VYROBCE(jmeno_vyrob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citac: foreign key (model_processoru) references PROCESSOR(model_processor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citac: foreign key (model_videokarty) references VIDEOKARTA(model_videokar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citac: foreign key (model_monitoru) references MONITOR(model_monitor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ocitac: foreign key (nazev_os) references OS(nazev_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processor: foreign key (vyrobce) references VYROBCE(jmeno_vyrob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ideokrata: foreign key (vyrobce) references VYROBCE(jmeno_vyrob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monitor: foreign key (vyrobce) references VYROBCE(jmeno_vyrob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Defini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efini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) definujeme operátor podobnosti nad Výrobce.jméno_výrobce a Počítač.model_počítačů který reprezentují to že některé počítače jsou podobný jako počítače od jiného výrob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) taky potřebujeme definovat pár fuzzy predikátu Položka tabulky, Fuzzy hodnota Výrobce.jméno_výrobce : norm_důležitý,vysoké_důležitý Monitor.diagonála: malá,střední, velká počítač.cena : levný, střední, dráhy Processor.frekvence : pomalý,střední,rychl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Pokračování, Vytvoření pohledu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REATE VIEW MODEL(model_pocitacu, jmeno_vyrobce, model_processoru, frekvence, model_monitoru, diagonala,cena)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ELECT   P.model_pocitacu, P.model_vyrobce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r.model_processoru, Pr.frekvence, M.model_monitor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.diagonala, P.ce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ROM pocitac P, monitor M, Processor 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WHERE    M.model_monitoru = P.model_monitoru A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.model_processoru = Pr.model_process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Dotaz uživate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taz : chci počítač od známého výrobce za střední cenu, s rychlým procesorem Intel,velkým monitorem, s charakteristiky podobnými jako u počítačů Ap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moci formulářů , nastaví hodnotu delta na 0.8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Fuzzy SQL dotaz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Fuzzy sql dota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ELECT  (0.8)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ROM   MODEL, VYR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jmeno_vyrobce=VYROBCE.jmeno_vyrobce)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jmeno_vyrobce |sim| `Apple`)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cena=[stredni])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frekvence=[rychly])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model_processoru=`Intel`)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diagonala=[velka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Po převodu do SQ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SELEC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ROM MODEL,VYR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jmeno_vyrobce=VYROBCE.jmeno_vyrobce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jmeno_vyrobce IN(`Apple`,`Sony`,`Dell`)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cena BETWEEN 25300 AND 32000 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model_processoru = `INTEL`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(MODEL.diagonala &gt; 2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zn:(Apple, Sony, Dell, jsou vyrobci jejichz podoba Apple je vetsi nez 0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Užitečné funkce pro fuzzy atribut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YPE(fuzzy_atribute) –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rátí typ hodnoty fuzzy atributů, například můžeme dozvědět kolik je hodnot je v fuzzy atributů Typu 2 (Galindo,1999) HEIGH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COUNT(*) FROM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FTYPE(HEIGHT)=6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_CHAR(fuzzy_atribute) –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unkce vrátí text který reprezentují kazdu hodnotu ve fuzzy atribut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DEGREE (atribute_list)-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unkce vrátí fuzzy stupeň (fuzzy degree) příslušného atributů(z argumentů)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* FROM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QUALITY FEQ $Good AND FDEGREE(QUALITY) &gt; 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Běžné otázk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 nemocnici: “Dej mi seznam mladých pacientů kteří trpí hepatidou  a byli přijati přibližně před více jak 5 týdny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e škole: “Dej mi seznam studentu kteří prošli matematikou s dobrými známkami a fyzikou s průměrnými“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 supermarketu: “Seznam výrobků, které se prodaly velmi dobře a u kterých jsme neutratili mnoho za jejích reklamu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Pokračování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DEGROW (table)–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ato funkce vrátí fuzzy stupeň pro celý řádek tabulky. Argument je jméno tabulk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GIN(fuzzy_atribute) -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vrátí hraniční(margin) hodnotu pro fuzzy atribu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Tato funkce může být používaná v výrazech s dot notace: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uzzy_atribute.MARGIN a 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Užitečné funkce pro fuzzy hodnoty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d(fuzzy_value) -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funkce vrátí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ohutn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fuzzy hodnoty. Například , jestli potřebujeme vědět řádky s menší nepřesnosti v atributů než fuzzy konstanta, můžeme do SELECTu dodat takovou podmínk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D(QUALITY) &lt; CARD(3+-2) , CARD(3+-2)=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 tomto prip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RM(fuzzy-value) – normalizuje fuzzy hodno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_DILAT(fuzzy_value,p) –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tato funkce vrátí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koncentrovanou verz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fuzzy hodno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Pokračování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_CONTRAST(fuzzy_value,p) –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esiluje kontrast fuzzy hodnoty. Definice:</a:t>
            </a:r>
            <a:r>
              <a:rPr b="0" lang="pl-PL" sz="21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ZZIFICATION(fuzzy_value,p) – 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doplňková funkce k MORE_CONTRAST. Defin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5954760" cy="857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"/>
          <p:cNvPicPr/>
          <p:nvPr/>
        </p:nvPicPr>
        <p:blipFill>
          <a:blip r:embed="rId2"/>
          <a:stretch/>
        </p:blipFill>
        <p:spPr>
          <a:xfrm>
            <a:off x="1116000" y="4221000"/>
            <a:ext cx="6143760" cy="9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Pokračování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ON(fuzzy_values,s_norm) –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unkce vrátí sjednocení fuzzy hodnot, spolu s s-normou definovanou ve druhém argument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SECTION(fuzzy_values,s_norm) –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funkce vrátí průnik fuzzy hodnot s t-normou definovanou ve druhém argument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znamk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kce CONC_DILAT,MORE_CONTRAST a FUZZIFICATION 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jsou užitečné při implementace linqustickych pojmu Specially, Věry, Slightly, Moře ,L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Referenc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alindo, J.; Urrutia, A.; Piattini, M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Fuzzy Databases: Modeling, Design and Implementatio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Idea Group Publishing Hershey, US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gelica Urrutia and Leopoldo Pavesi 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Extending the capabilities of database queries using fuzzy logi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, Catholic University of Maule (CHI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Galindo, J., Medina, J. M., Pons, O., and Cubero, J. C. 1998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A Server for Fuzzy SQL Querie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”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Jay Nath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Fuzzy Lookups and Groupings Provide Powerful Data Cleansing Capabilitie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Příklad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ulka “Project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2349360"/>
          <a:ext cx="8229600" cy="4104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(1000$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0066"/>
                </a:solidFill>
                <a:latin typeface="Tahoma"/>
              </a:rPr>
              <a:t>Příklad</a:t>
            </a:r>
            <a:r>
              <a:rPr b="1" lang="en-US" sz="3600" spc="-1" strike="noStrike">
                <a:solidFill>
                  <a:srgbClr val="330066"/>
                </a:solidFill>
                <a:latin typeface="Tahoma"/>
              </a:rPr>
              <a:t> - 2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ceme na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j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 projekty s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soký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zpočte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které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trvali dolu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ů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e to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zjistit, například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leduj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íc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 dotaz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Project, Budget,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Budget&gt;80  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nd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ration&lt;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4365720"/>
          <a:ext cx="7416720" cy="1368360"/>
        </p:xfrm>
        <a:graphic>
          <a:graphicData uri="http://schemas.openxmlformats.org/drawingml/2006/table">
            <a:tbl>
              <a:tblPr/>
              <a:tblGrid>
                <a:gridCol w="2473200"/>
                <a:gridCol w="2469960"/>
                <a:gridCol w="247356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(1000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9:54:17Z</dcterms:created>
  <dc:creator>Tarabic Radomir</dc:creator>
  <dc:description/>
  <dc:language>en-US</dc:language>
  <cp:lastModifiedBy>Tarabic Radomir</cp:lastModifiedBy>
  <dcterms:modified xsi:type="dcterms:W3CDTF">2010-01-14T23:03:31Z</dcterms:modified>
  <cp:revision>10</cp:revision>
  <dc:subject/>
  <dc:title>Snímek 1</dc:title>
</cp:coreProperties>
</file>