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5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6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7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8D016D-BF99-4574-8930-AD3347EB6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FD7F14-2564-46C4-8907-9D082691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58840" y="703440"/>
            <a:ext cx="4680000" cy="3509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A90F-A181-438C-A7F6-47C55D671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9112-D8AA-421C-93DD-51D912B8D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8E33-89B9-4CA2-8004-486C4FB81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BCFE-729B-4C3F-A3EC-02F3A8589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89637-C8F5-4F73-B258-6B35BACAA3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7767F-0280-4EF5-B8ED-EB54AFA3D1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27EA-3D5D-4F4B-82B9-5DDB475E5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22DA-8689-48B7-AE29-EC3C34AA93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9AE1-91AF-4351-B0D8-5A10B0A619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AAD6-4071-4BF0-80C9-84B0F46FCC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9AD47-0279-4EF6-8C22-012BC43FF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D41E-3707-459E-B11B-9313BBA89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9471-35C8-4F87-BA22-E54E2877D5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2062-F15F-40A6-AAC3-B6310DF803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53E8C-D114-4135-9F86-A121F2D99F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2538-8A84-4310-8653-0A30A7D73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2E1FB-52D7-4A2F-BBC8-18D68D54AF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6D2-7867-420B-945F-D2F532788D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724-D2EA-4B2D-A797-61E6F96FB07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8E9-AD1A-4CCB-A6A5-BA7DB1B544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189-3DA1-4BCE-B7E2-03DC3CB641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DF5-026A-49C6-AE7F-06FC10E75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EECF-1901-48AD-84CA-BDBB2B911D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74A-7B9D-426E-81D0-07437113C4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CA7-6724-4C0A-8185-D11E26A851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274-ACD9-478F-B294-41059650E6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FD3-6DD2-472A-8A6E-F92566367F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CD7-A629-4E60-B926-03564C9CFC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CF9-A736-4C77-9C06-17C2771618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638-D6B0-4D26-8D85-604340E18E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1F586-7780-4CBA-BCDE-98D5F824F6A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CBA80-5BB6-4C4C-9CF4-46A301F8D6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1B2DC-9373-4D5A-909C-4BF38C96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537B-6DF7-44A9-95F2-C856238232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3E8A5-7223-4128-85D4-473D7AF779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7C991-073D-4B0E-917C-AC7A33542C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3B01B-794D-489E-8D15-13D4CAD932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302A1-DE73-4A22-B2B2-A1385609C8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FAEB6-680C-4608-9305-F8BC90659E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DA099-5F4E-441F-B852-A3CD586CEB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CB8AA-617D-42BA-BD30-91B0B9A79A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A26D2-93C1-4FD8-B034-7C7CC53671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F7963-662F-45EB-9423-FE6B378AB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DFA7D-9912-4A2D-9962-B64F4984C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31AB-6CA0-4789-98B4-37FBB66C6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6C6B-704F-43CC-8B99-758EE2964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C71E-48D0-43D1-BEDA-01CD1C4F4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CD72-4433-4D87-B98C-A73B25EBB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ECEB-4434-479F-AE62-688818B9874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1520" y="2187720"/>
            <a:ext cx="7343640" cy="12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901800" y="5618160"/>
            <a:ext cx="1338120" cy="727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40BB-582D-4E02-AF44-4618A7EEF4BE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805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992805"/>
              </a:solidFill>
              <a:latin typeface="Segoe"/>
            </a:endParaRPr>
          </a:p>
          <a:p>
            <a:pPr lvl="1" marL="44928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2" marL="804960" algn="ctr">
              <a:lnSpc>
                <a:spcPct val="85000"/>
              </a:lnSpc>
              <a:spcBef>
                <a:spcPts val="901"/>
              </a:spcBef>
              <a:buClr>
                <a:srgbClr val="ffb601"/>
              </a:buClr>
              <a:buSzPct val="75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3" marL="1179360" algn="ctr">
              <a:lnSpc>
                <a:spcPct val="85000"/>
              </a:lnSpc>
              <a:spcBef>
                <a:spcPts val="751"/>
              </a:spcBef>
              <a:buClr>
                <a:srgbClr val="ffb601"/>
              </a:buClr>
              <a:buSzPct val="75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4" marL="1533600" algn="ctr">
              <a:lnSpc>
                <a:spcPct val="85000"/>
              </a:lnSpc>
              <a:spcBef>
                <a:spcPts val="751"/>
              </a:spcBef>
              <a:buClr>
                <a:srgbClr val="ffb601"/>
              </a:buClr>
              <a:buSzPct val="75000"/>
              <a:buFont typeface="Wingdings 2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5" marL="1533600">
              <a:spcBef>
                <a:spcPts val="499"/>
              </a:spcBef>
              <a:buClr>
                <a:srgbClr val="ffffff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6" marL="1533600">
              <a:spcBef>
                <a:spcPts val="499"/>
              </a:spcBef>
              <a:buClr>
                <a:srgbClr val="ffffff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D85C-01AC-447C-A704-F62DBF119B6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520" y="2187720"/>
            <a:ext cx="7343640" cy="12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51640" y="398520"/>
            <a:ext cx="1338480" cy="726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6201-8935-485B-8E64-FAA27C713DED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2.png"/><Relationship Id="rId5" Type="http://schemas.openxmlformats.org/officeDocument/2006/relationships/image" Target="../media/image36.png"/><Relationship Id="rId6" Type="http://schemas.openxmlformats.org/officeDocument/2006/relationships/image" Target="../media/image2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image" Target="../media/image2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2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2.png"/><Relationship Id="rId10" Type="http://schemas.openxmlformats.org/officeDocument/2006/relationships/image" Target="../media/image36.png"/><Relationship Id="rId11" Type="http://schemas.openxmlformats.org/officeDocument/2006/relationships/image" Target="../media/image36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crosoft.com/hwdev/platform/pcdesign/HIG.asp" TargetMode="External"/><Relationship Id="rId3" Type="http://schemas.openxmlformats.org/officeDocument/2006/relationships/hyperlink" Target="http://www.microsoft.com/hwdev/platform/pcdesign/HIG.asp" TargetMode="External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8.png"/><Relationship Id="rId19" Type="http://schemas.openxmlformats.org/officeDocument/2006/relationships/image" Target="../media/image28.png"/><Relationship Id="rId20" Type="http://schemas.openxmlformats.org/officeDocument/2006/relationships/image" Target="../media/image28.png"/><Relationship Id="rId21" Type="http://schemas.openxmlformats.org/officeDocument/2006/relationships/image" Target="../media/image28.png"/><Relationship Id="rId22" Type="http://schemas.openxmlformats.org/officeDocument/2006/relationships/image" Target="../media/image28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7.png"/><Relationship Id="rId33" Type="http://schemas.openxmlformats.org/officeDocument/2006/relationships/image" Target="../media/image28.png"/><Relationship Id="rId34" Type="http://schemas.openxmlformats.org/officeDocument/2006/relationships/image" Target="../media/image28.png"/><Relationship Id="rId35" Type="http://schemas.openxmlformats.org/officeDocument/2006/relationships/image" Target="../media/image28.png"/><Relationship Id="rId36" Type="http://schemas.openxmlformats.org/officeDocument/2006/relationships/image" Target="../media/image28.png"/><Relationship Id="rId37" Type="http://schemas.openxmlformats.org/officeDocument/2006/relationships/image" Target="../media/image28.png"/><Relationship Id="rId38" Type="http://schemas.openxmlformats.org/officeDocument/2006/relationships/image" Target="../media/image28.png"/><Relationship Id="rId39" Type="http://schemas.openxmlformats.org/officeDocument/2006/relationships/image" Target="../media/image27.png"/><Relationship Id="rId40" Type="http://schemas.openxmlformats.org/officeDocument/2006/relationships/image" Target="../media/image27.png"/><Relationship Id="rId41" Type="http://schemas.openxmlformats.org/officeDocument/2006/relationships/image" Target="../media/image27.png"/><Relationship Id="rId42" Type="http://schemas.openxmlformats.org/officeDocument/2006/relationships/image" Target="../media/image27.png"/><Relationship Id="rId43" Type="http://schemas.openxmlformats.org/officeDocument/2006/relationships/image" Target="../media/image27.png"/><Relationship Id="rId44" Type="http://schemas.openxmlformats.org/officeDocument/2006/relationships/image" Target="../media/image27.png"/><Relationship Id="rId45" Type="http://schemas.openxmlformats.org/officeDocument/2006/relationships/image" Target="../media/image27.png"/><Relationship Id="rId46" Type="http://schemas.openxmlformats.org/officeDocument/2006/relationships/image" Target="../media/image27.png"/><Relationship Id="rId47" Type="http://schemas.openxmlformats.org/officeDocument/2006/relationships/image" Target="../media/image27.png"/><Relationship Id="rId48" Type="http://schemas.openxmlformats.org/officeDocument/2006/relationships/image" Target="../media/image28.png"/><Relationship Id="rId49" Type="http://schemas.openxmlformats.org/officeDocument/2006/relationships/image" Target="../media/image28.png"/><Relationship Id="rId50" Type="http://schemas.openxmlformats.org/officeDocument/2006/relationships/image" Target="../media/image28.png"/><Relationship Id="rId51" Type="http://schemas.openxmlformats.org/officeDocument/2006/relationships/image" Target="../media/image28.png"/><Relationship Id="rId52" Type="http://schemas.openxmlformats.org/officeDocument/2006/relationships/image" Target="../media/image28.png"/><Relationship Id="rId53" Type="http://schemas.openxmlformats.org/officeDocument/2006/relationships/image" Target="../media/image28.png"/><Relationship Id="rId54" Type="http://schemas.openxmlformats.org/officeDocument/2006/relationships/image" Target="../media/image27.png"/><Relationship Id="rId55" Type="http://schemas.openxmlformats.org/officeDocument/2006/relationships/image" Target="../media/image27.png"/><Relationship Id="rId56" Type="http://schemas.openxmlformats.org/officeDocument/2006/relationships/image" Target="../media/image27.png"/><Relationship Id="rId57" Type="http://schemas.openxmlformats.org/officeDocument/2006/relationships/image" Target="../media/image27.png"/><Relationship Id="rId58" Type="http://schemas.openxmlformats.org/officeDocument/2006/relationships/image" Target="../media/image27.png"/><Relationship Id="rId59" Type="http://schemas.openxmlformats.org/officeDocument/2006/relationships/image" Target="../media/image27.png"/><Relationship Id="rId60" Type="http://schemas.openxmlformats.org/officeDocument/2006/relationships/image" Target="../media/image27.png"/><Relationship Id="rId61" Type="http://schemas.openxmlformats.org/officeDocument/2006/relationships/image" Target="../media/image27.png"/><Relationship Id="rId62" Type="http://schemas.openxmlformats.org/officeDocument/2006/relationships/image" Target="../media/image27.png"/><Relationship Id="rId63" Type="http://schemas.openxmlformats.org/officeDocument/2006/relationships/image" Target="../media/image27.png"/><Relationship Id="rId64" Type="http://schemas.openxmlformats.org/officeDocument/2006/relationships/image" Target="../media/image28.png"/><Relationship Id="rId65" Type="http://schemas.openxmlformats.org/officeDocument/2006/relationships/image" Target="../media/image28.png"/><Relationship Id="rId66" Type="http://schemas.openxmlformats.org/officeDocument/2006/relationships/image" Target="../media/image28.png"/><Relationship Id="rId67" Type="http://schemas.openxmlformats.org/officeDocument/2006/relationships/image" Target="../media/image28.png"/><Relationship Id="rId68" Type="http://schemas.openxmlformats.org/officeDocument/2006/relationships/image" Target="../media/image28.png"/><Relationship Id="rId69" Type="http://schemas.openxmlformats.org/officeDocument/2006/relationships/image" Target="../media/image28.png"/><Relationship Id="rId70" Type="http://schemas.openxmlformats.org/officeDocument/2006/relationships/image" Target="../media/image28.png"/><Relationship Id="rId71" Type="http://schemas.openxmlformats.org/officeDocument/2006/relationships/image" Target="../media/image28.png"/><Relationship Id="rId72" Type="http://schemas.openxmlformats.org/officeDocument/2006/relationships/image" Target="../media/image28.png"/><Relationship Id="rId73" Type="http://schemas.openxmlformats.org/officeDocument/2006/relationships/image" Target="../media/image28.png"/><Relationship Id="rId74" Type="http://schemas.openxmlformats.org/officeDocument/2006/relationships/image" Target="../media/image28.png"/><Relationship Id="rId75" Type="http://schemas.openxmlformats.org/officeDocument/2006/relationships/image" Target="../media/image28.png"/><Relationship Id="rId76" Type="http://schemas.openxmlformats.org/officeDocument/2006/relationships/image" Target="../media/image27.png"/><Relationship Id="rId77" Type="http://schemas.openxmlformats.org/officeDocument/2006/relationships/image" Target="../media/image27.png"/><Relationship Id="rId78" Type="http://schemas.openxmlformats.org/officeDocument/2006/relationships/image" Target="../media/image28.png"/><Relationship Id="rId79" Type="http://schemas.openxmlformats.org/officeDocument/2006/relationships/image" Target="../media/image28.png"/><Relationship Id="rId80" Type="http://schemas.openxmlformats.org/officeDocument/2006/relationships/image" Target="../media/image28.png"/><Relationship Id="rId81" Type="http://schemas.openxmlformats.org/officeDocument/2006/relationships/image" Target="../media/image28.png"/><Relationship Id="rId82" Type="http://schemas.openxmlformats.org/officeDocument/2006/relationships/image" Target="../media/image28.png"/><Relationship Id="rId83" Type="http://schemas.openxmlformats.org/officeDocument/2006/relationships/image" Target="../media/image28.png"/><Relationship Id="rId84" Type="http://schemas.openxmlformats.org/officeDocument/2006/relationships/image" Target="../media/image28.png"/><Relationship Id="rId85" Type="http://schemas.openxmlformats.org/officeDocument/2006/relationships/image" Target="../media/image29.png"/><Relationship Id="rId86" Type="http://schemas.openxmlformats.org/officeDocument/2006/relationships/image" Target="../media/image7.png"/><Relationship Id="rId87" Type="http://schemas.openxmlformats.org/officeDocument/2006/relationships/image" Target="../media/image11.png"/><Relationship Id="rId88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6.png"/><Relationship Id="rId4" Type="http://schemas.openxmlformats.org/officeDocument/2006/relationships/image" Target="../media/image2.png"/><Relationship Id="rId5" Type="http://schemas.openxmlformats.org/officeDocument/2006/relationships/image" Target="../media/image36.png"/><Relationship Id="rId6" Type="http://schemas.openxmlformats.org/officeDocument/2006/relationships/image" Target="../media/image2.png"/><Relationship Id="rId7" Type="http://schemas.openxmlformats.org/officeDocument/2006/relationships/image" Target="../media/image36.png"/><Relationship Id="rId8" Type="http://schemas.openxmlformats.org/officeDocument/2006/relationships/image" Target="../media/image2.png"/><Relationship Id="rId9" Type="http://schemas.openxmlformats.org/officeDocument/2006/relationships/image" Target="../media/image36.png"/><Relationship Id="rId10" Type="http://schemas.openxmlformats.org/officeDocument/2006/relationships/hyperlink" Target="http://pdcbloggers.net/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36.png"/><Relationship Id="rId13" Type="http://schemas.openxmlformats.org/officeDocument/2006/relationships/hyperlink" Target="http://msdn.microsoft.com/longhorn" TargetMode="External"/><Relationship Id="rId14" Type="http://schemas.openxmlformats.org/officeDocument/2006/relationships/hyperlink" Target="http://msdn.microsoft.com/longhorn" TargetMode="External"/><Relationship Id="rId15" Type="http://schemas.openxmlformats.org/officeDocument/2006/relationships/hyperlink" Target="http://msdn.microsoft.com/longhorn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2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2.png"/><Relationship Id="rId5" Type="http://schemas.openxmlformats.org/officeDocument/2006/relationships/image" Target="../media/image30.png"/><Relationship Id="rId6" Type="http://schemas.openxmlformats.org/officeDocument/2006/relationships/image" Target="../media/image2.png"/><Relationship Id="rId7" Type="http://schemas.openxmlformats.org/officeDocument/2006/relationships/image" Target="../media/image30.png"/><Relationship Id="rId8" Type="http://schemas.openxmlformats.org/officeDocument/2006/relationships/image" Target="../media/image2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2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2117880"/>
            <a:ext cx="9144000" cy="1533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520" y="2188080"/>
            <a:ext cx="7343640" cy="12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Keyboard, Speech, and Pen Input in Your Controls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08080" y="3951000"/>
            <a:ext cx="4155840" cy="11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Kevin Gjerstad</a:t>
            </a:r>
            <a:endParaRPr b="0" lang="en-US" sz="2600" spc="-1" strike="noStrike">
              <a:solidFill>
                <a:srgbClr val="992805"/>
              </a:solidFill>
              <a:latin typeface="Segoe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Lead Program Manager</a:t>
            </a:r>
            <a:endParaRPr b="0" lang="en-US" sz="2600" spc="-1" strike="noStrike">
              <a:solidFill>
                <a:srgbClr val="992805"/>
              </a:solidFill>
              <a:latin typeface="Segoe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kevingj@microsoft.com</a:t>
            </a:r>
            <a:endParaRPr b="0" lang="en-US" sz="2600" spc="-1" strike="noStrike">
              <a:solidFill>
                <a:srgbClr val="992805"/>
              </a:solidFill>
              <a:latin typeface="Segoe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248600" y="6246720"/>
            <a:ext cx="1490760" cy="2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2120" y="343080"/>
            <a:ext cx="81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7e993"/>
                </a:solidFill>
                <a:latin typeface="Segoe Semibold"/>
              </a:rPr>
              <a:t>Session Code:</a:t>
            </a:r>
            <a:r>
              <a:rPr b="0" i="1" lang="en-US" sz="3200" spc="-1" strike="noStrike">
                <a:solidFill>
                  <a:srgbClr val="bc5e00"/>
                </a:solidFill>
                <a:latin typeface="Segoe Semibol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Segoe Semibold"/>
              </a:rPr>
              <a:t>CLI35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61840" y="993600"/>
            <a:ext cx="164484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8089920" y="1066680"/>
            <a:ext cx="749160" cy="749520"/>
          </a:xfrm>
          <a:prstGeom prst="ellips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8061480" y="1055520"/>
            <a:ext cx="803160" cy="803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53000" y="3944880"/>
            <a:ext cx="436860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Robert Chamb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Development 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805"/>
                </a:solidFill>
                <a:latin typeface="Verdana"/>
              </a:rPr>
              <a:t>robch@microsoft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E80D-98D3-40A7-B08C-BF3F6440AD0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Input Architectur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62" name=""/>
          <p:cNvSpPr/>
          <p:nvPr/>
        </p:nvSpPr>
        <p:spPr>
          <a:xfrm>
            <a:off x="2057400" y="1295280"/>
            <a:ext cx="1371600" cy="1600200"/>
          </a:xfrm>
          <a:prstGeom prst="rect">
            <a:avLst/>
          </a:prstGeom>
          <a:solidFill>
            <a:srgbClr val="faa9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w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295280"/>
            <a:ext cx="1447920" cy="1600200"/>
          </a:xfrm>
          <a:prstGeom prst="rect">
            <a:avLst/>
          </a:prstGeom>
          <a:solidFill>
            <a:srgbClr val="faa9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1320" y="1295280"/>
            <a:ext cx="1447560" cy="1600200"/>
          </a:xfrm>
          <a:prstGeom prst="rect">
            <a:avLst/>
          </a:prstGeom>
          <a:solidFill>
            <a:srgbClr val="faa9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3733920"/>
            <a:ext cx="2590920" cy="243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-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77120" y="3733920"/>
            <a:ext cx="2438280" cy="24382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Key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ty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User-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467480" y="1295280"/>
            <a:ext cx="1447920" cy="1600200"/>
          </a:xfrm>
          <a:prstGeom prst="rect">
            <a:avLst/>
          </a:prstGeom>
          <a:solidFill>
            <a:srgbClr val="faa9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04920" y="1295280"/>
            <a:ext cx="1523880" cy="1600200"/>
          </a:xfrm>
          <a:prstGeom prst="rect">
            <a:avLst/>
          </a:prstGeom>
          <a:solidFill>
            <a:srgbClr val="faa9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82880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2900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3412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3733920"/>
            <a:ext cx="2481120" cy="26240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3117600" y="2833200"/>
            <a:ext cx="19080" cy="22748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2678040" y="5118120"/>
            <a:ext cx="447840" cy="3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335268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8006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477120" y="28954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772400" y="3352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A7F62-05EB-426B-9D4C-5A26784D5642}" type="slidenum">
              <a:t>10</a:t>
            </a:fld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Event routing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456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unnel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irst notify the grandparent, then the parent, then the chil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Bubbling</a:t>
            </a: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Opposite of Tunneling - First notify the child, then the parent, then parent’s parent, etc.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ypical patter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eviewFoo event (tunnel) followed by Foo event (bubble)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We often talk about these pairs as a single ev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4D20-1345-4476-ADB5-59E1240A3E3F}" type="slidenum">
              <a:t>11</a:t>
            </a:fld>
          </a:p>
        </p:txBody>
      </p:sp>
    </p:spTree>
  </p:cSld>
  <p:transition>
    <p:strips dir="r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Events – Routing Examples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11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5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Spacebar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Tab in button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Tab in edit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Alt-F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egoe Semibold"/>
              </a:rPr>
              <a:t>Unrecognized key</a:t>
            </a:r>
            <a:endParaRPr b="0" lang="en-US" sz="36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172200" y="4571640"/>
            <a:ext cx="533520" cy="7621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7238880" y="4647960"/>
            <a:ext cx="533520" cy="53316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48520" y="2057400"/>
            <a:ext cx="1600200" cy="1066680"/>
          </a:xfrm>
          <a:prstGeom prst="ellipse">
            <a:avLst/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7010280" y="3124080"/>
            <a:ext cx="0" cy="5335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638320" y="4191120"/>
            <a:ext cx="685800" cy="914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743200"/>
            <a:ext cx="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5486400"/>
            <a:ext cx="7617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Hand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48720" y="3886200"/>
            <a:ext cx="7617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Hand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34120" y="3809880"/>
            <a:ext cx="7617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Hand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629400" y="4800240"/>
            <a:ext cx="533520" cy="762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7696080" y="274320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4419720"/>
            <a:ext cx="685800" cy="7617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077320" y="6095880"/>
            <a:ext cx="7617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Hand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62920" y="1295280"/>
            <a:ext cx="76176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Not Hand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477120" y="3657600"/>
            <a:ext cx="1143000" cy="1066680"/>
          </a:xfrm>
          <a:prstGeom prst="ellipse">
            <a:avLst/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81480" y="5257800"/>
            <a:ext cx="1371600" cy="1066680"/>
          </a:xfrm>
          <a:prstGeom prst="ellipse">
            <a:avLst/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391520" y="5181480"/>
            <a:ext cx="958680" cy="1067040"/>
          </a:xfrm>
          <a:prstGeom prst="ellipse">
            <a:avLst/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1283-D448-43B5-A50E-9CA747C75998}" type="slidenum">
              <a:t>12</a:t>
            </a:fld>
          </a:p>
        </p:txBody>
      </p:sp>
    </p:spTree>
  </p:cSld>
  <p:transition>
    <p:strips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880d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880d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880d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880d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880d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Event Promotion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316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Route low-level events first, higher level events nex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Retain ability for developers who want to get to the device events, keep it simple for those who don’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F700-FBC7-45A8-9A9D-B85990D16E4C}" type="slidenum">
              <a:t>13</a:t>
            </a:fld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68480" y="3606840"/>
            <a:ext cx="47260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"/>
              </a:rPr>
              <a:t>Basic Event Handlers</a:t>
            </a: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CFC5-AEA7-4C0C-8B16-5FF04C9ABA38}" type="slidenum">
              <a:t>14</a:t>
            </a:fld>
          </a:p>
        </p:txBody>
      </p:sp>
    </p:spTree>
  </p:cSld>
  <p:transition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792160" y="3618000"/>
            <a:ext cx="532764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"/>
              </a:rPr>
              <a:t>Tunnel Handler</a:t>
            </a: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E326-3655-4A40-A6EE-94AFA751FEDC}" type="slidenum">
              <a:t>15</a:t>
            </a:fld>
          </a:p>
        </p:txBody>
      </p:sp>
    </p:spTree>
  </p:cSld>
  <p:transition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24080" y="3151800"/>
            <a:ext cx="5477040" cy="10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"/>
              </a:rPr>
              <a:t>Stylus &amp; Mouse Handlers</a:t>
            </a:r>
            <a:endParaRPr b="0" lang="en-US" sz="36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15F2-F02C-4582-A14B-1277AE71BC50}" type="slidenum">
              <a:t>16</a:t>
            </a:fld>
          </a:p>
        </p:txBody>
      </p:sp>
    </p:spTree>
  </p:cSld>
  <p:transition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18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Text Input</a:t>
            </a: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 - </a:t>
            </a:r>
            <a:r>
              <a:rPr b="0" lang="en-US" sz="3600" spc="-1" strike="noStrike">
                <a:solidFill>
                  <a:srgbClr val="ffb601"/>
                </a:solidFill>
                <a:latin typeface="Segoe Semibold"/>
              </a:rPr>
              <a:t>Integrated TSF Support</a:t>
            </a:r>
            <a:endParaRPr b="0" lang="en-US" sz="36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520" y="1401480"/>
            <a:ext cx="8388360" cy="4498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SF is an API particularly for input methods requiring access to the document (for context, composition, conversion and correction purposes) such as IMEs, Speech, Handwriting and others.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valon TSF Support consists of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TextBox implements the text store API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 TextInput event for controls that don't implement their own text stor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3EEA-630B-423A-AECA-FC10CB6E84BF}" type="slidenum">
              <a:t>17</a:t>
            </a:fld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TextInput Even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6108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Like other input events in Avalon, Text input events follow the low-level event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 promoted event pattern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  <a:ea typeface="ＭＳ Ｐゴシック"/>
              </a:rPr>
              <a:t>Avalon will first route the appropriate KeyDown/KeyUp events, and if those are not handled, then a TextInput event.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262160" indent="-457200">
              <a:lnSpc>
                <a:spcPct val="85000"/>
              </a:lnSpc>
              <a:spcBef>
                <a:spcPts val="901"/>
              </a:spcBef>
              <a:buClr>
                <a:srgbClr val="ffb601"/>
              </a:buClr>
              <a:buSzPct val="75000"/>
              <a:buFont typeface="Segoe Semi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KeyDown Even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3" marL="1560600" indent="-38124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KeyEventArgs.Key == Key.TextInput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3" marL="1560600" indent="-38124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emibold"/>
              </a:rPr>
              <a:t>KeyEventArgs.Key == Key.ImeProcessed</a:t>
            </a:r>
            <a:endParaRPr b="0" lang="en-US" sz="2000" spc="-1" strike="noStrike">
              <a:solidFill>
                <a:srgbClr val="ffffff"/>
              </a:solidFill>
              <a:latin typeface="Segoe Semibold"/>
            </a:endParaRPr>
          </a:p>
          <a:p>
            <a:pPr lvl="2" marL="1262160" indent="-457200">
              <a:lnSpc>
                <a:spcPct val="85000"/>
              </a:lnSpc>
              <a:spcBef>
                <a:spcPts val="901"/>
              </a:spcBef>
              <a:buClr>
                <a:srgbClr val="ffb601"/>
              </a:buClr>
              <a:buSzPct val="75000"/>
              <a:buFont typeface="Segoe Semibol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extInput Even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  <a:ea typeface="ＭＳ Ｐゴシック"/>
              </a:rPr>
              <a:t>TextInput event is device and language independen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26216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CA81-46D0-4C69-8B68-1F7EC519F48D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793960" y="3166920"/>
            <a:ext cx="4951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"/>
              </a:rPr>
              <a:t>Integrated Text Input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B13A-20F4-4658-A6EB-06557844E0C4}" type="slidenum">
              <a:t>19</a:t>
            </a:fld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Agenda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Why Input Matters To Your App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valon Input Goals and Architectur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Events, Routing, Handl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ode Demo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eature Demo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ustomizing Speech in Your App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9A7D-A95D-4E2E-86B0-EE20CD6EA23E}" type="slidenum">
              <a:t>2</a:t>
            </a:fld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793960" y="3166920"/>
            <a:ext cx="4951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egoe"/>
              </a:rPr>
              <a:t>The Open Command</a:t>
            </a:r>
            <a:endParaRPr b="0" lang="en-US" sz="40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EED96-047A-4957-9FDB-3D2E4B191510}" type="slidenum">
              <a:t>20</a:t>
            </a:fld>
          </a:p>
        </p:txBody>
      </p:sp>
    </p:spTree>
  </p:cSld>
  <p:transition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ommanding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58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ut, Copy, Paste, Open – these are command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 command is a form of inpu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The “Invoke” ev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ommand Invoke is often the result of other inpu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Eg, ctrl-C invokes Copy comman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trl-C = Copy” is an </a:t>
            </a:r>
            <a:r>
              <a:rPr b="1" lang="en-US" sz="2800" spc="-1" strike="noStrike">
                <a:solidFill>
                  <a:srgbClr val="ffffff"/>
                </a:solidFill>
                <a:latin typeface="Segoe Semibold"/>
              </a:rPr>
              <a:t>input bind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an also call RaiseCommand(…) directly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9C11-7068-4418-BD10-2E1955940622}" type="slidenum">
              <a:t>21</a:t>
            </a:fld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Benefits of  Commands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45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entralized handling logic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Manage command status (eg, disabling menu items)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Leverage existing command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Handle more input devic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ommand rout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inding someone to handle the command invoke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3B10-01C8-4A9B-9C6E-9B08587F3547}" type="slidenum">
              <a:t>22</a:t>
            </a:fld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ommand Library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3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 default set of common commands like Cut, Copy, Paste, Open, etc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Or define your own comman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Each standard command includes: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Key binding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Ico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en gestur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peech info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uture devic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D1FC-0B17-44FF-8AFE-168F87500E77}" type="slidenum">
              <a:t>23</a:t>
            </a:fld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Speech Functionality Built In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773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peech Recognition engin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User configuration, Train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Microphone control + Feedback UI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ommand and Control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For all on screen elements (buttons, links etc.)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For starting or switching application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Commanding Control Pattern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0000"/>
              </a:lnSpc>
              <a:spcBef>
                <a:spcPts val="1049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Dictatio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ictate into any text field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Dictation commands to correct/edit tex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Standard Correction User Experience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EF87-6F34-4928-8A6E-5A2A512F1459}" type="slidenum">
              <a:t>24</a:t>
            </a:fld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Extending Speech Suppor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60200" y="1415520"/>
            <a:ext cx="8785440" cy="4632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trengths of speech as an input modality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an refer to things that are not on the scree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“</a:t>
            </a: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Start Microsoft Excell”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an be parameterize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“</a:t>
            </a: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Schedule a meeting tomorrow at 2”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“</a:t>
            </a:r>
            <a:r>
              <a:rPr b="0" i="1" lang="en-US" sz="2800" spc="-1" strike="noStrike">
                <a:solidFill>
                  <a:srgbClr val="faa906"/>
                </a:solidFill>
                <a:latin typeface="Segoe Semibold"/>
              </a:rPr>
              <a:t>Schedule an hour long meeting with my staff and Joe tomorrow afternoon at 2 in the main conference room”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2" marL="1177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EFF6-82BF-4D1C-8F3C-76B381C688CC}" type="slidenum">
              <a:t>25</a:t>
            </a:fld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System.Speech namespac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149120"/>
            <a:ext cx="8388360" cy="6237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Desktop-related functionality of COM API (SAPI) exposed in managed cod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Object-centric rather than interface-centric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Additions so application can easily integrate into the system-wide speech user experienc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Dynamic grammar generation using W3C’s SRGS-derived object mod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DK sample that demonstrates main functionality including semantic properties and recognition alternat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76AA9-1BCC-4089-9E8C-C5EACC56DC09}" type="slidenum">
              <a:t>26</a:t>
            </a:fld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65280" y="3541680"/>
            <a:ext cx="56325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Extending Speech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10B5-49D2-4BFC-87EF-421C5AA2168E}" type="slidenum">
              <a:t>27</a:t>
            </a:fld>
          </a:p>
        </p:txBody>
      </p:sp>
    </p:spTree>
  </p:cSld>
  <p:transition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57120" y="1357200"/>
            <a:ext cx="8358120" cy="4186440"/>
          </a:xfrm>
          <a:prstGeom prst="rect">
            <a:avLst/>
          </a:prstGeom>
          <a:solidFill>
            <a:srgbClr val="4880dc"/>
          </a:solidFill>
          <a:ln w="12600">
            <a:solidFill>
              <a:srgbClr val="faa9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New Device (“XEEL”)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33" name=""/>
          <p:cNvSpPr/>
          <p:nvPr/>
        </p:nvSpPr>
        <p:spPr>
          <a:xfrm>
            <a:off x="3648240" y="6629400"/>
            <a:ext cx="549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b601"/>
                </a:solidFill>
                <a:latin typeface="Arial"/>
              </a:rPr>
              <a:t>View full specifications at </a:t>
            </a:r>
            <a:r>
              <a:rPr b="0" lang="en-US" sz="900" spc="-1" strike="noStrike" u="sng">
                <a:solidFill>
                  <a:srgbClr val="4880dc"/>
                </a:solidFill>
                <a:uFillTx/>
                <a:latin typeface="Arial"/>
                <a:hlinkClick r:id="rId2"/>
              </a:rPr>
              <a:t>http://www.microsoft.com/</a:t>
            </a:r>
            <a:r>
              <a:rPr b="0" lang="en-US" sz="900" spc="-1" strike="noStrike" u="sng">
                <a:solidFill>
                  <a:srgbClr val="4880dc"/>
                </a:solidFill>
                <a:uFillTx/>
                <a:latin typeface="Arial"/>
                <a:hlinkClick r:id="rId3"/>
              </a:rPr>
              <a:t>hwdev/platform/pcdesign/HIG.as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4"/>
          <a:stretch/>
        </p:blipFill>
        <p:spPr>
          <a:xfrm>
            <a:off x="2373480" y="1569960"/>
            <a:ext cx="4298760" cy="38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857F-CA27-4F19-B600-AB59458F4521}" type="slidenum">
              <a:t>28</a:t>
            </a:fld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36480" y="3524040"/>
            <a:ext cx="44053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XEEL Navigation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0" y="2111400"/>
            <a:ext cx="9144000" cy="109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0519-3F3B-41E5-9EC9-3F2773321B8A}" type="slidenum">
              <a:t>29</a:t>
            </a:fld>
          </a:p>
        </p:txBody>
      </p:sp>
    </p:spTree>
  </p:cSld>
  <p:transition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440" y="1814400"/>
            <a:ext cx="3249720" cy="3375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47680" y="2087640"/>
            <a:ext cx="2705040" cy="1197000"/>
          </a:xfrm>
          <a:prstGeom prst="roundRect">
            <a:avLst>
              <a:gd name="adj" fmla="val 5750"/>
            </a:avLst>
          </a:prstGeom>
          <a:solidFill>
            <a:srgbClr val="99cc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06360" y="2238480"/>
            <a:ext cx="257400" cy="7668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58840" y="2238480"/>
            <a:ext cx="65160" cy="90648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320" y="4948200"/>
            <a:ext cx="9091440" cy="1654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98440" y="5877000"/>
            <a:ext cx="2049480" cy="49032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5540400"/>
            <a:ext cx="1039680" cy="29052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63760" y="5248440"/>
            <a:ext cx="1197000" cy="32832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894280" y="1814400"/>
            <a:ext cx="3249720" cy="3375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116760" y="3081240"/>
            <a:ext cx="1058760" cy="906480"/>
          </a:xfrm>
          <a:prstGeom prst="roundRect">
            <a:avLst>
              <a:gd name="adj" fmla="val 5954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88120" y="3081240"/>
            <a:ext cx="1683000" cy="90648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30800" y="4125960"/>
            <a:ext cx="2706840" cy="79848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7440" y="2089080"/>
            <a:ext cx="550800" cy="773280"/>
          </a:xfrm>
          <a:custGeom>
            <a:avLst/>
            <a:gdLst>
              <a:gd name="textAreaLeft" fmla="*/ 10440 w 550800"/>
              <a:gd name="textAreaRight" fmla="*/ 540360 w 550800"/>
              <a:gd name="textAreaTop" fmla="*/ 10440 h 773280"/>
              <a:gd name="textAreaBottom" fmla="*/ 762840 h 773280"/>
            </a:gdLst>
            <a:ahLst/>
            <a:rect l="textAreaLeft" t="textAreaTop" r="textAreaRight" b="textAreaBottom"/>
            <a:pathLst>
              <a:path w="21600" h="30319">
                <a:moveTo>
                  <a:pt x="1421" y="0"/>
                </a:moveTo>
                <a:arcTo wR="1421" hR="1421" stAng="16200000" swAng="-5400000"/>
                <a:lnTo>
                  <a:pt x="0" y="28898"/>
                </a:lnTo>
                <a:arcTo wR="1421" hR="1421" stAng="10800000" swAng="-5400000"/>
                <a:lnTo>
                  <a:pt x="20179" y="30319"/>
                </a:lnTo>
                <a:arcTo wR="1421" hR="1421" stAng="5400000" swAng="-5400000"/>
                <a:lnTo>
                  <a:pt x="21600" y="1421"/>
                </a:lnTo>
                <a:arcTo wR="1421" hR="1421" stAng="0" swAng="-5400000"/>
                <a:close/>
              </a:path>
            </a:pathLst>
          </a:cu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2948040" y="1814400"/>
            <a:ext cx="3249720" cy="3375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78160" y="2082960"/>
            <a:ext cx="1768680" cy="1182600"/>
          </a:xfrm>
          <a:prstGeom prst="roundRect">
            <a:avLst>
              <a:gd name="adj" fmla="val 6579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86720" y="309600"/>
            <a:ext cx="1166760" cy="409680"/>
          </a:xfrm>
          <a:prstGeom prst="roundRect">
            <a:avLst>
              <a:gd name="adj" fmla="val 16667"/>
            </a:avLst>
          </a:prstGeom>
          <a:solidFill>
            <a:srgbClr val="f7e9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51400" y="147600"/>
            <a:ext cx="41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Tool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/>
          <a:srcRect l="250" t="0" r="1502" b="28327"/>
          <a:stretch/>
        </p:blipFill>
        <p:spPr>
          <a:xfrm>
            <a:off x="7742160" y="471600"/>
            <a:ext cx="503280" cy="88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>
            <a:lum bright="-94000"/>
          </a:blip>
          <a:srcRect l="18907" t="-39970" r="0" b="0"/>
          <a:stretch/>
        </p:blipFill>
        <p:spPr>
          <a:xfrm>
            <a:off x="7728120" y="298440"/>
            <a:ext cx="555480" cy="150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8"/>
          <a:srcRect l="562" t="307" r="2131" b="27288"/>
          <a:stretch/>
        </p:blipFill>
        <p:spPr>
          <a:xfrm>
            <a:off x="7742160" y="584280"/>
            <a:ext cx="466920" cy="90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9"/>
          <a:srcRect l="624" t="1044" r="0" b="27625"/>
          <a:stretch/>
        </p:blipFill>
        <p:spPr>
          <a:xfrm>
            <a:off x="8318520" y="368280"/>
            <a:ext cx="471600" cy="101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0">
            <a:lum bright="-88000"/>
          </a:blip>
          <a:srcRect l="0" t="0" r="0" b="29755"/>
          <a:stretch/>
        </p:blipFill>
        <p:spPr>
          <a:xfrm>
            <a:off x="8318520" y="493560"/>
            <a:ext cx="492120" cy="10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1"/>
          <a:stretch/>
        </p:blipFill>
        <p:spPr>
          <a:xfrm>
            <a:off x="5796000" y="857160"/>
            <a:ext cx="2255760" cy="1173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2"/>
          <a:stretch/>
        </p:blipFill>
        <p:spPr>
          <a:xfrm>
            <a:off x="19080" y="861840"/>
            <a:ext cx="2268360" cy="1165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3"/>
          <a:stretch/>
        </p:blipFill>
        <p:spPr>
          <a:xfrm>
            <a:off x="7734240" y="861840"/>
            <a:ext cx="1366920" cy="1168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4"/>
          <a:stretch/>
        </p:blipFill>
        <p:spPr>
          <a:xfrm>
            <a:off x="1959120" y="849240"/>
            <a:ext cx="2246040" cy="1184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5"/>
          <a:stretch/>
        </p:blipFill>
        <p:spPr>
          <a:xfrm>
            <a:off x="3876840" y="852480"/>
            <a:ext cx="2246040" cy="1177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302600" y="252576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02600" y="2273400"/>
            <a:ext cx="171360" cy="50472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24840" y="3222720"/>
            <a:ext cx="169920" cy="6620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24840" y="360684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124840" y="346392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24840" y="332892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265880" y="3222720"/>
            <a:ext cx="257040" cy="534600"/>
            <a:chOff x="7265880" y="3222720"/>
            <a:chExt cx="257040" cy="534600"/>
          </a:xfrm>
        </p:grpSpPr>
        <p:sp>
          <p:nvSpPr>
            <p:cNvPr id="209" name=""/>
            <p:cNvSpPr/>
            <p:nvPr/>
          </p:nvSpPr>
          <p:spPr>
            <a:xfrm>
              <a:off x="7265880" y="3222720"/>
              <a:ext cx="171720" cy="53460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0" y="0"/>
                  </a:moveTo>
                  <a:lnTo>
                    <a:pt x="0" y="156"/>
                  </a:lnTo>
                  <a:lnTo>
                    <a:pt x="84" y="156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65880" y="360432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65880" y="346284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5880" y="332748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253200" y="3228840"/>
            <a:ext cx="256680" cy="587160"/>
            <a:chOff x="6253200" y="3228840"/>
            <a:chExt cx="256680" cy="587160"/>
          </a:xfrm>
        </p:grpSpPr>
        <p:sp>
          <p:nvSpPr>
            <p:cNvPr id="214" name=""/>
            <p:cNvSpPr/>
            <p:nvPr/>
          </p:nvSpPr>
          <p:spPr>
            <a:xfrm>
              <a:off x="6253200" y="3228840"/>
              <a:ext cx="171360" cy="58716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0" y="0"/>
                  </a:moveTo>
                  <a:lnTo>
                    <a:pt x="0" y="156"/>
                  </a:lnTo>
                  <a:lnTo>
                    <a:pt x="84" y="156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3200" y="36482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53200" y="349272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53200" y="33440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02160" y="5273640"/>
            <a:ext cx="1463760" cy="892080"/>
          </a:xfrm>
          <a:prstGeom prst="roundRect">
            <a:avLst>
              <a:gd name="adj" fmla="val 5750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83160" y="5448240"/>
            <a:ext cx="256680" cy="587160"/>
            <a:chOff x="4583160" y="5448240"/>
            <a:chExt cx="256680" cy="587160"/>
          </a:xfrm>
        </p:grpSpPr>
        <p:sp>
          <p:nvSpPr>
            <p:cNvPr id="220" name=""/>
            <p:cNvSpPr/>
            <p:nvPr/>
          </p:nvSpPr>
          <p:spPr>
            <a:xfrm>
              <a:off x="4583160" y="5448240"/>
              <a:ext cx="171360" cy="58716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0" y="0"/>
                  </a:moveTo>
                  <a:lnTo>
                    <a:pt x="0" y="156"/>
                  </a:lnTo>
                  <a:lnTo>
                    <a:pt x="84" y="156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3160" y="58676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3160" y="571212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83160" y="55634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13000" y="3301920"/>
            <a:ext cx="1579680" cy="1128960"/>
          </a:xfrm>
          <a:prstGeom prst="roundRect">
            <a:avLst>
              <a:gd name="adj" fmla="val 5750"/>
            </a:avLst>
          </a:prstGeom>
          <a:solidFill>
            <a:srgbClr val="ffb60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14880" y="3389400"/>
            <a:ext cx="257040" cy="9428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14880" y="352440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14880" y="366696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14880" y="384480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314880" y="401328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14880" y="419112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94440" y="2665440"/>
            <a:ext cx="257040" cy="3348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14880" y="2212920"/>
            <a:ext cx="257400" cy="9446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14880" y="234936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14880" y="249084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14880" y="267012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00560" y="283860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80360" y="5276880"/>
            <a:ext cx="1257120" cy="495360"/>
          </a:xfrm>
          <a:prstGeom prst="roundRect">
            <a:avLst>
              <a:gd name="adj" fmla="val 5750"/>
            </a:avLst>
          </a:prstGeom>
          <a:solidFill>
            <a:srgbClr val="66cc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07320" y="2089080"/>
            <a:ext cx="1049400" cy="974880"/>
          </a:xfrm>
          <a:prstGeom prst="roundRect">
            <a:avLst>
              <a:gd name="adj" fmla="val 575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33880" y="2087640"/>
            <a:ext cx="884160" cy="1028520"/>
          </a:xfrm>
          <a:custGeom>
            <a:avLst/>
            <a:gdLst>
              <a:gd name="textAreaLeft" fmla="*/ 14760 w 884160"/>
              <a:gd name="textAreaRight" fmla="*/ 869400 w 884160"/>
              <a:gd name="textAreaTop" fmla="*/ 14760 h 1028520"/>
              <a:gd name="textAreaBottom" fmla="*/ 1013760 h 1028520"/>
            </a:gdLst>
            <a:ahLst/>
            <a:rect l="textAreaLeft" t="textAreaTop" r="textAreaRight" b="textAreaBottom"/>
            <a:pathLst>
              <a:path w="21600" h="25125">
                <a:moveTo>
                  <a:pt x="1242" y="0"/>
                </a:moveTo>
                <a:arcTo wR="1242" hR="1242" stAng="16200000" swAng="-5400000"/>
                <a:lnTo>
                  <a:pt x="0" y="23883"/>
                </a:lnTo>
                <a:arcTo wR="1242" hR="1242" stAng="10800000" swAng="-5400000"/>
                <a:lnTo>
                  <a:pt x="20358" y="25125"/>
                </a:lnTo>
                <a:arcTo wR="1242" hR="1242" stAng="5400000" swAng="-5400000"/>
                <a:lnTo>
                  <a:pt x="21600" y="1242"/>
                </a:lnTo>
                <a:arcTo wR="1242" hR="1242" stAng="0" swAng="-5400000"/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3520" y="3376440"/>
            <a:ext cx="1131840" cy="844560"/>
          </a:xfrm>
          <a:prstGeom prst="roundRect">
            <a:avLst>
              <a:gd name="adj" fmla="val 5750"/>
            </a:avLst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6760" y="822240"/>
            <a:ext cx="1265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Client Application Mode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640" y="1206360"/>
            <a:ext cx="48564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Aval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10240" y="1206360"/>
            <a:ext cx="8802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Windows Form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4560" y="822240"/>
            <a:ext cx="1628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Web &amp; Service Application Mode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8520" y="1206360"/>
            <a:ext cx="9136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ASP.NET / Indigo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57720" y="1185840"/>
            <a:ext cx="4719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Win F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48360" y="1101600"/>
            <a:ext cx="816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Compact Framework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90760" y="1185840"/>
            <a:ext cx="461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Yuk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1187280"/>
            <a:ext cx="1009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ae1606"/>
                </a:solidFill>
                <a:latin typeface="Franklin Gothic Medium"/>
              </a:rPr>
              <a:t>Mobile PC Optimized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0920" y="3376440"/>
            <a:ext cx="1520640" cy="844560"/>
          </a:xfrm>
          <a:prstGeom prst="roundRect">
            <a:avLst>
              <a:gd name="adj" fmla="val 5750"/>
            </a:avLst>
          </a:prstGeom>
          <a:solidFill>
            <a:srgbClr val="66cc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0120" y="4378680"/>
            <a:ext cx="7318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Help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0120" y="4540680"/>
            <a:ext cx="731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raw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2200" y="4729680"/>
            <a:ext cx="1082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NaturalLanguage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4520" y="822240"/>
            <a:ext cx="1604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Data Systems Application Mode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880" y="1851120"/>
            <a:ext cx="750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Present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7040" y="1833480"/>
            <a:ext cx="39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Da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11280" y="822240"/>
            <a:ext cx="189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Mobile PC &amp; Devices Application Mode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65560" y="1830240"/>
            <a:ext cx="886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Communica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78680" y="822240"/>
            <a:ext cx="843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Command Lin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83800" y="1357200"/>
            <a:ext cx="636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NT</a:t>
            </a:r>
            <a:r>
              <a:rPr b="1" lang="en-US" sz="5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Servic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3680" y="2289600"/>
            <a:ext cx="7063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ataSe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3680" y="2453040"/>
            <a:ext cx="7063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app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3680" y="2618280"/>
            <a:ext cx="7063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ObjectSpa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49880" y="2781720"/>
            <a:ext cx="6048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ObjectSpa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49880" y="2947680"/>
            <a:ext cx="6048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Quer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49880" y="3112920"/>
            <a:ext cx="60480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chem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50712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Item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366264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Relationship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819600"/>
            <a:ext cx="590760" cy="9504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edi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97728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udi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54480" y="4133520"/>
            <a:ext cx="58716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Vide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429048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Imag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818240" y="4211640"/>
            <a:ext cx="1114200" cy="663480"/>
          </a:xfrm>
          <a:prstGeom prst="roundRect">
            <a:avLst>
              <a:gd name="adj" fmla="val 5750"/>
            </a:avLst>
          </a:prstGeom>
          <a:solidFill>
            <a:srgbClr val="66cc6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46640" y="2147400"/>
            <a:ext cx="9446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Messag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248600" y="2132280"/>
            <a:ext cx="514440" cy="171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iscover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41960" y="2330280"/>
            <a:ext cx="95400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irectory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41960" y="2501640"/>
            <a:ext cx="954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Remot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41960" y="2670480"/>
            <a:ext cx="954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Runtime.Remot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58040" y="2406600"/>
            <a:ext cx="403200" cy="171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ctiv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irector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58040" y="2707920"/>
            <a:ext cx="405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Uddi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41960" y="3122280"/>
            <a:ext cx="9003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.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11880" y="3305160"/>
            <a:ext cx="70956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Web.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11880" y="3457800"/>
            <a:ext cx="709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escrip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11880" y="3611880"/>
            <a:ext cx="709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iscover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11880" y="3767400"/>
            <a:ext cx="709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rotoc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18360" y="3138840"/>
            <a:ext cx="16225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MessageBu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24560" y="327852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Trans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24560" y="341172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or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324560" y="355788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hanne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4560" y="370548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ervi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10520" y="327852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Queu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210520" y="341172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ubSub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10520" y="355788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Route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9840" y="5274360"/>
            <a:ext cx="8395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Timer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6600" y="5413680"/>
            <a:ext cx="844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Global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39840" y="5559840"/>
            <a:ext cx="8395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erial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36600" y="5700240"/>
            <a:ext cx="844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Thread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52520" y="5274360"/>
            <a:ext cx="8413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Tex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51080" y="5413680"/>
            <a:ext cx="844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esig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4840" y="5143680"/>
            <a:ext cx="10602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Franklin Gothic Medium"/>
              </a:rPr>
              <a:t>Base &amp; Application 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5400" y="4978440"/>
            <a:ext cx="81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Franklin Gothic Medium"/>
              </a:rPr>
              <a:t>Fundamental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7520" y="5627880"/>
            <a:ext cx="1038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mponentMode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87520" y="5775840"/>
            <a:ext cx="1038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deDom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87520" y="5921640"/>
            <a:ext cx="1038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Reflec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87520" y="6069240"/>
            <a:ext cx="1038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Enterprise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87520" y="6215400"/>
            <a:ext cx="1038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Transaction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43480" y="5137200"/>
            <a:ext cx="442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Franklin Gothic Medium"/>
              </a:rPr>
              <a:t>Securit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45000" y="5270760"/>
            <a:ext cx="685800" cy="171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.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TrustManag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45000" y="5548320"/>
            <a:ext cx="685800" cy="17100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.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ecurit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45000" y="5821560"/>
            <a:ext cx="685800" cy="1710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Message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Bus.Securit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27440" y="5517000"/>
            <a:ext cx="6098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uthor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29240" y="5664600"/>
            <a:ext cx="6062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ccessContro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27440" y="5816880"/>
            <a:ext cx="6098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redentia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627440" y="5970960"/>
            <a:ext cx="6098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ryptograph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27840" y="5275800"/>
            <a:ext cx="117000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.Configu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26040" y="5431320"/>
            <a:ext cx="11750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MessageBus.Configu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27840" y="5590080"/>
            <a:ext cx="1170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nfigu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27840" y="5758200"/>
            <a:ext cx="1170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Resour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424640" y="5817240"/>
            <a:ext cx="8334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Manag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24640" y="5975280"/>
            <a:ext cx="83340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eploy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426440" y="6130800"/>
            <a:ext cx="83016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iagnostic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11920" y="5143680"/>
            <a:ext cx="628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Franklin Gothic Medium"/>
              </a:rPr>
              <a:t>Configu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15480" y="5143680"/>
            <a:ext cx="10296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Franklin Gothic Medium"/>
              </a:rPr>
              <a:t>Deployment/Manag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6840" y="1417320"/>
            <a:ext cx="73980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016760" y="1408320"/>
            <a:ext cx="701640" cy="95760"/>
          </a:xfrm>
          <a:prstGeom prst="roundRect">
            <a:avLst>
              <a:gd name="adj" fmla="val 16667"/>
            </a:avLst>
          </a:prstGeom>
          <a:solidFill>
            <a:srgbClr val="f38077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51600" y="1406520"/>
            <a:ext cx="779400" cy="95040"/>
          </a:xfrm>
          <a:prstGeom prst="roundRect">
            <a:avLst>
              <a:gd name="adj" fmla="val 16667"/>
            </a:avLst>
          </a:prstGeom>
          <a:solidFill>
            <a:srgbClr val="f38077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.Form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81920" y="1135440"/>
            <a:ext cx="781200" cy="957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nsol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959600" y="1619640"/>
            <a:ext cx="814680" cy="9576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erviceProces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71440" y="1379880"/>
            <a:ext cx="743040" cy="171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.Form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49600" y="1413360"/>
            <a:ext cx="73800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72040" y="1409760"/>
            <a:ext cx="743040" cy="95040"/>
          </a:xfrm>
          <a:prstGeom prst="roundRect">
            <a:avLst>
              <a:gd name="adj" fmla="val 16667"/>
            </a:avLst>
          </a:prstGeom>
          <a:solidFill>
            <a:srgbClr val="fca178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torag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62600" y="1406520"/>
            <a:ext cx="743040" cy="95040"/>
          </a:xfrm>
          <a:prstGeom prst="roundRect">
            <a:avLst>
              <a:gd name="adj" fmla="val 16667"/>
            </a:avLst>
          </a:prstGeom>
          <a:solidFill>
            <a:srgbClr val="fca178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ata.SqlServe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680" y="2247840"/>
            <a:ext cx="120600" cy="9288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8680" y="2514600"/>
            <a:ext cx="149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8680" y="2847960"/>
            <a:ext cx="149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6040" y="2552760"/>
            <a:ext cx="149400" cy="1332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46040" y="2901960"/>
            <a:ext cx="149400" cy="9828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06360" y="2519280"/>
            <a:ext cx="257040" cy="331920"/>
            <a:chOff x="1206360" y="2519280"/>
            <a:chExt cx="257040" cy="331920"/>
          </a:xfrm>
        </p:grpSpPr>
        <p:sp>
          <p:nvSpPr>
            <p:cNvPr id="339" name=""/>
            <p:cNvSpPr/>
            <p:nvPr/>
          </p:nvSpPr>
          <p:spPr>
            <a:xfrm>
              <a:off x="1206360" y="251928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06360" y="268524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06360" y="285120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133720" y="2247840"/>
            <a:ext cx="272880" cy="9320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684520"/>
            <a:ext cx="149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51080" y="2359080"/>
            <a:ext cx="150840" cy="1890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20920" y="2717640"/>
            <a:ext cx="149400" cy="1350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82840" y="2470680"/>
            <a:ext cx="4953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nim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287440" y="263088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r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82840" y="2794680"/>
            <a:ext cx="4953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ro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7440" y="3118320"/>
            <a:ext cx="5907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esig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20920" y="2846520"/>
            <a:ext cx="149400" cy="1634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82840" y="2954880"/>
            <a:ext cx="4953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ane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13000" y="2470320"/>
            <a:ext cx="565200" cy="95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r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14440" y="2630880"/>
            <a:ext cx="5637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ialog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2794680"/>
            <a:ext cx="5605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ideBa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14440" y="2954880"/>
            <a:ext cx="5637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Notific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7920" y="2147400"/>
            <a:ext cx="26557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4120" y="2470680"/>
            <a:ext cx="7034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ocument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01480" y="2630880"/>
            <a:ext cx="6019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Text El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2794680"/>
            <a:ext cx="7034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hap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1480" y="2954880"/>
            <a:ext cx="6019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hap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120" y="3118320"/>
            <a:ext cx="7034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Ink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8680" y="2370240"/>
            <a:ext cx="149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4120" y="2311920"/>
            <a:ext cx="7034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UI El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06360" y="2370240"/>
            <a:ext cx="1508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74760" y="2311920"/>
            <a:ext cx="7034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Explore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33720" y="2355840"/>
            <a:ext cx="149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68640" y="2311920"/>
            <a:ext cx="7048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edi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6200" y="3486240"/>
            <a:ext cx="257040" cy="6080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80880" y="3618000"/>
            <a:ext cx="257040" cy="334440"/>
            <a:chOff x="380880" y="3618000"/>
            <a:chExt cx="257040" cy="334440"/>
          </a:xfrm>
        </p:grpSpPr>
        <p:sp>
          <p:nvSpPr>
            <p:cNvPr id="370" name=""/>
            <p:cNvSpPr/>
            <p:nvPr/>
          </p:nvSpPr>
          <p:spPr>
            <a:xfrm>
              <a:off x="380880" y="361800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0880" y="378504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880" y="395244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28680" y="3422520"/>
            <a:ext cx="987480" cy="95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.Form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79520" y="3576240"/>
            <a:ext cx="7318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Form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9520" y="3735720"/>
            <a:ext cx="7318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ro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7720" y="3889800"/>
            <a:ext cx="7365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rint Dialo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9520" y="4046760"/>
            <a:ext cx="7318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esig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11280" y="3486240"/>
            <a:ext cx="257040" cy="6080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517760" y="3618000"/>
            <a:ext cx="256680" cy="334440"/>
            <a:chOff x="1517760" y="3618000"/>
            <a:chExt cx="256680" cy="334440"/>
          </a:xfrm>
        </p:grpSpPr>
        <p:sp>
          <p:nvSpPr>
            <p:cNvPr id="380" name=""/>
            <p:cNvSpPr/>
            <p:nvPr/>
          </p:nvSpPr>
          <p:spPr>
            <a:xfrm>
              <a:off x="1517760" y="361800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17760" y="37850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7760" y="39524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51080" y="3454560"/>
            <a:ext cx="257040" cy="50472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57560" y="361800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57560" y="378612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63760" y="3422520"/>
            <a:ext cx="1438200" cy="9504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.UI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38280" y="3576240"/>
            <a:ext cx="6555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ag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538280" y="3735720"/>
            <a:ext cx="6555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ro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8280" y="3889800"/>
            <a:ext cx="6555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HtmlContr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38280" y="4046760"/>
            <a:ext cx="6555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obileContr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06520" y="3576240"/>
            <a:ext cx="59544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WebControl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06520" y="3735720"/>
            <a:ext cx="59544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daptor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05080" y="3889800"/>
            <a:ext cx="5968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esig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476360" y="5610240"/>
            <a:ext cx="257040" cy="1443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42960" y="5699520"/>
            <a:ext cx="6541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ort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76360" y="5946840"/>
            <a:ext cx="257040" cy="1620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562040" y="6065640"/>
            <a:ext cx="6350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Interop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4800" y="5910840"/>
            <a:ext cx="18622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Runtim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352520" y="5559840"/>
            <a:ext cx="84132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IO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05240" y="5319720"/>
            <a:ext cx="257040" cy="1634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386080" y="5285160"/>
            <a:ext cx="1035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llection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00280" y="5432040"/>
            <a:ext cx="6526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Generic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325680" y="2192400"/>
            <a:ext cx="257400" cy="7556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325680" y="2381400"/>
            <a:ext cx="257040" cy="366120"/>
            <a:chOff x="3325680" y="2381400"/>
            <a:chExt cx="257040" cy="366120"/>
          </a:xfrm>
        </p:grpSpPr>
        <p:sp>
          <p:nvSpPr>
            <p:cNvPr id="405" name=""/>
            <p:cNvSpPr/>
            <p:nvPr/>
          </p:nvSpPr>
          <p:spPr>
            <a:xfrm>
              <a:off x="3325680" y="238140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25680" y="256428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25680" y="2747520"/>
              <a:ext cx="2570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271680" y="2134080"/>
            <a:ext cx="7477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earch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6400" y="2323080"/>
            <a:ext cx="60300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nnotation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16400" y="2513520"/>
            <a:ext cx="60300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onitor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17840" y="2702520"/>
            <a:ext cx="6001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Logg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17840" y="2894400"/>
            <a:ext cx="6001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Relevanc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62400" y="2212920"/>
            <a:ext cx="257040" cy="9446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62400" y="234936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62400" y="249084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262400" y="267012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62400" y="283860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62400" y="301608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4000" y="2138040"/>
            <a:ext cx="1629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Dat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361040" y="2289600"/>
            <a:ext cx="6411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qlCli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361040" y="2453040"/>
            <a:ext cx="6411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qlTyp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361040" y="2618280"/>
            <a:ext cx="6411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qlXM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361040" y="2781720"/>
            <a:ext cx="6411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OdbcCli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361040" y="2947680"/>
            <a:ext cx="6411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OleDbCli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61040" y="3112920"/>
            <a:ext cx="64116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OracleCli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86360" y="3389400"/>
            <a:ext cx="257040" cy="16668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213080" y="370368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13080" y="388152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13080" y="404964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13080" y="420228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08400" y="3616200"/>
            <a:ext cx="171360" cy="69552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9720" y="3507120"/>
            <a:ext cx="59220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r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62400" y="3662640"/>
            <a:ext cx="47952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ntac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62400" y="3819600"/>
            <a:ext cx="479520" cy="9504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Loc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62400" y="3977280"/>
            <a:ext cx="47952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essag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62400" y="4133520"/>
            <a:ext cx="47952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Docu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2400" y="4290480"/>
            <a:ext cx="47952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Ev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33880" y="3351600"/>
            <a:ext cx="1517400" cy="95760"/>
          </a:xfrm>
          <a:prstGeom prst="roundRect">
            <a:avLst>
              <a:gd name="adj" fmla="val 16667"/>
            </a:avLst>
          </a:prstGeom>
          <a:solidFill>
            <a:srgbClr val="f7e993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torag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4354560"/>
            <a:ext cx="171360" cy="4190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60548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29200" y="445284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6040" y="4269240"/>
            <a:ext cx="9334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164200" y="4415040"/>
            <a:ext cx="6364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ersonal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64200" y="4564440"/>
            <a:ext cx="6364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aching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64200" y="4712040"/>
            <a:ext cx="6364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essionStat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25960" y="4449600"/>
            <a:ext cx="1563480" cy="509760"/>
          </a:xfrm>
          <a:prstGeom prst="roundRect">
            <a:avLst>
              <a:gd name="adj" fmla="val 12597"/>
            </a:avLst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000680" y="4479840"/>
            <a:ext cx="171360" cy="3351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00680" y="466740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92560" y="4479840"/>
            <a:ext cx="171360" cy="3351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92560" y="466740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233880" y="4474080"/>
            <a:ext cx="13809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Xm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352680" y="4617720"/>
            <a:ext cx="5367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chem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4765320"/>
            <a:ext cx="5367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erial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06880" y="4617720"/>
            <a:ext cx="5382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Xpath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06880" y="4765320"/>
            <a:ext cx="5382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Quer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295960" y="5448240"/>
            <a:ext cx="256680" cy="587160"/>
            <a:chOff x="5295960" y="5448240"/>
            <a:chExt cx="256680" cy="587160"/>
          </a:xfrm>
        </p:grpSpPr>
        <p:sp>
          <p:nvSpPr>
            <p:cNvPr id="457" name=""/>
            <p:cNvSpPr/>
            <p:nvPr/>
          </p:nvSpPr>
          <p:spPr>
            <a:xfrm>
              <a:off x="5295960" y="5448240"/>
              <a:ext cx="171360" cy="58716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0" y="0"/>
                  </a:moveTo>
                  <a:lnTo>
                    <a:pt x="0" y="156"/>
                  </a:lnTo>
                  <a:lnTo>
                    <a:pt x="84" y="156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295960" y="58676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95960" y="571212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95960" y="5563440"/>
              <a:ext cx="2566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335560" y="5512320"/>
            <a:ext cx="5493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ermission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35560" y="5661360"/>
            <a:ext cx="5493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olic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335560" y="5813280"/>
            <a:ext cx="549360" cy="950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rincipal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335560" y="5968800"/>
            <a:ext cx="5493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Toke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1760" y="5356440"/>
            <a:ext cx="12240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ecurit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81840" y="2200320"/>
            <a:ext cx="171720" cy="78084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81840" y="267192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81840" y="250020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881840" y="233208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81840" y="281952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24960" y="2130840"/>
            <a:ext cx="97920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Collabo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48440" y="2289600"/>
            <a:ext cx="86364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RealTimeEndpoi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53480" y="2448360"/>
            <a:ext cx="86832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TransientDataSess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945560" y="2608920"/>
            <a:ext cx="88416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ignalingSess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950240" y="2766960"/>
            <a:ext cx="873000" cy="950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edia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950240" y="2927880"/>
            <a:ext cx="87300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ctiviti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65880" y="4307040"/>
            <a:ext cx="171360" cy="5349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65880" y="454824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65880" y="441324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65880" y="466416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51560" y="4334400"/>
            <a:ext cx="784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HttpWebReques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51560" y="4480200"/>
            <a:ext cx="784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FtpWebListener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451560" y="4629600"/>
            <a:ext cx="784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slClientStream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51560" y="4778640"/>
            <a:ext cx="784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WebCli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478640" y="4224240"/>
            <a:ext cx="171360" cy="4716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78640" y="454356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78640" y="4402080"/>
            <a:ext cx="257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03880" y="4191480"/>
            <a:ext cx="24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Ne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18320" y="4334400"/>
            <a:ext cx="893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NetworkInform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18320" y="4480200"/>
            <a:ext cx="893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ocket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18320" y="4629600"/>
            <a:ext cx="893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ache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454880" y="5332320"/>
            <a:ext cx="171360" cy="32868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54880" y="5508720"/>
            <a:ext cx="25704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421400" y="5325120"/>
            <a:ext cx="85248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eb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99240" y="5455080"/>
            <a:ext cx="6717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Administr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599240" y="5599440"/>
            <a:ext cx="671760" cy="95760"/>
          </a:xfrm>
          <a:prstGeom prst="roundRect">
            <a:avLst>
              <a:gd name="adj" fmla="val 16667"/>
            </a:avLst>
          </a:prstGeom>
          <a:solidFill>
            <a:srgbClr val="8ad88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Managemen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204920" y="3097440"/>
            <a:ext cx="703080" cy="957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Navig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10520" y="385632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eer Group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124840" y="3747960"/>
            <a:ext cx="2556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210520" y="3705480"/>
            <a:ext cx="622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Policy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911160" y="2300400"/>
            <a:ext cx="192240" cy="1378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1882800" y="135252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3365640" y="1359000"/>
            <a:ext cx="210960" cy="2077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5675400" y="136368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0"/>
          <a:stretch/>
        </p:blipFill>
        <p:spPr>
          <a:xfrm>
            <a:off x="6788160" y="136044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1"/>
          <a:stretch/>
        </p:blipFill>
        <p:spPr>
          <a:xfrm>
            <a:off x="8731080" y="107316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2"/>
          <a:stretch/>
        </p:blipFill>
        <p:spPr>
          <a:xfrm>
            <a:off x="8740800" y="157788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3"/>
          <a:stretch/>
        </p:blipFill>
        <p:spPr>
          <a:xfrm>
            <a:off x="8556480" y="112392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4"/>
          <a:stretch/>
        </p:blipFill>
        <p:spPr>
          <a:xfrm>
            <a:off x="912960" y="2616120"/>
            <a:ext cx="191880" cy="13824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25"/>
          <a:stretch/>
        </p:blipFill>
        <p:spPr>
          <a:xfrm>
            <a:off x="911160" y="293688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6"/>
          <a:stretch/>
        </p:blipFill>
        <p:spPr>
          <a:xfrm>
            <a:off x="2681280" y="2781360"/>
            <a:ext cx="192240" cy="1378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7"/>
          <a:stretch/>
        </p:blipFill>
        <p:spPr>
          <a:xfrm>
            <a:off x="2682720" y="293688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8"/>
          <a:stretch/>
        </p:blipFill>
        <p:spPr>
          <a:xfrm>
            <a:off x="1019160" y="356544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9"/>
          <a:stretch/>
        </p:blipFill>
        <p:spPr>
          <a:xfrm>
            <a:off x="1027080" y="370836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0"/>
          <a:stretch/>
        </p:blipFill>
        <p:spPr>
          <a:xfrm>
            <a:off x="1028880" y="3875040"/>
            <a:ext cx="191880" cy="13824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1"/>
          <a:stretch/>
        </p:blipFill>
        <p:spPr>
          <a:xfrm>
            <a:off x="1989000" y="357192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2"/>
          <a:stretch/>
        </p:blipFill>
        <p:spPr>
          <a:xfrm>
            <a:off x="1995480" y="371628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3"/>
          <a:stretch/>
        </p:blipFill>
        <p:spPr>
          <a:xfrm>
            <a:off x="1257480" y="337500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4"/>
          <a:stretch/>
        </p:blipFill>
        <p:spPr>
          <a:xfrm>
            <a:off x="2849400" y="338292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35"/>
          <a:stretch/>
        </p:blipFill>
        <p:spPr>
          <a:xfrm>
            <a:off x="1041480" y="449424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6"/>
          <a:stretch/>
        </p:blipFill>
        <p:spPr>
          <a:xfrm>
            <a:off x="5783400" y="208584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37"/>
          <a:stretch/>
        </p:blipFill>
        <p:spPr>
          <a:xfrm>
            <a:off x="5757840" y="422748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8"/>
          <a:stretch/>
        </p:blipFill>
        <p:spPr>
          <a:xfrm>
            <a:off x="4586400" y="441792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9"/>
          <a:stretch/>
        </p:blipFill>
        <p:spPr>
          <a:xfrm>
            <a:off x="5667480" y="2276640"/>
            <a:ext cx="191880" cy="1378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0"/>
          <a:stretch/>
        </p:blipFill>
        <p:spPr>
          <a:xfrm>
            <a:off x="5668920" y="277956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1"/>
          <a:stretch/>
        </p:blipFill>
        <p:spPr>
          <a:xfrm>
            <a:off x="3778200" y="349416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2"/>
          <a:stretch/>
        </p:blipFill>
        <p:spPr>
          <a:xfrm>
            <a:off x="3778200" y="364320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43"/>
          <a:stretch/>
        </p:blipFill>
        <p:spPr>
          <a:xfrm>
            <a:off x="4578480" y="366084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44"/>
          <a:stretch/>
        </p:blipFill>
        <p:spPr>
          <a:xfrm>
            <a:off x="4578480" y="380376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45"/>
          <a:stretch/>
        </p:blipFill>
        <p:spPr>
          <a:xfrm>
            <a:off x="4578480" y="395460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6"/>
          <a:stretch/>
        </p:blipFill>
        <p:spPr>
          <a:xfrm>
            <a:off x="4578480" y="411480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47"/>
          <a:stretch/>
        </p:blipFill>
        <p:spPr>
          <a:xfrm>
            <a:off x="4578480" y="426708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8"/>
          <a:stretch/>
        </p:blipFill>
        <p:spPr>
          <a:xfrm>
            <a:off x="7056360" y="210024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9"/>
          <a:stretch/>
        </p:blipFill>
        <p:spPr>
          <a:xfrm>
            <a:off x="7061040" y="227340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50"/>
          <a:stretch/>
        </p:blipFill>
        <p:spPr>
          <a:xfrm>
            <a:off x="7061040" y="244620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1"/>
          <a:stretch/>
        </p:blipFill>
        <p:spPr>
          <a:xfrm>
            <a:off x="7056360" y="261468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2"/>
          <a:stretch/>
        </p:blipFill>
        <p:spPr>
          <a:xfrm>
            <a:off x="7018200" y="307188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3"/>
          <a:stretch/>
        </p:blipFill>
        <p:spPr>
          <a:xfrm>
            <a:off x="8589960" y="413388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54"/>
          <a:stretch/>
        </p:blipFill>
        <p:spPr>
          <a:xfrm>
            <a:off x="8631360" y="227340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5"/>
          <a:stretch/>
        </p:blipFill>
        <p:spPr>
          <a:xfrm>
            <a:off x="8632800" y="258912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56"/>
          <a:stretch/>
        </p:blipFill>
        <p:spPr>
          <a:xfrm>
            <a:off x="6838920" y="3286080"/>
            <a:ext cx="192240" cy="1396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57"/>
          <a:stretch/>
        </p:blipFill>
        <p:spPr>
          <a:xfrm>
            <a:off x="7761240" y="327024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58"/>
          <a:stretch/>
        </p:blipFill>
        <p:spPr>
          <a:xfrm>
            <a:off x="7761240" y="339552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9"/>
          <a:stretch/>
        </p:blipFill>
        <p:spPr>
          <a:xfrm>
            <a:off x="7763040" y="3538440"/>
            <a:ext cx="193680" cy="13824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60"/>
          <a:stretch/>
        </p:blipFill>
        <p:spPr>
          <a:xfrm>
            <a:off x="7056360" y="431784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61"/>
          <a:stretch/>
        </p:blipFill>
        <p:spPr>
          <a:xfrm>
            <a:off x="7056360" y="4465800"/>
            <a:ext cx="192240" cy="137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62"/>
          <a:stretch/>
        </p:blipFill>
        <p:spPr>
          <a:xfrm>
            <a:off x="7056360" y="4600440"/>
            <a:ext cx="192240" cy="1396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3"/>
          <a:stretch/>
        </p:blipFill>
        <p:spPr>
          <a:xfrm>
            <a:off x="7056360" y="4764240"/>
            <a:ext cx="192240" cy="1378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64"/>
          <a:stretch/>
        </p:blipFill>
        <p:spPr>
          <a:xfrm>
            <a:off x="1155600" y="5221440"/>
            <a:ext cx="209520" cy="2077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5"/>
          <a:stretch/>
        </p:blipFill>
        <p:spPr>
          <a:xfrm>
            <a:off x="1155600" y="537840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66"/>
          <a:stretch/>
        </p:blipFill>
        <p:spPr>
          <a:xfrm>
            <a:off x="1155600" y="564516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67"/>
          <a:stretch/>
        </p:blipFill>
        <p:spPr>
          <a:xfrm>
            <a:off x="2166840" y="551988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68"/>
          <a:stretch/>
        </p:blipFill>
        <p:spPr>
          <a:xfrm>
            <a:off x="2171880" y="585468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69"/>
          <a:stretch/>
        </p:blipFill>
        <p:spPr>
          <a:xfrm>
            <a:off x="3395520" y="5240160"/>
            <a:ext cx="211320" cy="20808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70"/>
          <a:stretch/>
        </p:blipFill>
        <p:spPr>
          <a:xfrm>
            <a:off x="3397320" y="557532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71"/>
          <a:stretch/>
        </p:blipFill>
        <p:spPr>
          <a:xfrm>
            <a:off x="3395520" y="573264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2"/>
          <a:stretch/>
        </p:blipFill>
        <p:spPr>
          <a:xfrm>
            <a:off x="3397320" y="5873760"/>
            <a:ext cx="210960" cy="2095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3"/>
          <a:stretch/>
        </p:blipFill>
        <p:spPr>
          <a:xfrm>
            <a:off x="3397320" y="6021360"/>
            <a:ext cx="210960" cy="20808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74"/>
          <a:stretch/>
        </p:blipFill>
        <p:spPr>
          <a:xfrm>
            <a:off x="4297320" y="554364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75"/>
          <a:stretch/>
        </p:blipFill>
        <p:spPr>
          <a:xfrm>
            <a:off x="5743440" y="5310360"/>
            <a:ext cx="211320" cy="2077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76"/>
          <a:stretch/>
        </p:blipFill>
        <p:spPr>
          <a:xfrm>
            <a:off x="5049720" y="5506920"/>
            <a:ext cx="192240" cy="1382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77"/>
          <a:stretch/>
        </p:blipFill>
        <p:spPr>
          <a:xfrm>
            <a:off x="5697360" y="5958000"/>
            <a:ext cx="193680" cy="1378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78"/>
          <a:stretch/>
        </p:blipFill>
        <p:spPr>
          <a:xfrm>
            <a:off x="7182000" y="5230800"/>
            <a:ext cx="209520" cy="2095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79"/>
          <a:stretch/>
        </p:blipFill>
        <p:spPr>
          <a:xfrm>
            <a:off x="7182000" y="553248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80"/>
          <a:stretch/>
        </p:blipFill>
        <p:spPr>
          <a:xfrm>
            <a:off x="7182000" y="5705640"/>
            <a:ext cx="209520" cy="2077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81"/>
          <a:stretch/>
        </p:blipFill>
        <p:spPr>
          <a:xfrm>
            <a:off x="8237520" y="5281560"/>
            <a:ext cx="209520" cy="20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82"/>
          <a:stretch/>
        </p:blipFill>
        <p:spPr>
          <a:xfrm>
            <a:off x="8238960" y="5753160"/>
            <a:ext cx="209880" cy="2080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83"/>
          <a:stretch/>
        </p:blipFill>
        <p:spPr>
          <a:xfrm>
            <a:off x="8238960" y="5915160"/>
            <a:ext cx="209880" cy="2077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84"/>
          <a:stretch/>
        </p:blipFill>
        <p:spPr>
          <a:xfrm>
            <a:off x="8232840" y="6073920"/>
            <a:ext cx="210960" cy="2077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85">
            <a:lum bright="-36000"/>
          </a:blip>
          <a:stretch/>
        </p:blipFill>
        <p:spPr>
          <a:xfrm>
            <a:off x="380880" y="228600"/>
            <a:ext cx="452304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86"/>
          <a:srcRect l="0" t="0" r="-17451" b="41527"/>
          <a:stretch/>
        </p:blipFill>
        <p:spPr>
          <a:xfrm>
            <a:off x="380880" y="6603840"/>
            <a:ext cx="677880" cy="18288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87">
            <a:lum bright="-100000"/>
          </a:blip>
          <a:stretch/>
        </p:blipFill>
        <p:spPr>
          <a:xfrm>
            <a:off x="7543800" y="6578640"/>
            <a:ext cx="1238400" cy="2030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3581280" y="5143680"/>
            <a:ext cx="0" cy="1265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89680" y="5151600"/>
            <a:ext cx="0" cy="1265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343640" y="5143680"/>
            <a:ext cx="0" cy="1265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0880" y="6022800"/>
            <a:ext cx="81000" cy="23832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6124680"/>
            <a:ext cx="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2280" y="6065640"/>
            <a:ext cx="8445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erializa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5520" y="6210720"/>
            <a:ext cx="83988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CompilerService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20920" y="4316400"/>
            <a:ext cx="1515960" cy="415800"/>
          </a:xfrm>
          <a:prstGeom prst="roundRect">
            <a:avLst>
              <a:gd name="adj" fmla="val 12597"/>
            </a:avLst>
          </a:prstGeom>
          <a:solidFill>
            <a:srgbClr val="969696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82560" y="4468680"/>
            <a:ext cx="100080" cy="1209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73400" y="4468680"/>
            <a:ext cx="100080" cy="12096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644480" y="4542120"/>
            <a:ext cx="53820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Recognition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63760" y="4378680"/>
            <a:ext cx="141444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Speech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41440" y="4542120"/>
            <a:ext cx="536760" cy="957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nthesis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2920" y="1533600"/>
            <a:ext cx="149040" cy="133200"/>
          </a:xfrm>
          <a:custGeom>
            <a:avLst/>
            <a:gdLst/>
            <a:ahLst/>
            <a:rect l="l" t="t" r="r" b="b"/>
            <a:pathLst>
              <a:path w="84" h="156">
                <a:moveTo>
                  <a:pt x="0" y="0"/>
                </a:moveTo>
                <a:lnTo>
                  <a:pt x="0" y="156"/>
                </a:lnTo>
                <a:lnTo>
                  <a:pt x="84" y="156"/>
                </a:lnTo>
              </a:path>
            </a:pathLst>
          </a:custGeom>
          <a:noFill/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9360" y="1585080"/>
            <a:ext cx="706320" cy="171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9000" tIns="9000" bIns="90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Franklin Gothic Medium"/>
              </a:rPr>
              <a:t>System.Windows.Input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832360" y="256680"/>
            <a:ext cx="1555920" cy="19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b601"/>
                </a:solidFill>
                <a:latin typeface="Tahoma"/>
              </a:rPr>
              <a:t>WinFx</a:t>
            </a:r>
            <a:endParaRPr b="0" lang="en-US" sz="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74C-C28C-46D7-A4D5-E1A358AAD0C1}" type="slidenum">
              <a:t>3</a:t>
            </a:fld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Summary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712960" y="1765080"/>
            <a:ext cx="4151520" cy="2737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Avalon Input</a:t>
            </a:r>
            <a:endParaRPr b="0" lang="en-US" sz="4000" spc="-1" strike="noStrike">
              <a:solidFill>
                <a:srgbClr val="ffffff"/>
              </a:solidFill>
              <a:latin typeface="Segoe Semibold"/>
            </a:endParaRPr>
          </a:p>
          <a:p>
            <a:pPr marL="609480" indent="-609480">
              <a:lnSpc>
                <a:spcPct val="85000"/>
              </a:lnSpc>
              <a:spcBef>
                <a:spcPts val="1500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Simple</a:t>
            </a:r>
            <a:endParaRPr b="0" lang="en-US" sz="4000" spc="-1" strike="noStrike">
              <a:solidFill>
                <a:srgbClr val="ffffff"/>
              </a:solidFill>
              <a:latin typeface="Segoe Semibold"/>
            </a:endParaRPr>
          </a:p>
          <a:p>
            <a:pPr marL="609480" indent="-609480">
              <a:lnSpc>
                <a:spcPct val="85000"/>
              </a:lnSpc>
              <a:spcBef>
                <a:spcPts val="1500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Consistent</a:t>
            </a:r>
            <a:endParaRPr b="0" lang="en-US" sz="4000" spc="-1" strike="noStrike">
              <a:solidFill>
                <a:srgbClr val="ffffff"/>
              </a:solidFill>
              <a:latin typeface="Segoe Semibold"/>
            </a:endParaRPr>
          </a:p>
          <a:p>
            <a:pPr marL="609480" indent="-609480">
              <a:lnSpc>
                <a:spcPct val="85000"/>
              </a:lnSpc>
              <a:spcBef>
                <a:spcPts val="1500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Extensible</a:t>
            </a:r>
            <a:endParaRPr b="0" lang="en-US" sz="4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81B3-D1CB-4E14-9FF4-2499329DCE14}" type="slidenum">
              <a:t>30</a:t>
            </a:fld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b601"/>
                </a:solidFill>
                <a:latin typeface="Segoe Semibold"/>
              </a:rPr>
              <a:t>Community Resources</a:t>
            </a:r>
            <a:br>
              <a:rPr sz="5400"/>
            </a:br>
            <a:r>
              <a:rPr b="0" lang="en-NZ" sz="4000" spc="-1" strike="noStrike">
                <a:solidFill>
                  <a:srgbClr val="f7e993"/>
                </a:solidFill>
                <a:latin typeface="Segoe Semibold"/>
              </a:rPr>
              <a:t>Get Your Questions Answered!</a:t>
            </a:r>
            <a:endParaRPr b="0" lang="en-US" sz="40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520" y="1763280"/>
            <a:ext cx="8388360" cy="4971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Client Lounge: middle of the Exhibit Hall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Connect with Microsoft client product teams, and PDC 2003 Speakers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sk The Expert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Tuesday 7pm – 9pm in Hall G, H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Newsgroups: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Microsoft.public.windows.developer.winfx.avalon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DC Weblog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880dc"/>
                </a:solidFill>
                <a:uFillTx/>
                <a:latin typeface="Segoe Semibold"/>
                <a:hlinkClick r:id="rId10"/>
              </a:rPr>
              <a:t>http://pdcbloggers.net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Longhorn DevCenter: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880dc"/>
                </a:solidFill>
                <a:uFillTx/>
                <a:latin typeface="Segoe Semibold"/>
                <a:hlinkClick r:id="rId13"/>
              </a:rPr>
              <a:t>http://</a:t>
            </a:r>
            <a:r>
              <a:rPr b="0" lang="en-US" sz="2400" spc="-1" strike="noStrike" u="sng">
                <a:solidFill>
                  <a:srgbClr val="4880dc"/>
                </a:solidFill>
                <a:uFillTx/>
                <a:latin typeface="Segoe Semibold"/>
                <a:hlinkClick r:id="rId14"/>
              </a:rPr>
              <a:t>msdn.microsoft.com</a:t>
            </a:r>
            <a:r>
              <a:rPr b="0" lang="en-US" sz="2400" spc="-1" strike="noStrike" u="sng">
                <a:solidFill>
                  <a:srgbClr val="4880dc"/>
                </a:solidFill>
                <a:uFillTx/>
                <a:latin typeface="Segoe Semibold"/>
                <a:hlinkClick r:id="rId15"/>
              </a:rPr>
              <a:t>/longhorn</a:t>
            </a:r>
            <a:r>
              <a:rPr b="0" lang="en-US" sz="2400" spc="-1" strike="noStrike">
                <a:solidFill>
                  <a:srgbClr val="ffffff"/>
                </a:solidFill>
                <a:latin typeface="Segoe Semi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049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Now!  Questions?  Comments?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8734-E900-44DF-A192-B4281F251054}" type="slidenum">
              <a:t>31</a:t>
            </a:fld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80880" y="621972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egoe Semibold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Segoe Semibold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2">
            <a:lum bright="32000"/>
          </a:blip>
          <a:stretch/>
        </p:blipFill>
        <p:spPr>
          <a:xfrm>
            <a:off x="2682720" y="3143160"/>
            <a:ext cx="3727440" cy="61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87C1-0337-4E95-97B3-81C81FCDC004}" type="slidenum">
              <a:t>32</a:t>
            </a:fld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466200"/>
            <a:ext cx="876312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No Longer Just a Desktop World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61440" y="1562040"/>
            <a:ext cx="8388360" cy="4544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Keyboard, Mouse not enough anymor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Innovation is accelerating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orm Factor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Input Devic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Natural Language Technologi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International requirements are gre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sian markets are fastest growing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World markets continuing to globaliz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2" marL="117792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86C4-E088-4156-8602-B1B15DDC00DA}" type="slidenum">
              <a:t>4</a:t>
            </a:fld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New Forms, Devices, Scenario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92" name=""/>
          <p:cNvSpPr/>
          <p:nvPr/>
        </p:nvSpPr>
        <p:spPr>
          <a:xfrm>
            <a:off x="434880" y="571644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Media Center P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31040" y="1346040"/>
            <a:ext cx="77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Tablet P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38800" y="5124600"/>
            <a:ext cx="91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Smart Pho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550480" y="6537240"/>
            <a:ext cx="97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Smart Display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179560" y="2768760"/>
            <a:ext cx="74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Pocket P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4768920" y="4041720"/>
            <a:ext cx="3805200" cy="25542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1500120" y="905040"/>
            <a:ext cx="4797360" cy="350496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 rot="20946600">
            <a:off x="2004840" y="4330440"/>
            <a:ext cx="1706760" cy="21682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5"/>
          <a:srcRect l="70612" t="11390" r="0" b="49134"/>
          <a:stretch/>
        </p:blipFill>
        <p:spPr>
          <a:xfrm>
            <a:off x="6113520" y="1001880"/>
            <a:ext cx="2452680" cy="32954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 rot="21297600">
            <a:off x="243000" y="1701360"/>
            <a:ext cx="1225440" cy="404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A14C-22C5-4457-9F96-9C32E7959FC0}" type="slidenum">
              <a:t>5</a:t>
            </a:fld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6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601"/>
                </a:solidFill>
                <a:latin typeface="Segoe Semibold"/>
              </a:rPr>
              <a:t>New Input Methods</a:t>
            </a:r>
            <a:endParaRPr b="0" lang="en-US" sz="4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33000" y="1119240"/>
            <a:ext cx="8388360" cy="5940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ablet and Ink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Shipping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Segoe Semibold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 generation of Tablet technologies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peech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Built-in dictation and commanding support.  Managed Speech API for extensibility and customizatio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Keyboard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A suite of keyboard services exploiting new input framework  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75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New input devices 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75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Including new navigation hardware, mice, keyboards, microphones, etc.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A49D-CDDF-4EA0-A7BA-2B624178F68B}" type="slidenum">
              <a:t>6</a:t>
            </a:fld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1415520" y="2660760"/>
            <a:ext cx="6504120" cy="21661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Segoe Semibold"/>
              </a:rPr>
              <a:t>Last ten years have seen a great deal of input innovation on Windows but…</a:t>
            </a:r>
            <a:endParaRPr b="0" lang="en-US" sz="40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249C-DC1C-4080-AD9B-FBA82D165C53}" type="slidenum">
              <a:t>7</a:t>
            </a:fld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172200" y="1073160"/>
            <a:ext cx="152388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M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981080" y="1073160"/>
            <a:ext cx="152424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Key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9120" y="9208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81080" y="1911240"/>
            <a:ext cx="160020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WinN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696080" y="1835280"/>
            <a:ext cx="129564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PenW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5600" y="183528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3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05320" y="1682640"/>
            <a:ext cx="380880" cy="3477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1911240"/>
            <a:ext cx="380880" cy="3477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57400" y="2521080"/>
            <a:ext cx="137160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IMM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2521080"/>
            <a:ext cx="129528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S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57400" y="3816360"/>
            <a:ext cx="129528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AI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5187960"/>
            <a:ext cx="137160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TS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5187960"/>
            <a:ext cx="144792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SAPI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33720" y="5950080"/>
            <a:ext cx="114300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CU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620120" y="5873760"/>
            <a:ext cx="1371600" cy="457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Ink SD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4880" y="267336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4880" y="3740040"/>
            <a:ext cx="12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4880" y="43498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2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3280" y="503568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0920" y="572148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29000" y="3206880"/>
            <a:ext cx="114300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MSA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743200" y="153036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743200" y="2292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43200" y="297828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419724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43200" y="5568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05920" y="229248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05920" y="55688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297828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36640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048120" y="4502160"/>
            <a:ext cx="1981080" cy="3808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Single bin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34320" y="153036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67280" y="3968640"/>
            <a:ext cx="2057400" cy="381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b601"/>
                </a:solidFill>
                <a:latin typeface="Verdana"/>
              </a:rPr>
              <a:t>mouse whe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19920" y="1073160"/>
            <a:ext cx="190476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107316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52480" y="1838160"/>
            <a:ext cx="1905120" cy="609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N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1835280"/>
            <a:ext cx="1905120" cy="53316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W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429000" y="1530360"/>
            <a:ext cx="533520" cy="485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86200" y="1835280"/>
            <a:ext cx="533520" cy="485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581280" y="2292480"/>
            <a:ext cx="533520" cy="4842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252108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M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43400" y="252108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05520" y="3206880"/>
            <a:ext cx="297180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dow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75280" y="233208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48120" y="3206880"/>
            <a:ext cx="190476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S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828800" y="381636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638680" y="3968640"/>
            <a:ext cx="2667240" cy="609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use wh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4502160"/>
            <a:ext cx="274320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gle bin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752480" y="518796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S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343400" y="518796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PI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086600" y="514044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752480" y="595008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5873760"/>
            <a:ext cx="1905120" cy="609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k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371520"/>
            <a:ext cx="7004160" cy="40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b601"/>
                </a:solidFill>
                <a:latin typeface="Segoe Semibold"/>
              </a:rPr>
              <a:t>Windows Input API History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A229-153F-4403-B0F5-0C6B58B3CBC7}" type="slidenum">
              <a:t>8</a:t>
            </a:fld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83680" y="506520"/>
            <a:ext cx="8393400" cy="71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Our Goals for Avalon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80520" y="1595520"/>
            <a:ext cx="8388360" cy="5380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Promote Integration and Ease of Us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Key functionality automatically enabled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Fewer scenarios requiring device-specific code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Promote Consistency Across Devices and Languages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mote rich devices, innovation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lvl="1" marL="803160" indent="-353880">
              <a:lnSpc>
                <a:spcPct val="85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Semibold"/>
              </a:rPr>
              <a:t>Provide unprecedented language support</a:t>
            </a:r>
            <a:endParaRPr b="0" lang="en-US" sz="28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-44784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Give developers (you) flexibility by making it extensible, pluggable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marL="44784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5F1A-BFFC-495B-B8DD-EFBC37A4C692}" type="slidenum">
              <a:t>9</a:t>
            </a:fld>
          </a:p>
        </p:txBody>
      </p:sp>
    </p:spTree>
  </p:cSld>
  <p:transition>
    <p:strips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9:21:33Z</dcterms:created>
  <dc:creator>Pablo Fernicola</dc:creator>
  <dc:description/>
  <dc:language>en-US</dc:language>
  <cp:lastModifiedBy>Administrator</cp:lastModifiedBy>
  <dcterms:modified xsi:type="dcterms:W3CDTF">2003-10-26T18:02:13Z</dcterms:modified>
  <cp:revision>644</cp:revision>
  <dc:subject/>
  <dc:title>Windows Longhorn Presentation and Media</dc:title>
</cp:coreProperties>
</file>