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0483-0478-4DA4-950E-DBFA69B6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5D3-A92F-4549-AFBB-EF9BDDA3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4D8-B292-466D-896F-0B265D84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5C3-80AE-4C32-B94E-653352A0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D79-0D23-4CF7-BCD8-3D9FFDF2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D0D-220E-43B9-9A74-C56821D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C81-D667-4613-9C78-10538D2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64B-B251-4FFD-B77E-75F01B6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922-7796-4D16-B5AF-122FD65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F02-67E0-4CF1-91B7-B3D60F07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1A0B-519F-4ED0-BB3D-996BC32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7E8-830F-4C72-99F3-EF2DFAB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6C3B-C6CC-498F-8BCC-F166FA98BF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18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 Black"/>
              </a:rPr>
              <a:t>Voice CC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33720" y="2057400"/>
            <a:ext cx="457200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Begriffsklä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pracherken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in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su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prachsyn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ame-Command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speech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0120" y="22860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612-CA58-406F-91D6-DB80138DEB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1905120"/>
            <a:ext cx="739152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rfreiheit der Klassifikation steigt mit der Anzahl der Merk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lassifikationsaufwand steigt mit der Anzahl der Merk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Z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glichst wenige, möglichst gute Merkm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ös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durch Bewer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e Untermenge an Merkmalen ist die mit der geringsten Fehlerwahrscheinlichkeit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rk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09B-7871-484C-B482-B0C86D007B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chätzung 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en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209680"/>
            <a:ext cx="19051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90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tich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209680"/>
            <a:ext cx="190476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Vorverarb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Aufnah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168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1520" y="300024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Arbeits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Lern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6CD-CACC-49F8-B111-80654DF8F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90512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Begriffsklä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der Klassifikation muss eine eindeutige Entscheidung getroffen werden, welchem Symbol (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.B. Wort, Befehl)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Folge von Merkmalen zugeordnet werden so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ehrere Verfahr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ächster Nach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dden-Markov-Mod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uronale 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Z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rminimierung (Bayes Klassifika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fwandsminimierung (Zeit, Speicher, Train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277-04ED-487B-94AB-3B1C43C27B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05120"/>
            <a:ext cx="6095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ächster Nachb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kter Vergleich mit den Stichpr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 bis 7 nächste Nachbarn werden betrach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für 5: zwei Nachbarn „e“, drei Nachbarn „ä“ </a:t>
            </a:r>
            <a:r>
              <a:rPr b="0" lang="de-DE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ordnung zu „ä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BDD-7817-4E5A-9F0D-6A71DC0B3C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905120"/>
            <a:ext cx="7772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idden-Markov-Mod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icht alle Merkmale sind gleich wichtig (wenn wichtiges Merkmal fehlt, wird das Wort trotz hoher Übereinstimmung nicht zugeordne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echnung der Wahrscheinlichkeit, dass eine bestimmte Folge von Merkmalen durch ein bestimmtes Wort erzeugt wu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s Wort mit der größten Wahrscheinlichkeit gilt als erkan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nn ganze Sätze erkannt werden sollen, kann das Verfahren der Hidden-Markov-Modelle auf mehreren Ebenen angewendet werden (syntaktische bzw. semantische Einhei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56E-E1B5-4A92-BB39-B0AA27D973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905120"/>
            <a:ext cx="7772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euronale N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i Spracherkennung meist mehrstuf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 korrekten Gewichte eines neuronalen Netzes sind in der Regel nicht von vornherein bekannt. Sie müssen in einer rechenintensiven Trainingsphase bestimm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14600" y="2708280"/>
          <a:ext cx="3886200" cy="233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2708280"/>
                    <a:ext cx="388620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6BD-B28C-4F32-93BD-EB9BBB0BD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1905120"/>
            <a:ext cx="77724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rainingsphase: Supervised Le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put und Output sind bei Stichproben bekan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 Gewichte werden zunächst Zufallszahlen eingesetz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nn wird mit diesen Gewichten für irgendeine Eingabe der Output berech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eser Output wird mit dem gewünschten Output vergl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nn keine Übereinstimmung besteht, werden die Gewichte nach einer Korrekturformel verbess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e verbesserten Gewichte werden mit einer neuen Eingabe getest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ch einem ausreichenden Training arbeitet das Netz (im Idealfall) nicht nur für den Trainingsdatensatz, sondern für alle Eingaben korrekt </a:t>
            </a: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eneralisier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3C2-AE29-4CF0-95C0-22E383ECF1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1905120"/>
            <a:ext cx="777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obleme bei der Klassif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tgrenzen müssen erkannt wer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z.B.: "It was a grey day - It was a grade 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oartikulationseffekte: Die Aussprache des Wortendes wird jeweils durch den Anfang des folgenden Wortes beeinflus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9880" indent="-3794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ut of Vocabulary: Ein in den Stichproben nicht enthaltenes Wort kann nicht überprüft werden (nur Aneinanderreihung von Phonem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lassifik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818-B8E9-4262-9D50-E9B721A78E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syn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1905120"/>
            <a:ext cx="7391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xt in Wörter zerl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sprache der Wörter ermitt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yse der sprachlichen Struktur zur Erstellung der Sprechmelodie, des Sprechrhythmus und der Pau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Resultate der Textanalyse werden in symbolischer Form in den eigentlichen Sprachsynthetisator eingegeben und dort in Sprach-schall umgesetz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Dazu gibt es mehrere Verfahr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rmant- oder Regelsynthe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katenationssynthe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rtikulatorische Syn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2EC-C83C-4DB9-A00B-B007806110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syn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Formant/Regelsyn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1905120"/>
            <a:ext cx="739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"einfache" Wellenform wird durch entsprechende Filterung in Sprachsignale umgewande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 Parameter lassen sich Intonation und Lautdauer leicht steuern </a:t>
            </a:r>
            <a:r>
              <a:rPr b="0" lang="de-DE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ariationsreiche Sprache, gute Übergä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 dieser Systeme ist die mangelnde Natürlichkeit der Sti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In einigen kommerziellen Systemen verwend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6CF-8F56-46B5-B18E-9A45B4EDEC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457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Begriffsklä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905120"/>
            <a:ext cx="693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Voice Command-Control-C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Command/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uerung des Computers durch Spr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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Spracherken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C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ung des Computers zur Kommunikation zwischen zwei (entfernten) Partnern. Zur Kommunikation zwischen Computer und Mensch ist Erzeugung von Sprache z.B. aus Text nö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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Sprachsynth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228600"/>
            <a:ext cx="1371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139-EFD8-4318-B8A8-A875BDDEC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syn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Konkatenationssyn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905120"/>
            <a:ext cx="7391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liche Äußerungen werden aufgenommen, Teile daraus ausgeschnitten und wieder zu neuen Äußerungen zusammengesetz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Größe dieser Teile reicht von ganzen Wörtern und Phrasen bis zu Einheiten, die kleiner als Laute sind. Mit diesen kleinen Einheiten kann man Text vorlesen la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 dieser Systeme ist der mangelnde Einfluss auf Sprechmelodie und Tonhö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In vielen kommerziellen Systemen verwend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68E-87AA-4EA7-BFBA-57C9BDA4F5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synth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Artikulatorische Synth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905120"/>
            <a:ext cx="7391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wegungen der "Sprechorgane" beim Sprechen werden modellhaft nachgebil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erend auf der Positionierung der "Sprechorgane" werden die Resonanzeigenschaften im Rachen-, Mund- und Nasenraum berech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hr rechenintens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nur zu Forschungszwecken verwe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C03-5C87-4F9C-B692-349388E43B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Pr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Game Command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1905120"/>
            <a:ext cx="7772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inz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racherkennung und Verknüpfung der erkannten Befehle mit Shortc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Praxistest mit A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ute Erkennung der Befehle durch Training (Vorsprech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il-Version leider eingeschränkt (max. 5 einfache Befeh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 einfachen Befehlen ist man mit dem Shortcut schn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usblic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n könnte mit einen Shortcut seiner KI Befehle geb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„Nahrung auf Gold“</a:t>
            </a:r>
            <a:r>
              <a:rPr b="0" lang="de-DE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mstellung der Ressourcensamm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mee auf Ritter“</a:t>
            </a:r>
            <a:r>
              <a:rPr b="0" lang="de-DE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mstellung des Kämpfernachsch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KI übernimmt Micro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1E9-CB25-4576-8C28-9FBA9B4D5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Prax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Web Speech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905120"/>
            <a:ext cx="739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st Webseiten 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utzt Konkatenationssynthe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Sprecher (und Dialekte) wäh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logox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FDB-0387-42E4-B8FC-88A6E6703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Quel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1905120"/>
            <a:ext cx="739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kript Mustererkennung I, H. Nie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ische Spracherkennung in Räumen, Hir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rterkennung in einem Dialogsystem für kontinuierlich gesprochene Sprache, S. Kunz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google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logox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inf.fu-berlin.de/lehre/WS98/SprachS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387-E550-4340-803E-4E54DB8187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478476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Command/Contro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sere Erkennung, da meist nur wenig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ehle zur Steuerung nötig s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geringer Wortsch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286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7162920" cy="287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2F0-EA64-4508-B07C-379C23533A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chätzung 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en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tich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2209680"/>
            <a:ext cx="190476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Vorverarb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Aufnah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678168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1520" y="300024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Arbeits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Lern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4572000"/>
            <a:ext cx="655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Aufnahme: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gitalisierung (OTRS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Vorverarbeitung: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auf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Merkmale: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zerl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Klassifikation:</a:t>
            </a: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ordnung Signal </a:t>
            </a:r>
            <a:r>
              <a:rPr b="0" lang="de-DE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2DF-A402-44B6-ADAB-DB5DAFC174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Vorverarb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chätzung 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en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tich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209680"/>
            <a:ext cx="190476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Vorverarb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Aufnah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78168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51520" y="300024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Arbeits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Lern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867-CF72-443A-919C-7F3CDF8654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1905120"/>
            <a:ext cx="7391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it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ist verunreinigt (Hintergrundgeräus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entspricht nicht der Norm der Stichproben (Lautstärke, Dau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enthält unnötige Information (Geschlec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Z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ehlerreduk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reduzierung durch anwendungsspezifische Aufbereitung des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tauration des ‚idealen Musters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Vereinfachung und Beschleunigung der Weiterverarb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Vorverarb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69D4-84C8-4DCE-A03E-05A6AA5762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1905120"/>
            <a:ext cx="739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Schwellwertop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ergrundgeräusche werden herausgefilt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Lineare Filte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örungen bei Entstehung, Aufnahme, Übertragung, Speicherung werden reduz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chtiges wird hervorgeho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tel: Faltung, DFT, Hoch- &amp; Tiefpass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Homomorphe Filte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formation von nicht-additiver auf additive Stö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fernen der additiven Stö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ück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Vorverarb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D99-8016-4CFB-8D76-75E2E24BC4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05120"/>
            <a:ext cx="7391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Black"/>
              </a:rPr>
              <a:t>Normieru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 unterscheidet sich von der Stichprobe noch in Geschwindigkeit, Klang (Mann/Frau), Energie (Lautstär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windigkeit: Durch Dynamic Time Warping wird die Länge eine Wortes normiert. Da Wortteile in der Dauer unterschiedlich variieren können (z.B. Dauer von p oder t meist gleich, von a oder s unterschiedlich) müssen sie einzeln gedehnt bzw. gestauch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passung der Energie wird durch normieren der Momente bis zur 2. Ordnung erre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Wingdings 3"/>
                <a:ea typeface="Wingdings 3"/>
              </a:rPr>
              <a:t>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de-DE" sz="2000" spc="-1" strike="noStrike">
                <a:solidFill>
                  <a:srgbClr val="3333cc"/>
                </a:solidFill>
                <a:latin typeface="Arial Black"/>
              </a:rPr>
              <a:t>Signal ist jetzt vergleich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Vorverarbei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A16-24FC-4DB0-8EB1-1337C34F28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 Black"/>
              </a:rPr>
              <a:t>Spracherkenn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28600"/>
            <a:ext cx="1371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 Black"/>
              </a:rPr>
              <a:t>Merk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chätzung 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enbere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209680"/>
            <a:ext cx="190512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Merk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Klass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657600"/>
            <a:ext cx="190476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Stich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209680"/>
            <a:ext cx="190476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Vorverarbei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209680"/>
            <a:ext cx="190512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Black"/>
              </a:rPr>
              <a:t>Aufnah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7672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962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781680" y="281916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51520" y="3000240"/>
            <a:ext cx="151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Arbeits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 Black"/>
              </a:rPr>
              <a:t>Lern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ECA-C4E2-4D1A-9256-D571EED858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08:42:29Z</dcterms:created>
  <dc:creator>Tyler</dc:creator>
  <dc:description/>
  <dc:language>en-US</dc:language>
  <cp:lastModifiedBy>MATOUŠEK Václav</cp:lastModifiedBy>
  <dcterms:modified xsi:type="dcterms:W3CDTF">2003-06-16T20:17:56Z</dcterms:modified>
  <cp:revision>89</cp:revision>
  <dc:subject/>
  <dc:title>PowerPoint-Präsentation</dc:title>
</cp:coreProperties>
</file>