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59480"/>
            <a:ext cx="820728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5560" y="1197000"/>
            <a:ext cx="82184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5560" y="3754440"/>
            <a:ext cx="82184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59480"/>
            <a:ext cx="820728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5560" y="1197000"/>
            <a:ext cx="4010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96840" y="1197000"/>
            <a:ext cx="4010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85560" y="3754440"/>
            <a:ext cx="4010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96840" y="3754440"/>
            <a:ext cx="4010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59480"/>
            <a:ext cx="820728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5560" y="1197000"/>
            <a:ext cx="2646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164400" y="1197000"/>
            <a:ext cx="2646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2880" y="1197000"/>
            <a:ext cx="2646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385560" y="3754440"/>
            <a:ext cx="2646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164400" y="3754440"/>
            <a:ext cx="2646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2880" y="3754440"/>
            <a:ext cx="2646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976570-9746-43E8-9EAD-19C546303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59480"/>
            <a:ext cx="820728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385560" y="1197000"/>
            <a:ext cx="821844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3099E3-A3EB-40C5-9E9B-8903A660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59480"/>
            <a:ext cx="820728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5560" y="1197000"/>
            <a:ext cx="8218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1E474B-34AA-4714-9332-F660C166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59480"/>
            <a:ext cx="820728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5560" y="1197000"/>
            <a:ext cx="4010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96840" y="1197000"/>
            <a:ext cx="4010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D7CC7-B1CB-4643-B3AD-8FFF3BE7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59480"/>
            <a:ext cx="820728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992F00-F4EA-4DE4-B5A2-249C0C83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68360" y="189000"/>
            <a:ext cx="820728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F5FF73-E4DA-410D-979A-62C17556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59480"/>
            <a:ext cx="820728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5560" y="1197000"/>
            <a:ext cx="4010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96840" y="1197000"/>
            <a:ext cx="4010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85560" y="3754440"/>
            <a:ext cx="4010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763458-F7AB-44A0-B10D-6C0D0C4E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159480"/>
            <a:ext cx="820728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385560" y="1197000"/>
            <a:ext cx="821844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59480"/>
            <a:ext cx="820728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5560" y="1197000"/>
            <a:ext cx="4010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96840" y="1197000"/>
            <a:ext cx="4010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96840" y="3754440"/>
            <a:ext cx="4010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218011-4E34-4043-8667-0E1B23D1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59480"/>
            <a:ext cx="820728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5560" y="1197000"/>
            <a:ext cx="4010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96840" y="1197000"/>
            <a:ext cx="4010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85560" y="3754440"/>
            <a:ext cx="82184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12A500-117E-40F3-A26D-308A8044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59480"/>
            <a:ext cx="820728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5560" y="1197000"/>
            <a:ext cx="82184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5560" y="3754440"/>
            <a:ext cx="82184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24459C-E22A-4D18-AA42-DD9B3EAD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59480"/>
            <a:ext cx="820728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5560" y="1197000"/>
            <a:ext cx="4010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96840" y="1197000"/>
            <a:ext cx="4010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5560" y="3754440"/>
            <a:ext cx="4010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96840" y="3754440"/>
            <a:ext cx="4010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27B488-643D-4B24-9E8E-86E9979F4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59480"/>
            <a:ext cx="820728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5560" y="1197000"/>
            <a:ext cx="2646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164400" y="1197000"/>
            <a:ext cx="2646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2880" y="1197000"/>
            <a:ext cx="2646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385560" y="3754440"/>
            <a:ext cx="2646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164400" y="3754440"/>
            <a:ext cx="2646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2880" y="3754440"/>
            <a:ext cx="26460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2DD13-F95E-4725-A8F4-904CE8C60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59480"/>
            <a:ext cx="820728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5560" y="1197000"/>
            <a:ext cx="8218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159480"/>
            <a:ext cx="820728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5560" y="1197000"/>
            <a:ext cx="4010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6840" y="1197000"/>
            <a:ext cx="4010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59480"/>
            <a:ext cx="820728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68360" y="189000"/>
            <a:ext cx="820728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59480"/>
            <a:ext cx="820728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5560" y="1197000"/>
            <a:ext cx="4010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6840" y="1197000"/>
            <a:ext cx="4010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5560" y="3754440"/>
            <a:ext cx="4010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59480"/>
            <a:ext cx="820728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5560" y="1197000"/>
            <a:ext cx="4010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6840" y="1197000"/>
            <a:ext cx="4010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96840" y="3754440"/>
            <a:ext cx="4010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59480"/>
            <a:ext cx="820728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5560" y="1197000"/>
            <a:ext cx="4010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96840" y="1197000"/>
            <a:ext cx="4010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5560" y="3754440"/>
            <a:ext cx="82184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538920" y="6597720"/>
            <a:ext cx="5472360" cy="81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cc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338280" y="6576480"/>
            <a:ext cx="244764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28520"/>
            <a:ext cx="9144000" cy="520560"/>
            <a:chOff x="0" y="128520"/>
            <a:chExt cx="9144000" cy="520560"/>
          </a:xfrm>
        </p:grpSpPr>
        <p:sp>
          <p:nvSpPr>
            <p:cNvPr id="3" name=""/>
            <p:cNvSpPr/>
            <p:nvPr/>
          </p:nvSpPr>
          <p:spPr>
            <a:xfrm>
              <a:off x="0" y="128520"/>
              <a:ext cx="285840" cy="507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257040"/>
              <a:ext cx="8731080" cy="262080"/>
            </a:xfrm>
            <a:prstGeom prst="rect">
              <a:avLst/>
            </a:prstGeom>
            <a:gradFill rotWithShape="0">
              <a:gsLst>
                <a:gs pos="0">
                  <a:srgbClr val="f3f3ff"/>
                </a:gs>
                <a:gs pos="100000">
                  <a:srgbClr val="3232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257040"/>
              <a:ext cx="137880" cy="1350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128520"/>
              <a:ext cx="139680" cy="1317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257040"/>
              <a:ext cx="139680" cy="135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390240"/>
              <a:ext cx="136440" cy="1317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258480"/>
              <a:ext cx="141120" cy="1317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387360"/>
              <a:ext cx="137880" cy="1317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519120"/>
              <a:ext cx="136440" cy="1299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385560" y="1197000"/>
            <a:ext cx="8218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37"/>
              </a:spcBef>
              <a:buClr>
                <a:srgbClr val="ffae5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437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437"/>
              </a:spcBef>
              <a:buClr>
                <a:srgbClr val="ffae5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437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437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4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43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" name="" descr=""/>
          <p:cNvPicPr/>
          <p:nvPr/>
        </p:nvPicPr>
        <p:blipFill>
          <a:blip r:embed="rId2"/>
          <a:stretch/>
        </p:blipFill>
        <p:spPr>
          <a:xfrm>
            <a:off x="8317080" y="6489720"/>
            <a:ext cx="647640" cy="25236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>
            <a:off x="6472080" y="6491160"/>
            <a:ext cx="2843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Verdana"/>
              </a:rPr>
              <a:t>Um</a:t>
            </a:r>
            <a:r>
              <a:rPr b="0" lang="cs-CZ" sz="1100" spc="-1" strike="noStrike">
                <a:solidFill>
                  <a:srgbClr val="5f5f5f"/>
                </a:solidFill>
                <a:latin typeface="Verdana"/>
              </a:rPr>
              <a:t>ělá inteligence I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250920" y="6638760"/>
            <a:ext cx="792000" cy="217800"/>
          </a:xfrm>
          <a:prstGeom prst="rect">
            <a:avLst/>
          </a:prstGeom>
          <a:gradFill rotWithShape="0">
            <a:gsLst>
              <a:gs pos="0">
                <a:srgbClr val="fee4cb"/>
              </a:gs>
              <a:gs pos="100000">
                <a:srgbClr val="ffd9b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177840" y="6643800"/>
            <a:ext cx="936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41C8-474D-47BB-A7E9-13BE10520B99}" type="slidenum">
              <a:rPr b="1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6108840" y="6597720"/>
            <a:ext cx="71280" cy="71280"/>
          </a:xfrm>
          <a:prstGeom prst="rect">
            <a:avLst/>
          </a:prstGeom>
          <a:solidFill>
            <a:srgbClr val="ffd1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6253200" y="6597720"/>
            <a:ext cx="71280" cy="71280"/>
          </a:xfrm>
          <a:prstGeom prst="rect">
            <a:avLst/>
          </a:prstGeom>
          <a:solidFill>
            <a:srgbClr val="ffd1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6396120" y="6597720"/>
            <a:ext cx="71280" cy="71280"/>
          </a:xfrm>
          <a:prstGeom prst="rect">
            <a:avLst/>
          </a:prstGeom>
          <a:solidFill>
            <a:srgbClr val="ffd1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C0E1-7ACC-421C-90AD-2017B53E30B3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45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ae5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loebner.net/Prizef/loebner-prize.html" TargetMode="External"/><Relationship Id="rId2" Type="http://schemas.openxmlformats.org/officeDocument/2006/relationships/hyperlink" Target="http://www.loebner.net/Prizef/loebner-prize.html" TargetMode="External"/><Relationship Id="rId3" Type="http://schemas.openxmlformats.org/officeDocument/2006/relationships/hyperlink" Target="http://www.loebner.net/Prizef/loebner-prize.html" TargetMode="External"/><Relationship Id="rId4" Type="http://schemas.openxmlformats.org/officeDocument/2006/relationships/hyperlink" Target="http://www.loebner.net/Prizef/loebner-prize.html" TargetMode="External"/><Relationship Id="rId5" Type="http://schemas.openxmlformats.org/officeDocument/2006/relationships/hyperlink" Target="http://www.loebner.net/Prizef/loebner-prize.html" TargetMode="External"/><Relationship Id="rId6" Type="http://schemas.openxmlformats.org/officeDocument/2006/relationships/hyperlink" Target="http://www.loebner.net/Prizef/loebner-prize.html" TargetMode="External"/><Relationship Id="rId7" Type="http://schemas.openxmlformats.org/officeDocument/2006/relationships/hyperlink" Target="http://www.loebner.net/Prizef/loebner-prize.html" TargetMode="External"/><Relationship Id="rId8" Type="http://schemas.openxmlformats.org/officeDocument/2006/relationships/hyperlink" Target="http://www.loebner.net/Prizef/loebner-prize.html" TargetMode="External"/><Relationship Id="rId9" Type="http://schemas.openxmlformats.org/officeDocument/2006/relationships/hyperlink" Target="http://www.loebner.net/Prizef/loebner-prize.html" TargetMode="External"/><Relationship Id="rId10" Type="http://schemas.openxmlformats.org/officeDocument/2006/relationships/hyperlink" Target="http://www.loebner.net/Prizef/loebner-prize.html" TargetMode="External"/><Relationship Id="rId11" Type="http://schemas.openxmlformats.org/officeDocument/2006/relationships/hyperlink" Target="http://www.loebner.net/Prizef/loebner-prize.html" TargetMode="External"/><Relationship Id="rId12" Type="http://schemas.openxmlformats.org/officeDocument/2006/relationships/hyperlink" Target="http://www.loebner.net/Prizef/loebner-prize.html" TargetMode="External"/><Relationship Id="rId13" Type="http://schemas.openxmlformats.org/officeDocument/2006/relationships/hyperlink" Target="http://www.abenteuermedien.de/jabberwock/" TargetMode="External"/><Relationship Id="rId14" Type="http://schemas.openxmlformats.org/officeDocument/2006/relationships/hyperlink" Target="http://www.abenteuermedien.de/jabberwock/" TargetMode="External"/><Relationship Id="rId15" Type="http://schemas.openxmlformats.org/officeDocument/2006/relationships/hyperlink" Target="http://www.abenteuermedien.de/jabberwock/" TargetMode="External"/><Relationship Id="rId1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rur.com/perlcode/doctor" TargetMode="External"/><Relationship Id="rId2" Type="http://schemas.openxmlformats.org/officeDocument/2006/relationships/hyperlink" Target="http://www.rur.com/perlcode/doctor" TargetMode="External"/><Relationship Id="rId3" Type="http://schemas.openxmlformats.org/officeDocument/2006/relationships/hyperlink" Target="http://www.rur.com/perlcode/doctor" TargetMode="External"/><Relationship Id="rId4" Type="http://schemas.openxmlformats.org/officeDocument/2006/relationships/hyperlink" Target="http://www.rur.com/perlcode/doctor" TargetMode="External"/><Relationship Id="rId5" Type="http://schemas.openxmlformats.org/officeDocument/2006/relationships/hyperlink" Target="http://www.rur.com/perlcode/doctor" TargetMode="External"/><Relationship Id="rId6" Type="http://schemas.openxmlformats.org/officeDocument/2006/relationships/hyperlink" Target="http://www.rur.com/perlcode/doctor" TargetMode="External"/><Relationship Id="rId7" Type="http://schemas.openxmlformats.org/officeDocument/2006/relationships/hyperlink" Target="http://www.rur.com/perlcode/doctor" TargetMode="External"/><Relationship Id="rId8" Type="http://schemas.openxmlformats.org/officeDocument/2006/relationships/hyperlink" Target="http://www.rur.com/perlcode/doctor" TargetMode="External"/><Relationship Id="rId9" Type="http://schemas.openxmlformats.org/officeDocument/2006/relationships/hyperlink" Target="http://www.alicebot.org/" TargetMode="External"/><Relationship Id="rId10" Type="http://schemas.openxmlformats.org/officeDocument/2006/relationships/hyperlink" Target="http://www.alicebot.org/" TargetMode="External"/><Relationship Id="rId11" Type="http://schemas.openxmlformats.org/officeDocument/2006/relationships/hyperlink" Target="http://www.alicebot.org/" TargetMode="External"/><Relationship Id="rId12" Type="http://schemas.openxmlformats.org/officeDocument/2006/relationships/hyperlink" Target="http://www.alicebot.org/" TargetMode="External"/><Relationship Id="rId13" Type="http://schemas.openxmlformats.org/officeDocument/2006/relationships/hyperlink" Target="http://www.alicebot.org/" TargetMode="Externa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ltavista.com/help/free/" TargetMode="External"/><Relationship Id="rId2" Type="http://schemas.openxmlformats.org/officeDocument/2006/relationships/hyperlink" Target="http://www.altavista.com/help/free/" TargetMode="External"/><Relationship Id="rId3" Type="http://schemas.openxmlformats.org/officeDocument/2006/relationships/hyperlink" Target="http://www.altavista.com/help/free/" TargetMode="External"/><Relationship Id="rId4" Type="http://schemas.openxmlformats.org/officeDocument/2006/relationships/hyperlink" Target="http://www.altavista.com/help/free/" TargetMode="External"/><Relationship Id="rId5" Type="http://schemas.openxmlformats.org/officeDocument/2006/relationships/hyperlink" Target="http://www.altavista.com/help/free/" TargetMode="External"/><Relationship Id="rId6" Type="http://schemas.openxmlformats.org/officeDocument/2006/relationships/hyperlink" Target="http://www.altavista.com/help/free/" TargetMode="External"/><Relationship Id="rId7" Type="http://schemas.openxmlformats.org/officeDocument/2006/relationships/hyperlink" Target="http://www.altavista.com/help/free/" TargetMode="External"/><Relationship Id="rId8" Type="http://schemas.openxmlformats.org/officeDocument/2006/relationships/oleObject" Target="../embeddings/oleObject1.bin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I a zpracování </a:t>
            </a:r>
            <a:br>
              <a:rPr sz="3600"/>
            </a:br>
            <a:r>
              <a:rPr b="1" lang="cs-CZ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irozeného jazyka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11280" y="4581000"/>
            <a:ext cx="8153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577A94-8320-4A75-873A-382312DDF70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Natural Language Processing (NLP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atika zpracování přirozeného jazyka patří k nejobtížnějším úlohám UI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ětšina kroků má nejednoznačný výsledek – lze je chápat jako “filtrační mechanizmus”. Při hledání jednoznačné interpretace je třeba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asté navracení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 se používá paralelní zpracování dílčích kroků a jednotlivé procesy  mezi sebou komunikují např. prostřednictvím metody “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u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, která byla původně navržena právě pro zpracování přirozeného jazyka (HEARSAY, Lesser a kol. 1975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ural Language Processing (NLP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soustředí na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émy zpracování psaného textu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vorb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nitřní reprezenta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762120"/>
            <a:ext cx="86104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ae5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usticko-fonetická analýz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řevádí sluchový vjem do tvaru řetězce (psaných) symbolů abecedy. Použité postupy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zpoznáván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Jaké problémy je třeba řešit?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zlišení hlásek: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uvil o tom kladně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uvil o tom chladn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liv pomlk: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l u Žofky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Jedl užovk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liv intonac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ál: „Popravte ho!“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„Král - popravte ho!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3276720"/>
            <a:ext cx="849636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ffae5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fologicko-syntaktická analýza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dá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kladní tvar slov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formální vazb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mezi slovy ve větě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ílem je transformovat prostý seznam slov do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erarchické struktu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terá svazuje jeho dílčí části 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to struktura je navžená tak, že její uzly odpovídaj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znamovým jednotká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 sém. analýzu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znam a použití?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lišení správně utvořených vět, transformace vět, podpora sémantické intertretac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upozorění na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hoznačné vět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7880" y="5715000"/>
            <a:ext cx="61318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7d"/>
                </a:solidFill>
                <a:latin typeface="Times New Roman"/>
              </a:rPr>
              <a:t>     </a:t>
            </a:r>
            <a:r>
              <a:rPr b="1" i="1" lang="en-US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Time flies like an arrow. Prodal kamaradovi (y) bot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7d"/>
                </a:solidFill>
                <a:latin typeface="Times New Roman"/>
              </a:rPr>
              <a:t>     </a:t>
            </a:r>
            <a:r>
              <a:rPr b="1" i="1" lang="cs-CZ" sz="2000" spc="-1" strike="noStrike">
                <a:solidFill>
                  <a:srgbClr val="00007d"/>
                </a:solidFill>
                <a:latin typeface="Times New Roman"/>
              </a:rPr>
              <a:t>Udeřil</a:t>
            </a:r>
            <a:r>
              <a:rPr b="1" i="1" lang="en-US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otce, protože moc p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000000"/>
                </a:solidFill>
                <a:latin typeface="Arial Narrow"/>
              </a:rPr>
              <a:t>Jazyky a gramatik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914400"/>
            <a:ext cx="792468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Jazyk L</a:t>
            </a:r>
            <a:r>
              <a:rPr b="1" lang="cs-CZ" sz="17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G</a:t>
            </a:r>
            <a:r>
              <a:rPr b="1" lang="cs-CZ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 generovaný gramatikou G</a:t>
            </a:r>
            <a:r>
              <a:rPr b="0" lang="cs-CZ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 tvoří všechna slova z abecedy terminálů, t.j. z </a:t>
            </a:r>
            <a:r>
              <a:rPr b="1" lang="cs-CZ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T</a:t>
            </a:r>
            <a:r>
              <a:rPr b="1" lang="cs-CZ" sz="17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*</a:t>
            </a:r>
            <a:r>
              <a:rPr b="0" lang="cs-CZ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, která lze získat z počátečního symbolu </a:t>
            </a:r>
            <a:r>
              <a:rPr b="1" lang="cs-CZ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cs-CZ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 postupnou aplikací přepisovacích pravidel </a:t>
            </a:r>
            <a:r>
              <a:rPr b="1" lang="cs-CZ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cs-CZ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. Označíme-li zřetězení konečného počtu aplikací pravidel jako --</a:t>
            </a:r>
            <a:r>
              <a:rPr b="1" lang="en-GB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&gt;</a:t>
            </a:r>
            <a:r>
              <a:rPr b="0" lang="cs-CZ" sz="17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*</a:t>
            </a:r>
            <a:r>
              <a:rPr b="0" lang="cs-CZ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, pak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L</a:t>
            </a:r>
            <a:r>
              <a:rPr b="1" lang="cs-CZ" sz="1700" spc="-1" strike="noStrike" baseline="-30000">
                <a:solidFill>
                  <a:srgbClr val="000000"/>
                </a:solidFill>
                <a:latin typeface="Tahoma"/>
                <a:ea typeface="Times New Roman"/>
              </a:rPr>
              <a:t>G </a:t>
            </a:r>
            <a:r>
              <a:rPr b="0" lang="cs-CZ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 = { </a:t>
            </a:r>
            <a:r>
              <a:rPr b="1" lang="cs-CZ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ω   T</a:t>
            </a:r>
            <a:r>
              <a:rPr b="1" lang="cs-CZ" sz="17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* </a:t>
            </a:r>
            <a:r>
              <a:rPr b="1" lang="cs-CZ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: S --</a:t>
            </a:r>
            <a:r>
              <a:rPr b="1" lang="en-GB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&gt;</a:t>
            </a:r>
            <a:r>
              <a:rPr b="1" lang="cs-CZ" sz="17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* </a:t>
            </a:r>
            <a:r>
              <a:rPr b="1" lang="cs-CZ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ω</a:t>
            </a:r>
            <a:r>
              <a:rPr b="0" lang="cs-CZ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 }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Chomského klasifikace gramatik podle tvaru přepisovacích pravid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Značení:</a:t>
            </a:r>
            <a:r>
              <a:rPr b="0" lang="cs-CZ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Nechť α, β jsou libovolná slova z (N </a:t>
            </a:r>
            <a:r>
              <a:rPr b="0" lang="cs-CZ" sz="1300" spc="-1" strike="noStrike">
                <a:solidFill>
                  <a:srgbClr val="000000"/>
                </a:solidFill>
                <a:latin typeface="Arial"/>
                <a:ea typeface="Arial"/>
              </a:rPr>
              <a:t>U </a:t>
            </a:r>
            <a:r>
              <a:rPr b="0" lang="cs-CZ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T)</a:t>
            </a:r>
            <a:r>
              <a:rPr b="0" lang="cs-CZ" sz="13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r>
              <a:rPr b="0" lang="cs-CZ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a nechť γ je neprázdné slovo z (N </a:t>
            </a:r>
            <a:r>
              <a:rPr b="0" lang="cs-CZ" sz="1300" spc="-1" strike="noStrike">
                <a:solidFill>
                  <a:srgbClr val="000000"/>
                </a:solidFill>
                <a:latin typeface="Arial"/>
                <a:ea typeface="Arial"/>
              </a:rPr>
              <a:t>U </a:t>
            </a:r>
            <a:r>
              <a:rPr b="0" lang="cs-CZ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T)</a:t>
            </a:r>
            <a:r>
              <a:rPr b="0" lang="cs-CZ" sz="13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r>
              <a:rPr b="0" lang="cs-CZ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G. typu 0</a:t>
            </a:r>
            <a:r>
              <a:rPr b="0" lang="cs-CZ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: Nejobecnější typ, jehož přepisovací pravidla musí splňovat pouze podmínku </a:t>
            </a:r>
            <a:r>
              <a:rPr b="1" i="1" lang="cs-CZ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ntl</a:t>
            </a:r>
            <a:r>
              <a:rPr b="0" lang="cs-CZ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. Jazyky generované gramatikami typu 0 jsou právě jazyky rozpoznávané Turingovými stroji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G. typu 1</a:t>
            </a:r>
            <a:r>
              <a:rPr b="0" lang="cs-CZ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: </a:t>
            </a:r>
            <a:r>
              <a:rPr b="0" lang="cs-CZ" sz="17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Kontextové gramatiky</a:t>
            </a:r>
            <a:r>
              <a:rPr b="0" lang="cs-CZ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. Libovolné přepisovací pravidlo musí být tvaru </a:t>
            </a:r>
            <a:r>
              <a:rPr b="1" lang="cs-CZ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α X β --</a:t>
            </a:r>
            <a:r>
              <a:rPr b="1" lang="en-GB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&gt; </a:t>
            </a:r>
            <a:r>
              <a:rPr b="1" lang="cs-CZ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α γ β</a:t>
            </a:r>
            <a:r>
              <a:rPr b="0" lang="cs-CZ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, kde </a:t>
            </a:r>
            <a:r>
              <a:rPr b="1" lang="cs-CZ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cs-CZ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 je nějaký symbol z </a:t>
            </a:r>
            <a:r>
              <a:rPr b="1" lang="cs-CZ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N</a:t>
            </a:r>
            <a:r>
              <a:rPr b="0" lang="cs-CZ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G. typu 2</a:t>
            </a:r>
            <a:r>
              <a:rPr b="0" lang="cs-CZ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: </a:t>
            </a:r>
            <a:r>
              <a:rPr b="0" lang="cs-CZ" sz="17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Bezkontextové gramatiky</a:t>
            </a:r>
            <a:r>
              <a:rPr b="0" lang="cs-CZ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. Libovolné přepisovací pravidlo musí být tvaru  </a:t>
            </a:r>
            <a:r>
              <a:rPr b="1" lang="cs-CZ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X --</a:t>
            </a:r>
            <a:r>
              <a:rPr b="1" lang="en-GB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&gt; </a:t>
            </a:r>
            <a:r>
              <a:rPr b="1" lang="cs-CZ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α</a:t>
            </a:r>
            <a:r>
              <a:rPr b="0" lang="cs-CZ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, kde </a:t>
            </a:r>
            <a:r>
              <a:rPr b="1" lang="cs-CZ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cs-CZ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 je nějaký symbol z </a:t>
            </a:r>
            <a:r>
              <a:rPr b="1" lang="cs-CZ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N</a:t>
            </a:r>
            <a:r>
              <a:rPr b="0" lang="cs-CZ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G. typu 3</a:t>
            </a:r>
            <a:r>
              <a:rPr b="0" lang="cs-CZ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: </a:t>
            </a:r>
            <a:r>
              <a:rPr b="0" lang="cs-CZ" sz="17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Regulární gramatiky</a:t>
            </a:r>
            <a:r>
              <a:rPr b="0" lang="cs-CZ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. Libovolné přepisovací pravidlo musí být tvaru  </a:t>
            </a:r>
            <a:r>
              <a:rPr b="1" lang="cs-CZ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X --</a:t>
            </a:r>
            <a:r>
              <a:rPr b="1" lang="en-GB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&gt; aY</a:t>
            </a:r>
            <a:r>
              <a:rPr b="0" lang="en-GB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 nebo</a:t>
            </a:r>
            <a:r>
              <a:rPr b="1" lang="en-GB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cs-CZ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X --</a:t>
            </a:r>
            <a:r>
              <a:rPr b="1" lang="en-GB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&gt; a</a:t>
            </a:r>
            <a:r>
              <a:rPr b="0" lang="cs-CZ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, kde </a:t>
            </a:r>
            <a:r>
              <a:rPr b="1" lang="cs-CZ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X, Y</a:t>
            </a:r>
            <a:r>
              <a:rPr b="0" lang="cs-CZ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 jsou nějaké symboly z </a:t>
            </a:r>
            <a:r>
              <a:rPr b="1" lang="cs-CZ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N</a:t>
            </a:r>
            <a:r>
              <a:rPr b="0" lang="cs-CZ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 a </a:t>
            </a:r>
            <a:r>
              <a:rPr b="1" lang="cs-CZ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cs-CZ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 je nějaký symbol z </a:t>
            </a:r>
            <a:r>
              <a:rPr b="1" lang="cs-CZ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T</a:t>
            </a:r>
            <a:r>
              <a:rPr b="0" lang="cs-CZ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000000"/>
                </a:solidFill>
                <a:latin typeface="Arial Narrow"/>
              </a:rPr>
              <a:t>Gramatika pro přirozený jazyk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1143000"/>
            <a:ext cx="86104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kladní vlastnosti přirozeného jazyka lze popsat bezkontextovou gramatikou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 zajištění některých vazeb uvnitř věty (např. shoda přísudku s podmětem) se používají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G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matiky (Definite Clause Grammar – viz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edchozí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ednáška o Prologu). Typ DCG se chápe jako 1,5 (poněkud obecnější typ než čisté regulárn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ale slabší než bezkontextový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stup syntaktické analýz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ýza shora-dolů a zdola naho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ovnání, výhody a nev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dy obou přístup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ktivní analý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žití „chart parser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Sémantická in</a:t>
            </a:r>
            <a:r>
              <a:rPr b="0" lang="cs-CZ" sz="2900" spc="-1" strike="noStrike">
                <a:solidFill>
                  <a:srgbClr val="99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erpretace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přirozeného jayzka</a:t>
            </a:r>
            <a:r>
              <a:rPr b="1" lang="cs-CZ" sz="45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6280" y="1523880"/>
            <a:ext cx="819144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Hledání významu věty - </a:t>
            </a:r>
            <a:r>
              <a:rPr b="1" i="1" lang="cs-CZ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Kompoziční sémantika</a:t>
            </a:r>
            <a:r>
              <a:rPr b="0" i="1" lang="cs-CZ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„</a:t>
            </a:r>
            <a:r>
              <a:rPr b="0" i="1" lang="cs-CZ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Člověk může chápat význam libovolného počtu vět. Postupuje tak, že nejprve provede syntaktickou analýzu, a pak vytváří význam jako složení (kompozici) významů jednotlivých složek.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Jednotlivé kroky kompoziční sémantik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7d"/>
                </a:solidFill>
                <a:latin typeface="Symbol"/>
                <a:ea typeface="Symbol"/>
              </a:rPr>
              <a:t></a:t>
            </a:r>
            <a:r>
              <a:rPr b="0" i="1" lang="cs-CZ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        </a:t>
            </a:r>
            <a:r>
              <a:rPr b="0" i="1" lang="cs-CZ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Význam sl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7d"/>
                </a:solidFill>
                <a:latin typeface="Symbol"/>
                <a:ea typeface="Symbol"/>
              </a:rPr>
              <a:t></a:t>
            </a:r>
            <a:r>
              <a:rPr b="0" i="1" lang="cs-CZ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        </a:t>
            </a:r>
            <a:r>
              <a:rPr b="0" i="1" lang="cs-CZ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Význam složených výrazů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Výsledek je silně nejednoznačn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5800" y="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Sémantická in</a:t>
            </a:r>
            <a:r>
              <a:rPr b="0" lang="cs-CZ" sz="2900" spc="-1" strike="noStrike">
                <a:solidFill>
                  <a:srgbClr val="990000"/>
                </a:solidFill>
                <a:latin typeface="Times New Roman"/>
              </a:rPr>
              <a:t>t</a:t>
            </a:r>
            <a:r>
              <a:rPr b="0" lang="en-US" sz="29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erpretace přirozeného jayzka</a:t>
            </a:r>
            <a:r>
              <a:rPr b="1" lang="cs-CZ" sz="45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800280"/>
            <a:ext cx="8800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00007d"/>
                </a:solidFill>
                <a:uFillTx/>
                <a:latin typeface="Times New Roman"/>
              </a:rPr>
              <a:t>Vý</a:t>
            </a:r>
            <a:r>
              <a:rPr b="1" i="1" lang="cs-CZ" sz="2000" spc="-1" strike="noStrike" u="sng">
                <a:solidFill>
                  <a:srgbClr val="00007d"/>
                </a:solidFill>
                <a:uFillTx/>
                <a:latin typeface="Times New Roman"/>
                <a:ea typeface="Times New Roman"/>
              </a:rPr>
              <a:t>znam slov</a:t>
            </a:r>
            <a:r>
              <a:rPr b="1" i="1" lang="cs-CZ" sz="2000" spc="-1" strike="noStrike" u="sng">
                <a:solidFill>
                  <a:srgbClr val="00007d"/>
                </a:solidFill>
                <a:uFillTx/>
                <a:latin typeface="Times New Roman"/>
              </a:rPr>
              <a:t>: </a:t>
            </a:r>
            <a:r>
              <a:rPr b="0" i="1" lang="cs-CZ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nalezení slov ve slovníku - pozor na nejednoznačn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např. významy slova "mean":</a:t>
            </a:r>
            <a:r>
              <a:rPr b="0" i="1" lang="cs-CZ" sz="2000" spc="-1" strike="noStrike">
                <a:solidFill>
                  <a:srgbClr val="00007d"/>
                </a:solidFill>
                <a:latin typeface="Times New Roman"/>
              </a:rPr>
              <a:t> </a:t>
            </a:r>
            <a:r>
              <a:rPr b="0" i="1" lang="cs-CZ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        </a:t>
            </a:r>
            <a:r>
              <a:rPr b="0" i="1" lang="cs-CZ" sz="2000" spc="-1" strike="noStrike">
                <a:solidFill>
                  <a:srgbClr val="00007d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znamenat</a:t>
            </a:r>
            <a:r>
              <a:rPr b="0" i="1" lang="cs-CZ" sz="2000" spc="-1" strike="noStrike">
                <a:solidFill>
                  <a:srgbClr val="00007d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lnSpc>
                <a:spcPct val="90000"/>
              </a:lnSpc>
              <a:spcBef>
                <a:spcPts val="1250"/>
              </a:spcBef>
              <a:buClr>
                <a:srgbClr val="ffae5d"/>
              </a:buClr>
              <a:buSzPct val="7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7d"/>
                </a:solidFill>
                <a:latin typeface="Times New Roman"/>
              </a:rPr>
              <a:t>           </a:t>
            </a:r>
            <a:r>
              <a:rPr b="0" i="1" lang="cs-CZ" sz="2000" spc="-1" strike="noStrike">
                <a:solidFill>
                  <a:srgbClr val="00007d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00007d"/>
                </a:solidFill>
                <a:latin typeface="Times New Roman"/>
              </a:rPr>
              <a:t>h</a:t>
            </a:r>
            <a:r>
              <a:rPr b="0" i="1" lang="cs-CZ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anebný, lakom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lnSpc>
                <a:spcPct val="90000"/>
              </a:lnSpc>
              <a:spcBef>
                <a:spcPts val="1250"/>
              </a:spcBef>
              <a:buClr>
                <a:srgbClr val="ffae5d"/>
              </a:buClr>
              <a:buSzPct val="7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    </a:t>
            </a:r>
            <a:r>
              <a:rPr b="0" i="1" lang="cs-CZ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	</a:t>
            </a:r>
            <a:r>
              <a:rPr b="0" i="1" lang="cs-CZ" sz="2000" spc="-1" strike="noStrike">
                <a:solidFill>
                  <a:srgbClr val="00007d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průměr (ve statistice)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Který význam vybrat?</a:t>
            </a:r>
            <a:r>
              <a:rPr b="0" i="1" lang="cs-CZ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Nástroje pro </a:t>
            </a:r>
            <a:r>
              <a:rPr b="1" i="1" lang="cs-CZ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lexikální</a:t>
            </a:r>
            <a:r>
              <a:rPr b="0" i="1" lang="cs-CZ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</a:t>
            </a:r>
            <a:r>
              <a:rPr b="1" i="1" lang="cs-CZ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disambiguaci </a:t>
            </a:r>
            <a:r>
              <a:rPr b="0" i="1" lang="cs-CZ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používají např. doplnění významových značek k podstatným jménům a preferneční gramatik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7d"/>
                </a:solidFill>
                <a:latin typeface="Times New Roman"/>
              </a:rPr>
              <a:t>V</a:t>
            </a:r>
            <a:r>
              <a:rPr b="1" i="1" lang="cs-CZ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ýznamové značky</a:t>
            </a:r>
            <a:r>
              <a:rPr b="0" i="1" lang="cs-CZ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(semantic markers) ke slovů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např. "diamond" </a:t>
            </a:r>
            <a:r>
              <a:rPr b="0" i="1" lang="cs-CZ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	</a:t>
            </a:r>
            <a:r>
              <a:rPr b="0" i="1" lang="cs-CZ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	</a:t>
            </a:r>
            <a:r>
              <a:rPr b="0" i="1" lang="cs-CZ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druh drahokamu</a:t>
            </a:r>
            <a:r>
              <a:rPr b="0" i="1" lang="cs-CZ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	</a:t>
            </a:r>
            <a:r>
              <a:rPr b="0" i="1" lang="cs-CZ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PŘEDMĚ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	</a:t>
            </a:r>
            <a:r>
              <a:rPr b="0" i="1" lang="cs-CZ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	</a:t>
            </a:r>
            <a:r>
              <a:rPr b="0" i="1" lang="cs-CZ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	</a:t>
            </a:r>
            <a:r>
              <a:rPr b="0" i="1" lang="cs-CZ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	</a:t>
            </a:r>
            <a:r>
              <a:rPr b="0" i="1" lang="cs-CZ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hřiště na baseball</a:t>
            </a:r>
            <a:r>
              <a:rPr b="0" i="1" lang="cs-CZ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	</a:t>
            </a:r>
            <a:r>
              <a:rPr b="0" i="1" lang="cs-CZ" sz="2000" spc="-1" strike="noStrike">
                <a:solidFill>
                  <a:srgbClr val="00007d"/>
                </a:solidFill>
                <a:latin typeface="Times New Roman"/>
              </a:rPr>
              <a:t>  </a:t>
            </a:r>
            <a:r>
              <a:rPr b="0" i="1" lang="cs-CZ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MÍ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	</a:t>
            </a:r>
            <a:r>
              <a:rPr b="0" i="1" lang="cs-CZ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	</a:t>
            </a:r>
            <a:r>
              <a:rPr b="0" i="1" lang="cs-CZ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	</a:t>
            </a:r>
            <a:r>
              <a:rPr b="0" i="1" lang="cs-CZ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	</a:t>
            </a:r>
            <a:r>
              <a:rPr b="0" i="1" lang="cs-CZ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geometrický tvar</a:t>
            </a:r>
            <a:r>
              <a:rPr b="0" i="1" lang="cs-CZ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	</a:t>
            </a:r>
            <a:r>
              <a:rPr b="0" i="1" lang="cs-CZ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ABSTRAKTNÍ-OBJE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Preferenční gramatiky</a:t>
            </a:r>
            <a:r>
              <a:rPr b="0" i="1" lang="cs-CZ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vyjadřují preferované vlastnosti u slovních vazeb (např. životný podmě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Problém?</a:t>
            </a:r>
            <a:r>
              <a:rPr b="0" i="1" lang="cs-CZ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Pro úplnou disambiguaci by bylo třeba zavést příliš mnoho značek. ("I saw diamond shimmering across the room."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Sémantická in</a:t>
            </a:r>
            <a:r>
              <a:rPr b="0" lang="cs-CZ" sz="2400" spc="-1" strike="noStrike">
                <a:solidFill>
                  <a:srgbClr val="99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erpretace</a:t>
            </a:r>
            <a:r>
              <a:rPr b="0" lang="cs-C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přirozeného jayzka</a:t>
            </a:r>
            <a:r>
              <a:rPr b="1" lang="cs-CZ" sz="45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914400"/>
            <a:ext cx="84582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ecně postup hledání významu nemůže být mechanický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važujm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goritmus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1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 interpretaci „a toy elephant“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     Najdi příklad objektu elephant, t.j.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inst (X, elephan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   Přidej informace o vlastnostech objektu X nalezeného v předchozím kroku (velikost, tvar, 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3.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straň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inst (X, elephan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    Přidej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inst (X, toy)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oplň vlastnosti charakteristické pro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oy,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př.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„unese to dítě“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ý by byl výsledek aplikac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a toy shop“?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A1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í vhodný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 interpretci „a toy shop“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up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ramatiku lze pomocí agrumentů u neterminálních symbolů rozšířit tak, aby b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 možné význam skládat z dílčích částí věty –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ompoziční sémantik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59480"/>
            <a:ext cx="820728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5560" y="1197000"/>
            <a:ext cx="8218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437"/>
              </a:spcBef>
              <a:buClr>
                <a:srgbClr val="ffae5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jednoduchých aplikacích však můžeme použít toto řešení: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437"/>
              </a:spcBef>
              <a:buClr>
                <a:srgbClr val="ffae5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veso </a:t>
            </a:r>
            <a:r>
              <a:rPr b="0" lang="en-GB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ze chápat </a:t>
            </a:r>
            <a:r>
              <a:rPr b="1" lang="en-GB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o predikát</a:t>
            </a:r>
            <a:r>
              <a:rPr b="0" lang="en-GB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jehož argumenty tvoří ostatní větné členy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437"/>
              </a:spcBef>
              <a:buClr>
                <a:srgbClr val="ffae5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437"/>
              </a:spcBef>
              <a:buClr>
                <a:srgbClr val="ffae5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idáme-li význam jako argument gramatických výrazů, dostáváme nástroj pro realizaci kompoziční sématiky: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( Relace (Objekt) ) </a:t>
            </a:r>
            <a:r>
              <a:rPr b="0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P (Objekt) VP (Relace)</a:t>
            </a:r>
            <a:r>
              <a:rPr b="0" lang="en-GB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59480"/>
            <a:ext cx="820728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218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37"/>
              </a:spcBef>
              <a:buClr>
                <a:srgbClr val="ffae5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imes New Roman"/>
              </a:rPr>
              <a:t>S ( Relace (Objekt) ) </a:t>
            </a: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  <a:ea typeface="Times New Roman"/>
              </a:rPr>
              <a:t> NP(Objekt) VP(Relace)</a:t>
            </a: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437"/>
              </a:spcBef>
              <a:buClr>
                <a:srgbClr val="ffae5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imes New Roman"/>
              </a:rPr>
              <a:t>VP (Relace (Objekt))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  <a:ea typeface="Times New Roman"/>
              </a:rPr>
              <a:t> Verb(Relace)</a:t>
            </a:r>
            <a:r>
              <a:rPr b="0" lang="cs-CZ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  <a:ea typeface="Times New Roman"/>
              </a:rPr>
              <a:t>NP(Objekt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  <a:ea typeface="Times New Roman"/>
              </a:rPr>
              <a:t>NP(Objekt)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  <a:ea typeface="Times New Roman"/>
              </a:rPr>
              <a:t> Name(Objekt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  <a:ea typeface="Times New Roman"/>
              </a:rPr>
              <a:t>Name(john)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  <a:ea typeface="Times New Roman"/>
              </a:rPr>
              <a:t> John(john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  <a:ea typeface="Times New Roman"/>
              </a:rPr>
              <a:t>Name(mary)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  <a:ea typeface="Times New Roman"/>
              </a:rPr>
              <a:t> Mary(mar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Tahoma"/>
                <a:ea typeface="Times New Roman"/>
              </a:rPr>
              <a:t>Verb(λY λ X loves(X,Y) ) </a:t>
            </a:r>
            <a:r>
              <a:rPr b="0" lang="cs-CZ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3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  <a:ea typeface="Times New Roman"/>
              </a:rPr>
              <a:t> loves</a:t>
            </a:r>
            <a:r>
              <a:rPr b="0" lang="cs-CZ" sz="23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duchá gramatika generujíc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ěty typu “Socrates is a human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sentenc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--&gt; determiner, noun, verb_phrase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sentenc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--&gt; proper_noun,verb_phrase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verb_phras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--&gt; [is],property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propert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--&gt; [a],noun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propert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--&gt; [mortal]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determiner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--&gt; [every]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proper_noun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--&gt; [socrates]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noun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--&gt; [human]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7d"/>
                </a:solidFill>
                <a:latin typeface="Tahoma"/>
                <a:ea typeface="MS Mincho"/>
              </a:rPr>
              <a:t>Krok 2</a:t>
            </a:r>
            <a:r>
              <a:rPr b="1" lang="cs-CZ" sz="1500" spc="-1" strike="noStrike">
                <a:solidFill>
                  <a:srgbClr val="00007d"/>
                </a:solidFill>
                <a:latin typeface="Tahoma"/>
              </a:rPr>
              <a:t>a</a:t>
            </a:r>
            <a:r>
              <a:rPr b="1" lang="en-US" sz="1500" spc="-1" strike="noStrike">
                <a:solidFill>
                  <a:srgbClr val="00007d"/>
                </a:solidFill>
                <a:latin typeface="Tahoma"/>
                <a:ea typeface="MS Mincho"/>
              </a:rPr>
              <a:t>:</a:t>
            </a:r>
            <a:r>
              <a:rPr b="1" lang="cs-CZ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znam vlastního jména je odpovídající konstant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ap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proper_noun(socrates)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--&gt; [socrates].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500" spc="-1" strike="noStrike">
                <a:solidFill>
                  <a:srgbClr val="000000"/>
                </a:solidFill>
                <a:latin typeface="Courier New"/>
                <a:ea typeface="MS Mincho"/>
              </a:rPr>
              <a:t>“Socrates is a human.”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7d"/>
                </a:solidFill>
                <a:latin typeface="Tahoma"/>
                <a:ea typeface="MS Mincho"/>
              </a:rPr>
              <a:t>Krok 2</a:t>
            </a:r>
            <a:r>
              <a:rPr b="1" lang="cs-CZ" sz="1500" spc="-1" strike="noStrike">
                <a:solidFill>
                  <a:srgbClr val="00007d"/>
                </a:solidFill>
                <a:latin typeface="Tahoma"/>
              </a:rPr>
              <a:t>b</a:t>
            </a:r>
            <a:r>
              <a:rPr b="1" lang="en-US" sz="1500" spc="-1" strike="noStrike">
                <a:solidFill>
                  <a:srgbClr val="00007d"/>
                </a:solidFill>
                <a:latin typeface="Tahoma"/>
                <a:ea typeface="MS Mincho"/>
              </a:rPr>
              <a:t>:</a:t>
            </a:r>
            <a:r>
              <a:rPr b="1" lang="cs-CZ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znam v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ěty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vznikne složením významů jejích část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ap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sentence ( (</a:t>
            </a: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Arial"/>
              </a:rPr>
              <a:t>P(X):- tru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) )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--&gt; proper_noun (X), verb_phrase (P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sentence ( (</a:t>
            </a: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Arial"/>
              </a:rPr>
              <a:t>L :- tru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) 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--&gt; proper_noun (X), verb_phrase (P), {</a:t>
            </a: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Arial"/>
              </a:rPr>
              <a:t>L=..[P,X]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}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ffae5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9520" y="851040"/>
            <a:ext cx="87249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Je bohatý jazyk charakteristickým znakem lidského uva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ání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apř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Turing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v tes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je postaven na pou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tí p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rozeného jazyk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ebner Priz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zalo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na 1991): 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1"/>
              </a:rPr>
              <a:t>http://www.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2"/>
              </a:rPr>
              <a:t>loebner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3"/>
              </a:rPr>
              <a:t>.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4"/>
              </a:rPr>
              <a:t>net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5"/>
              </a:rPr>
              <a:t>/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6"/>
              </a:rPr>
              <a:t>Prizef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7"/>
              </a:rPr>
              <a:t>/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8"/>
              </a:rPr>
              <a:t>loebner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9"/>
              </a:rPr>
              <a:t>-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10"/>
              </a:rPr>
              <a:t>prize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11"/>
              </a:rPr>
              <a:t>.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12"/>
              </a:rPr>
              <a:t>html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0.000 pro autora prvního programu, který úspěšně projde Turingovým testem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2000 pro nejlepší přihlášený program každý rok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íjen 2003: vítěz 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Times New Roman"/>
                <a:hlinkClick r:id="rId13"/>
              </a:rPr>
              <a:t>Juergen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Times New Roman"/>
                <a:hlinkClick r:id="rId14"/>
              </a:rPr>
              <a:t> 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Times New Roman"/>
                <a:hlinkClick r:id="rId15"/>
              </a:rPr>
              <a:t>Pirne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(Hamburg, German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imát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b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ě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u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ívají okolo 100 “slov”. Gorila Koko dokonce p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s 1000 slov, mezi nimi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jsou i abstraktní pojm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Šimpanz je schopen porozum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 v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”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ř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es mí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který je venk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”, “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ř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es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rvený mí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který je za modrou st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ě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Zv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 m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ů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 i “lhát” – vydá sk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k, kterým v přípa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pot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by zmate protivník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  <a:ea typeface="新細明體"/>
              </a:rPr>
              <a:t>Je však otázkou, zda psychologové do pozorování nepromítají p</a:t>
            </a:r>
            <a:r>
              <a:rPr b="0" lang="cs-CZ" sz="2000" spc="-1" strike="noStrike">
                <a:solidFill>
                  <a:srgbClr val="00007d"/>
                </a:solidFill>
                <a:latin typeface="Times New Roman"/>
              </a:rPr>
              <a:t>ř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  <a:ea typeface="新細明體"/>
              </a:rPr>
              <a:t>íliš mnoho vlastních znalostí.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  <a:ea typeface="新細明體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8000"/>
                </a:solidFill>
                <a:latin typeface="Arial Narrow"/>
                <a:ea typeface="MS Mincho"/>
              </a:rPr>
              <a:t>Krok 2</a:t>
            </a:r>
            <a:r>
              <a:rPr b="0" lang="cs-CZ" sz="2500" spc="-1" strike="noStrike">
                <a:solidFill>
                  <a:srgbClr val="008000"/>
                </a:solidFill>
                <a:latin typeface="Arial Narrow"/>
              </a:rPr>
              <a:t>c</a:t>
            </a:r>
            <a:r>
              <a:rPr b="0" lang="en-US" sz="2500" spc="-1" strike="noStrike">
                <a:solidFill>
                  <a:srgbClr val="008000"/>
                </a:solidFill>
                <a:latin typeface="Arial Narrow"/>
                <a:ea typeface="MS Mincho"/>
              </a:rPr>
              <a:t>:</a:t>
            </a:r>
            <a:r>
              <a:rPr b="0" lang="cs-CZ" sz="2500" spc="-1" strike="noStrike">
                <a:solidFill>
                  <a:srgbClr val="008000"/>
                </a:solidFill>
                <a:latin typeface="Arial Narrow"/>
              </a:rPr>
              <a:t> </a:t>
            </a:r>
            <a:r>
              <a:rPr b="1" lang="cs-CZ" sz="2500" spc="-1" strike="noStrike">
                <a:solidFill>
                  <a:srgbClr val="008000"/>
                </a:solidFill>
                <a:latin typeface="Arial Narrow"/>
              </a:rPr>
              <a:t>Definice vý</a:t>
            </a:r>
            <a:r>
              <a:rPr b="1" lang="en-US" sz="25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znam</a:t>
            </a:r>
            <a:r>
              <a:rPr b="1" lang="cs-CZ" sz="2500" spc="-1" strike="noStrike">
                <a:solidFill>
                  <a:srgbClr val="008000"/>
                </a:solidFill>
                <a:latin typeface="Arial Narrow"/>
              </a:rPr>
              <a:t>u</a:t>
            </a:r>
            <a:r>
              <a:rPr b="1" lang="en-US" sz="25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 </a:t>
            </a:r>
            <a:r>
              <a:rPr b="1" lang="cs-CZ" sz="2500" spc="-1" strike="noStrike">
                <a:solidFill>
                  <a:srgbClr val="008000"/>
                </a:solidFill>
                <a:latin typeface="Arial Narrow"/>
              </a:rPr>
              <a:t>složitějších vazeb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762120"/>
            <a:ext cx="853416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9999cc"/>
                </a:solidFill>
                <a:latin typeface="Times New Roman"/>
              </a:rPr>
              <a:t>Problém?</a:t>
            </a:r>
            <a:r>
              <a:rPr b="0" lang="cs-CZ" sz="17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každé sloveso (přísudková čast věty) odpovídá unárnímu predikátu, např. “ … </a:t>
            </a:r>
            <a:r>
              <a:rPr b="1" i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s Achilles”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dp</a:t>
            </a:r>
            <a:r>
              <a:rPr b="0" lang="cs-CZ" sz="17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Arial"/>
              </a:rPr>
              <a:t>likes(X, </a:t>
            </a:r>
            <a:r>
              <a:rPr b="0" lang="cs-CZ" sz="17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Arial"/>
              </a:rPr>
              <a:t>chilles).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700" spc="-1" strike="noStrike">
                <a:solidFill>
                  <a:srgbClr val="9999cc"/>
                </a:solidFill>
                <a:latin typeface="Times New Roman"/>
                <a:ea typeface="Times New Roman"/>
              </a:rPr>
              <a:t>Jak </a:t>
            </a:r>
            <a:r>
              <a:rPr b="0" lang="cs-CZ" sz="1700" spc="-1" strike="noStrike">
                <a:solidFill>
                  <a:srgbClr val="9999cc"/>
                </a:solidFill>
                <a:latin typeface="Times New Roman"/>
              </a:rPr>
              <a:t>to zaznamenat?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ět skládání</a:t>
            </a:r>
            <a:r>
              <a:rPr b="1" lang="cs-CZ" sz="17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částí</a:t>
            </a:r>
            <a:r>
              <a:rPr b="0" lang="cs-CZ" sz="17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brazení termu z podmět</a:t>
            </a:r>
            <a:r>
              <a:rPr b="0" lang="cs-CZ" sz="1700" spc="-1" strike="noStrike">
                <a:solidFill>
                  <a:srgbClr val="000000"/>
                </a:solidFill>
                <a:latin typeface="Times New Roman"/>
              </a:rPr>
              <a:t>ětové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ásti na složený literál</a:t>
            </a:r>
            <a:r>
              <a:rPr b="0" lang="cs-CZ" sz="17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"/>
              </a:rPr>
              <a:t>sentence ( (L :- true) )</a:t>
            </a: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"/>
              </a:rPr>
              <a:t>--&gt; proper_noun (X), verb_phrase (X =&gt; L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"/>
              </a:rPr>
              <a:t>verb_phrase</a:t>
            </a:r>
            <a:r>
              <a:rPr b="0" lang="cs-CZ" sz="15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"/>
              </a:rPr>
              <a:t>(M) </a:t>
            </a:r>
            <a:r>
              <a:rPr b="0" lang="cs-CZ" sz="15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"/>
              </a:rPr>
              <a:t>--&gt; [is],property(M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"/>
              </a:rPr>
              <a:t>property (M)</a:t>
            </a: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"/>
              </a:rPr>
              <a:t>--&gt; [a],noun(M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"/>
              </a:rPr>
              <a:t>property(X =&gt; mortal(X))</a:t>
            </a: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"/>
              </a:rPr>
              <a:t>--&gt; [mortal]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"/>
              </a:rPr>
              <a:t>noun (X =&gt; human(X))</a:t>
            </a: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"/>
              </a:rPr>
              <a:t>--&gt; [human]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rial"/>
                <a:ea typeface="Arial"/>
              </a:rPr>
              <a:t>?- phrase(sentence(C),S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Arial"/>
              </a:rPr>
              <a:t>C= </a:t>
            </a:r>
            <a:r>
              <a:rPr b="0" lang="cs-CZ" sz="1500" spc="-1" strike="noStrike">
                <a:solidFill>
                  <a:srgbClr val="9999cc"/>
                </a:solidFill>
                <a:latin typeface="Arial"/>
                <a:ea typeface="Arial"/>
              </a:rPr>
              <a:t>human(socrates):- true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Arial"/>
              </a:rPr>
              <a:t>S = [socrates,is,a, human]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Arial"/>
              </a:rPr>
              <a:t>C= </a:t>
            </a:r>
            <a:r>
              <a:rPr b="0" lang="cs-CZ" sz="1500" spc="-1" strike="noStrike">
                <a:solidFill>
                  <a:srgbClr val="9999cc"/>
                </a:solidFill>
                <a:latin typeface="Arial"/>
                <a:ea typeface="Arial"/>
              </a:rPr>
              <a:t>mortal(socrates):- true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Arial"/>
              </a:rPr>
              <a:t>S = [socrates,is,mortal];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…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"/>
              </a:rPr>
              <a:t>sentence (C)</a:t>
            </a: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"/>
              </a:rPr>
              <a:t>--&gt; determiner(M1,M2,C),noun(M1),verb_phrase(M2) 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"/>
              </a:rPr>
              <a:t>determiner(X =&gt;B,X =&gt;H,(</a:t>
            </a:r>
            <a:r>
              <a:rPr b="0" lang="en-US" sz="1500" spc="-1" strike="noStrike">
                <a:solidFill>
                  <a:srgbClr val="ff0000"/>
                </a:solidFill>
                <a:latin typeface="Arial Unicode MS"/>
                <a:ea typeface="Arial"/>
              </a:rPr>
              <a:t>H:-B</a:t>
            </a:r>
            <a:r>
              <a:rPr b="0" lang="en-US" sz="1500" spc="-1" strike="noStrike">
                <a:solidFill>
                  <a:srgbClr val="000000"/>
                </a:solidFill>
                <a:latin typeface="Arial Unicode MS"/>
                <a:ea typeface="Arial"/>
              </a:rPr>
              <a:t>))--&gt; [every]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500" spc="-1" strike="noStrike">
                <a:solidFill>
                  <a:srgbClr val="000000"/>
                </a:solidFill>
                <a:latin typeface="Arial"/>
                <a:ea typeface="Arial"/>
              </a:rPr>
              <a:t>?- phrase(sentence(C),S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Arial"/>
              </a:rPr>
              <a:t>C= </a:t>
            </a:r>
            <a:r>
              <a:rPr b="0" lang="cs-CZ" sz="1500" spc="-1" strike="noStrike">
                <a:solidFill>
                  <a:srgbClr val="9999cc"/>
                </a:solidFill>
                <a:latin typeface="Arial"/>
                <a:ea typeface="Arial"/>
              </a:rPr>
              <a:t>human(X) :- man(X)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Arial"/>
              </a:rPr>
              <a:t>S = [every,man,is,a,human]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Arial"/>
              </a:rPr>
              <a:t>C= </a:t>
            </a:r>
            <a:r>
              <a:rPr b="0" lang="cs-CZ" sz="1500" spc="-1" strike="noStrike">
                <a:solidFill>
                  <a:srgbClr val="9999cc"/>
                </a:solidFill>
                <a:latin typeface="Arial"/>
                <a:ea typeface="Arial"/>
              </a:rPr>
              <a:t>mortal(X) :- human(X)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Arial"/>
              </a:rPr>
              <a:t>S = [every,human,is,mortal]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85800" y="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8000"/>
                </a:solidFill>
                <a:latin typeface="Arial Narrow"/>
              </a:rPr>
              <a:t>Další větné členy, </a:t>
            </a:r>
            <a:r>
              <a:rPr b="1" lang="cs-CZ" sz="3300" spc="-1" strike="noStrike">
                <a:solidFill>
                  <a:srgbClr val="008000"/>
                </a:solidFill>
                <a:latin typeface="Arial Narrow"/>
              </a:rPr>
              <a:t>např. zájmeno „existuje“</a:t>
            </a:r>
            <a:r>
              <a:rPr b="1" lang="cs-CZ" sz="45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Je dokonce možné rozšířit program tak, ab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umožnoval pracovat i s existenčními kvantifikátory („</a:t>
            </a:r>
            <a:r>
              <a:rPr b="1" i="1" lang="cs-CZ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humans are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...“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erminer(p,sk =&gt;H1,sk =&gt;H2,[(H1:-true),(H2:-true)])--&gt; [some]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- op(600, xfy, =&gt;´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cs-CZ" sz="1800" spc="-1" strike="noStrike">
                <a:solidFill>
                  <a:srgbClr val="008000"/>
                </a:solidFill>
                <a:latin typeface="Tahoma"/>
                <a:ea typeface="Times New Roman"/>
              </a:rPr>
              <a:t>Zřejmě </a:t>
            </a:r>
            <a:r>
              <a:rPr b="0" lang="cs-CZ" sz="1800" spc="-1" strike="noStrike">
                <a:solidFill>
                  <a:srgbClr val="008000"/>
                </a:solidFill>
                <a:latin typeface="Tahoma"/>
              </a:rPr>
              <a:t>uvedený</a:t>
            </a:r>
            <a:r>
              <a:rPr b="0" lang="cs-CZ" sz="1800" spc="-1" strike="noStrike">
                <a:solidFill>
                  <a:srgbClr val="008000"/>
                </a:solidFill>
                <a:latin typeface="Tahoma"/>
                <a:ea typeface="Times New Roman"/>
              </a:rPr>
              <a:t> postup umožňuje realizovat některé typy usuzování, v</a:t>
            </a:r>
            <a:r>
              <a:rPr b="0" lang="cs-CZ" sz="1800" spc="-1" strike="noStrike">
                <a:solidFill>
                  <a:srgbClr val="008000"/>
                </a:solidFill>
                <a:latin typeface="Tahoma"/>
              </a:rPr>
              <a:t>y</a:t>
            </a:r>
            <a:r>
              <a:rPr b="0" lang="cs-CZ" sz="1800" spc="-1" strike="noStrike">
                <a:solidFill>
                  <a:srgbClr val="008000"/>
                </a:solidFill>
                <a:latin typeface="Tahoma"/>
                <a:ea typeface="Times New Roman"/>
              </a:rPr>
              <a:t>hledávat důsledky</a:t>
            </a:r>
            <a:r>
              <a:rPr b="1" lang="cs-CZ" sz="1800" spc="-1" strike="noStrike">
                <a:solidFill>
                  <a:srgbClr val="008000"/>
                </a:solidFill>
                <a:latin typeface="Tahoma"/>
                <a:ea typeface="Times New Roman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049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990000"/>
                </a:solidFill>
                <a:latin typeface="Arial Narrow"/>
              </a:rPr>
              <a:t>Doplnění gramatiky o sémantickou interpretaci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609480"/>
            <a:ext cx="861048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8000"/>
                </a:solidFill>
                <a:latin typeface="Arial"/>
                <a:ea typeface="Arial"/>
              </a:rPr>
              <a:t>sentence(C)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--&gt;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determiner(N,M1,M2,C),noun(N,M1),verb_phrase(N,M2).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sentence ( (L:- true) 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--&gt; proper_noun(N,X), verb_phrase(N,X=&gt;L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verb_phrase(s,M)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--&gt; [is],property(s,M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verb_phrase(p,M)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--&gt; [are],property(p,M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property(s,M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--&gt; [a],noun(s,M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property(p,M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--&gt; noun(p,M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property(N,X =&gt; mortal(X)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--&gt; [mortal]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9999cc"/>
                </a:solidFill>
                <a:latin typeface="Arial"/>
                <a:ea typeface="Arial"/>
              </a:rPr>
              <a:t>determiner(s,X =&gt;B,X =&gt;H,(H:-B))</a:t>
            </a:r>
            <a:r>
              <a:rPr b="0" lang="en-US" sz="1700" spc="-1" strike="noStrike">
                <a:solidFill>
                  <a:srgbClr val="9999cc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9999cc"/>
                </a:solidFill>
                <a:latin typeface="Arial"/>
                <a:ea typeface="Arial"/>
              </a:rPr>
              <a:t>--&gt; [every]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9999cc"/>
                </a:solidFill>
                <a:latin typeface="Arial"/>
                <a:ea typeface="Arial"/>
              </a:rPr>
              <a:t>determiner(p,sk =&gt;H1,sk =&gt;H2,[(H1:-true),(H2:-true)])</a:t>
            </a:r>
            <a:r>
              <a:rPr b="0" lang="en-US" sz="1700" spc="-1" strike="noStrike">
                <a:solidFill>
                  <a:srgbClr val="9999cc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9999cc"/>
                </a:solidFill>
                <a:latin typeface="Arial"/>
                <a:ea typeface="Arial"/>
              </a:rPr>
              <a:t>--&gt; [some]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proper_noun(s, socrates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--&gt; [socrates]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oun (s,X =&gt; human(X)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--&gt; [human]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oun (p,X =&gt; human(X)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--&gt; [humans]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oun (s,X =&gt; living_being(X)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--&gt; [living], [being]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oun (p,X =&gt; living_being(X)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--&gt; [living], [beings]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8000"/>
                </a:solidFill>
                <a:latin typeface="Arial"/>
                <a:ea typeface="Arial"/>
              </a:rPr>
              <a:t>question (Q)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--&gt; [who], [is], property(s, X=&gt;Q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question (Q)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--&gt; [is], proper_noun(N,X), property(N, X=&gt;Q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question ( (Q1,Q2) )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--&gt;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[are], [some], noun(p, sk=&gt;Q1), property(p, sk=&gt;Q2) )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i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1" i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who is mortal?“, „is socrates mortal?“ ..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8000"/>
                </a:solidFill>
                <a:latin typeface="Arial Narrow"/>
              </a:rPr>
              <a:t>P</a:t>
            </a:r>
            <a:r>
              <a:rPr b="1" lang="cs-CZ" sz="3300" spc="-1" strike="noStrike">
                <a:solidFill>
                  <a:srgbClr val="008000"/>
                </a:solidFill>
                <a:latin typeface="Arial Narrow"/>
              </a:rPr>
              <a:t>rincip implementace rozhovoru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280" y="762120"/>
            <a:ext cx="87631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nl_shell(Rulebase) :- get_input(Input), handle_input( Input, Rulebase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handle_input( </a:t>
            </a:r>
            <a:r>
              <a:rPr b="0" lang="cs-CZ" sz="1700" spc="-1" strike="noStrike">
                <a:solidFill>
                  <a:srgbClr val="ff0000"/>
                </a:solidFill>
                <a:latin typeface="Arial"/>
                <a:ea typeface="Arial"/>
              </a:rPr>
              <a:t>stop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, Rulebase)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:- !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handle_input( </a:t>
            </a:r>
            <a:r>
              <a:rPr b="0" lang="cs-CZ" sz="1700" spc="-1" strike="noStrike">
                <a:solidFill>
                  <a:srgbClr val="ff0000"/>
                </a:solidFill>
                <a:latin typeface="Arial"/>
                <a:ea typeface="Arial"/>
              </a:rPr>
              <a:t>show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, Rulebase) :- !,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Arial"/>
              </a:rPr>
              <a:t>show_rules(Rulebase),nl_shell(Rulebase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handle_input( Sentence, Rulebase) :-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Arial"/>
              </a:rPr>
              <a:t>phrase(sentence(Rule), Sentence),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!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Arial"/>
              </a:rPr>
              <a:t>nl_shell( [Rule|Rulebase] ).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Arial"/>
              </a:rPr>
              <a:t>pridano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Arial"/>
              </a:rPr>
              <a:t>nove pravidlo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handle_input( Question, Rulebase) :-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phrase(question(Query), Question), </a:t>
            </a:r>
            <a:r>
              <a:rPr b="1" lang="cs-CZ" sz="1700" spc="-1" strike="noStrike">
                <a:solidFill>
                  <a:srgbClr val="008000"/>
                </a:solidFill>
                <a:latin typeface="Arial"/>
                <a:ea typeface="Arial"/>
              </a:rPr>
              <a:t>prove_rb(Query,Rulebase),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 !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cs-CZ" sz="1700" spc="-1" strike="noStrike">
                <a:solidFill>
                  <a:srgbClr val="008000"/>
                </a:solidFill>
                <a:latin typeface="Arial"/>
                <a:ea typeface="Arial"/>
              </a:rPr>
              <a:t>transform(Query, Clauses),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pouziti instance v odpovedi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phrase(sentence(Clauses), Answer), show_answer  (Answer)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nl_shell( Rulebase 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159480"/>
            <a:ext cx="820728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5560" y="1197000"/>
            <a:ext cx="8218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? [every,human,is,a,human].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? [socrates,is,a, human]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? [who, is, mortal].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!  [socrates,is,mortal]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living,beings,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,human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].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   show    ….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are,some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living,beings,mortal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].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  !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living,beings, are,mortal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]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685800"/>
            <a:ext cx="8229600" cy="24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Times New Roman"/>
                <a:ea typeface="新細明體"/>
              </a:rPr>
              <a:t>Jazyk a myšlení 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  <a:ea typeface="新細明體"/>
              </a:rPr>
              <a:t>spolu bezprost</a:t>
            </a:r>
            <a:r>
              <a:rPr b="0" lang="cs-CZ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ř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  <a:ea typeface="新細明體"/>
              </a:rPr>
              <a:t>edn</a:t>
            </a:r>
            <a:r>
              <a:rPr b="0" lang="cs-CZ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ě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  <a:ea typeface="新細明體"/>
              </a:rPr>
              <a:t> souvisejí. Co bylo d</a:t>
            </a:r>
            <a:r>
              <a:rPr b="0" lang="cs-CZ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ř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  <a:ea typeface="新細明體"/>
              </a:rPr>
              <a:t>ív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  <a:ea typeface="新細明體"/>
              </a:rPr>
              <a:t>Jsou lidé chyt</a:t>
            </a:r>
            <a:r>
              <a:rPr b="0" lang="cs-CZ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ř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  <a:ea typeface="新細明體"/>
              </a:rPr>
              <a:t>í, proto</a:t>
            </a:r>
            <a:r>
              <a:rPr b="0" lang="cs-CZ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ž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  <a:ea typeface="新細明體"/>
              </a:rPr>
              <a:t>e mají k myšlení dobrý n</a:t>
            </a:r>
            <a:r>
              <a:rPr b="0" lang="cs-CZ" sz="2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á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  <a:ea typeface="新細明體"/>
              </a:rPr>
              <a:t>stroj (jazyk)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Times New Roman"/>
                <a:ea typeface="新細明體"/>
              </a:rPr>
              <a:t>Vyvinul se jazyk u lidí proto, </a:t>
            </a:r>
            <a:r>
              <a:rPr b="0" lang="cs-CZ" sz="2000" spc="-1" strike="noStrike">
                <a:solidFill>
                  <a:srgbClr val="00007d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  <a:ea typeface="新細明體"/>
              </a:rPr>
              <a:t>e odpovídal pot</a:t>
            </a:r>
            <a:r>
              <a:rPr b="0" lang="cs-CZ" sz="2000" spc="-1" strike="noStrike">
                <a:solidFill>
                  <a:srgbClr val="00007d"/>
                </a:solidFill>
                <a:latin typeface="Times New Roman"/>
              </a:rPr>
              <a:t>ř</a:t>
            </a:r>
            <a:r>
              <a:rPr b="0" lang="en-US" sz="2000" spc="-1" strike="noStrike">
                <a:solidFill>
                  <a:srgbClr val="00007d"/>
                </a:solidFill>
                <a:latin typeface="Times New Roman"/>
                <a:ea typeface="新細明體"/>
              </a:rPr>
              <a:t>ebám jejich bystrého úsudku?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Times New Roman"/>
                <a:ea typeface="新細明體"/>
              </a:rPr>
              <a:t>Jerison (1991): </a:t>
            </a:r>
            <a:r>
              <a:rPr b="0" i="1" lang="en-US" sz="2000" spc="-1" strike="noStrike">
                <a:solidFill>
                  <a:srgbClr val="00007d"/>
                </a:solidFill>
                <a:latin typeface="Times New Roman"/>
                <a:ea typeface="新細明體"/>
              </a:rPr>
              <a:t>Vývoj lidského jazyka je d</a:t>
            </a:r>
            <a:r>
              <a:rPr b="0" i="1" lang="cs-CZ" sz="2000" spc="-1" strike="noStrike">
                <a:solidFill>
                  <a:srgbClr val="00007d"/>
                </a:solidFill>
                <a:latin typeface="Times New Roman"/>
              </a:rPr>
              <a:t>ů</a:t>
            </a:r>
            <a:r>
              <a:rPr b="0" i="1" lang="en-US" sz="2000" spc="-1" strike="noStrike">
                <a:solidFill>
                  <a:srgbClr val="00007d"/>
                </a:solidFill>
                <a:latin typeface="Times New Roman"/>
                <a:ea typeface="新細明體"/>
              </a:rPr>
              <a:t>sledkem po</a:t>
            </a:r>
            <a:r>
              <a:rPr b="0" i="1" lang="cs-CZ" sz="2000" spc="-1" strike="noStrike">
                <a:solidFill>
                  <a:srgbClr val="00007d"/>
                </a:solidFill>
                <a:latin typeface="Times New Roman"/>
              </a:rPr>
              <a:t>tř</a:t>
            </a:r>
            <a:r>
              <a:rPr b="0" i="1" lang="en-US" sz="2000" spc="-1" strike="noStrike">
                <a:solidFill>
                  <a:srgbClr val="00007d"/>
                </a:solidFill>
                <a:latin typeface="Times New Roman"/>
                <a:ea typeface="新細明體"/>
              </a:rPr>
              <a:t>eby lidí vytvá</a:t>
            </a:r>
            <a:r>
              <a:rPr b="0" i="1" lang="cs-CZ" sz="2000" spc="-1" strike="noStrike">
                <a:solidFill>
                  <a:srgbClr val="00007d"/>
                </a:solidFill>
                <a:latin typeface="Times New Roman"/>
              </a:rPr>
              <a:t>ř</a:t>
            </a:r>
            <a:r>
              <a:rPr b="0" i="1" lang="en-US" sz="2000" spc="-1" strike="noStrike">
                <a:solidFill>
                  <a:srgbClr val="00007d"/>
                </a:solidFill>
                <a:latin typeface="Times New Roman"/>
                <a:ea typeface="新細明體"/>
              </a:rPr>
              <a:t>et co nejp</a:t>
            </a:r>
            <a:r>
              <a:rPr b="0" i="1" lang="cs-CZ" sz="2000" spc="-1" strike="noStrike">
                <a:solidFill>
                  <a:srgbClr val="00007d"/>
                </a:solidFill>
                <a:latin typeface="Times New Roman"/>
              </a:rPr>
              <a:t>ř</a:t>
            </a:r>
            <a:r>
              <a:rPr b="0" i="1" lang="en-US" sz="2000" spc="-1" strike="noStrike">
                <a:solidFill>
                  <a:srgbClr val="00007d"/>
                </a:solidFill>
                <a:latin typeface="Times New Roman"/>
                <a:ea typeface="新細明體"/>
              </a:rPr>
              <a:t>esn</a:t>
            </a:r>
            <a:r>
              <a:rPr b="0" i="1" lang="cs-CZ" sz="2000" spc="-1" strike="noStrike">
                <a:solidFill>
                  <a:srgbClr val="00007d"/>
                </a:solidFill>
                <a:latin typeface="Times New Roman"/>
              </a:rPr>
              <a:t>ě</a:t>
            </a:r>
            <a:r>
              <a:rPr b="0" i="1" lang="en-US" sz="2000" spc="-1" strike="noStrike">
                <a:solidFill>
                  <a:srgbClr val="00007d"/>
                </a:solidFill>
                <a:latin typeface="Times New Roman"/>
                <a:ea typeface="新細明體"/>
              </a:rPr>
              <a:t>jší </a:t>
            </a:r>
            <a:r>
              <a:rPr b="1" i="1" lang="en-US" sz="2000" spc="-1" strike="noStrike">
                <a:solidFill>
                  <a:srgbClr val="00007d"/>
                </a:solidFill>
                <a:latin typeface="Times New Roman"/>
                <a:ea typeface="新細明體"/>
              </a:rPr>
              <a:t>kogntivní mapy svého okolí</a:t>
            </a:r>
            <a:r>
              <a:rPr b="0" i="1" lang="en-US" sz="2000" spc="-1" strike="noStrike">
                <a:solidFill>
                  <a:srgbClr val="00007d"/>
                </a:solidFill>
                <a:latin typeface="Times New Roman"/>
                <a:ea typeface="新細明體"/>
              </a:rPr>
              <a:t>. Šelmy k tomu ú</a:t>
            </a:r>
            <a:r>
              <a:rPr b="0" i="1" lang="cs-CZ" sz="2000" spc="-1" strike="noStrike">
                <a:solidFill>
                  <a:srgbClr val="00007d"/>
                </a:solidFill>
                <a:latin typeface="Times New Roman"/>
              </a:rPr>
              <a:t>č</a:t>
            </a:r>
            <a:r>
              <a:rPr b="0" i="1" lang="en-US" sz="2000" spc="-1" strike="noStrike">
                <a:solidFill>
                  <a:srgbClr val="00007d"/>
                </a:solidFill>
                <a:latin typeface="Times New Roman"/>
                <a:ea typeface="新細明體"/>
              </a:rPr>
              <a:t>elu pou</a:t>
            </a:r>
            <a:r>
              <a:rPr b="0" i="1" lang="cs-CZ" sz="2000" spc="-1" strike="noStrike">
                <a:solidFill>
                  <a:srgbClr val="00007d"/>
                </a:solidFill>
                <a:latin typeface="Times New Roman"/>
              </a:rPr>
              <a:t>ž</a:t>
            </a:r>
            <a:r>
              <a:rPr b="0" i="1" lang="en-US" sz="2000" spc="-1" strike="noStrike">
                <a:solidFill>
                  <a:srgbClr val="00007d"/>
                </a:solidFill>
                <a:latin typeface="Times New Roman"/>
                <a:ea typeface="新細明體"/>
              </a:rPr>
              <a:t>ívají </a:t>
            </a:r>
            <a:r>
              <a:rPr b="0" i="1" lang="cs-CZ" sz="2000" spc="-1" strike="noStrike">
                <a:solidFill>
                  <a:srgbClr val="00007d"/>
                </a:solidFill>
                <a:latin typeface="Times New Roman"/>
              </a:rPr>
              <a:t>č</a:t>
            </a:r>
            <a:r>
              <a:rPr b="0" i="1" lang="en-US" sz="2000" spc="-1" strike="noStrike">
                <a:solidFill>
                  <a:srgbClr val="00007d"/>
                </a:solidFill>
                <a:latin typeface="Times New Roman"/>
                <a:ea typeface="新細明體"/>
              </a:rPr>
              <a:t>ich – ten však u lidí není dostate</a:t>
            </a:r>
            <a:r>
              <a:rPr b="0" i="1" lang="cs-CZ" sz="2000" spc="-1" strike="noStrike">
                <a:solidFill>
                  <a:srgbClr val="00007d"/>
                </a:solidFill>
                <a:latin typeface="Times New Roman"/>
              </a:rPr>
              <a:t>č</a:t>
            </a:r>
            <a:r>
              <a:rPr b="0" i="1" lang="en-US" sz="2000" spc="-1" strike="noStrike">
                <a:solidFill>
                  <a:srgbClr val="00007d"/>
                </a:solidFill>
                <a:latin typeface="Times New Roman"/>
                <a:ea typeface="新細明體"/>
              </a:rPr>
              <a:t>n</a:t>
            </a:r>
            <a:r>
              <a:rPr b="0" i="1" lang="cs-CZ" sz="2000" spc="-1" strike="noStrike">
                <a:solidFill>
                  <a:srgbClr val="00007d"/>
                </a:solidFill>
                <a:latin typeface="Times New Roman"/>
              </a:rPr>
              <a:t>ě</a:t>
            </a:r>
            <a:r>
              <a:rPr b="0" i="1" lang="en-US" sz="2000" spc="-1" strike="noStrike">
                <a:solidFill>
                  <a:srgbClr val="00007d"/>
                </a:solidFill>
                <a:latin typeface="Times New Roman"/>
                <a:ea typeface="新細明體"/>
              </a:rPr>
              <a:t> vyvinut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3200400"/>
            <a:ext cx="7924680" cy="30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kusy realizova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新細明體"/>
              </a:rPr>
              <a:t>dialogové program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·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LIZ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Joseph Weizenbaum, MIT 1965): 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1"/>
              </a:rPr>
              <a:t>www.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2"/>
              </a:rPr>
              <a:t>rur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3"/>
              </a:rPr>
              <a:t>.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4"/>
              </a:rPr>
              <a:t>com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5"/>
              </a:rPr>
              <a:t>/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6"/>
              </a:rPr>
              <a:t>perlcode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7"/>
              </a:rPr>
              <a:t>/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8"/>
              </a:rPr>
              <a:t>doc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Jeden z nejznám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jších dialogových program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simulující roli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sychoterapeuta. Pracuje na principu srovnávání vzo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·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JULI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(Mauldin 199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·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IC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Chatterbot) 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9"/>
              </a:rPr>
              <a:t>http://www.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10"/>
              </a:rPr>
              <a:t>alicebot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11"/>
              </a:rPr>
              <a:t>.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12"/>
              </a:rPr>
              <a:t>org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13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rogram, který byl nejlepší v sout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ěž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 o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oebner Prize 2000 i 2001. Sout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ěž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však zatím nikdo nevyhrál.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L.A.U.D.I.O.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ybernetic Lifelike Android Used for Dialogue Interaction and Observation.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000000"/>
                </a:solidFill>
                <a:latin typeface="Arial Narrow"/>
              </a:rPr>
              <a:t>Problémy strojového překladu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514600" y="1066320"/>
            <a:ext cx="4229280" cy="914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pirit is high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but flesh is weak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286000" y="5409360"/>
            <a:ext cx="4572000" cy="838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lvl="1" marL="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odka is good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but meat is ro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29000" y="3581280"/>
            <a:ext cx="4860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29000" y="2209680"/>
            <a:ext cx="4860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29000" y="4952880"/>
            <a:ext cx="4860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000680" y="2856960"/>
            <a:ext cx="1143000" cy="571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000680" y="4190400"/>
            <a:ext cx="1143000" cy="571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-&gt;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9999cc"/>
                </a:solidFill>
                <a:latin typeface="Arial Narrow"/>
              </a:rPr>
              <a:t>Strojový překlad dn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437"/>
              </a:spcBef>
              <a:buClr>
                <a:srgbClr val="ffae5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Tahoma"/>
              </a:rPr>
              <a:t>Spirit is high but flesh is weak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437"/>
              </a:spcBef>
              <a:buClr>
                <a:srgbClr val="ffae5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Tahoma"/>
              </a:rPr>
              <a:t>精神是高的但骨肉是微弱的。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437"/>
              </a:spcBef>
              <a:buClr>
                <a:srgbClr val="ffae5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Tahoma"/>
              </a:rPr>
              <a:t>The spirit is high but the flesh and blood is weak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437"/>
              </a:spcBef>
              <a:buClr>
                <a:srgbClr val="ffae5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  <a:ea typeface="新細明體"/>
              </a:rPr>
              <a:t>这种精神是高但骨肉和血液微弱。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ae5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666699"/>
                </a:solidFill>
                <a:uFillTx/>
                <a:latin typeface="Tahoma"/>
                <a:hlinkClick r:id="rId1"/>
              </a:rPr>
              <a:t>http://www.</a:t>
            </a:r>
            <a:r>
              <a:rPr b="0" lang="cs-CZ" sz="1600" spc="-1" strike="noStrike" u="sng">
                <a:solidFill>
                  <a:srgbClr val="666699"/>
                </a:solidFill>
                <a:uFillTx/>
                <a:latin typeface="Tahoma"/>
                <a:hlinkClick r:id="rId2"/>
              </a:rPr>
              <a:t>altavista</a:t>
            </a:r>
            <a:r>
              <a:rPr b="0" lang="cs-CZ" sz="1600" spc="-1" strike="noStrike" u="sng">
                <a:solidFill>
                  <a:srgbClr val="666699"/>
                </a:solidFill>
                <a:uFillTx/>
                <a:latin typeface="Tahoma"/>
                <a:hlinkClick r:id="rId3"/>
              </a:rPr>
              <a:t>.</a:t>
            </a:r>
            <a:r>
              <a:rPr b="0" lang="cs-CZ" sz="1600" spc="-1" strike="noStrike" u="sng">
                <a:solidFill>
                  <a:srgbClr val="666699"/>
                </a:solidFill>
                <a:uFillTx/>
                <a:latin typeface="Tahoma"/>
                <a:hlinkClick r:id="rId4"/>
              </a:rPr>
              <a:t>com</a:t>
            </a:r>
            <a:r>
              <a:rPr b="0" lang="cs-CZ" sz="1600" spc="-1" strike="noStrike" u="sng">
                <a:solidFill>
                  <a:srgbClr val="666699"/>
                </a:solidFill>
                <a:uFillTx/>
                <a:latin typeface="Tahoma"/>
                <a:hlinkClick r:id="rId5"/>
              </a:rPr>
              <a:t>/help/</a:t>
            </a:r>
            <a:r>
              <a:rPr b="0" lang="cs-CZ" sz="1600" spc="-1" strike="noStrike" u="sng">
                <a:solidFill>
                  <a:srgbClr val="666699"/>
                </a:solidFill>
                <a:uFillTx/>
                <a:latin typeface="Tahoma"/>
                <a:hlinkClick r:id="rId6"/>
              </a:rPr>
              <a:t>free</a:t>
            </a:r>
            <a:r>
              <a:rPr b="0" lang="cs-CZ" sz="1600" spc="-1" strike="noStrike" u="sng">
                <a:solidFill>
                  <a:srgbClr val="666699"/>
                </a:solidFill>
                <a:uFillTx/>
                <a:latin typeface="Tahoma"/>
                <a:hlinkClick r:id="rId7"/>
              </a:rPr>
              <a:t>/</a:t>
            </a: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free_searchbox_tran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365960" y="4343400"/>
          <a:ext cx="1217520" cy="1447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365960" y="4343400"/>
                    <a:ext cx="121752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000000"/>
                </a:solidFill>
                <a:latin typeface="Arial Narrow"/>
              </a:rPr>
              <a:t>Počítače a přirozený jazyk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129528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si člověk zapamatovává informace</a:t>
            </a:r>
            <a:r>
              <a:rPr b="0" i="1" lang="cs-CZ" sz="2200" spc="-1" strike="noStrike">
                <a:solidFill>
                  <a:srgbClr val="000000"/>
                </a:solidFill>
                <a:latin typeface="Times New Roman"/>
              </a:rPr>
              <a:t> sdělované jazykem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slovně nebo jinak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nitřní reprezentac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iminuj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íceznačnost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vního vyjadření, která může bý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ffae5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Referenční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ednáška bude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zítří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”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– jeden z hlavních problémů NLP (anaphor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ffae5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Slovní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Rád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ím za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tipného člověk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”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ffae5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Strukturální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šichni kandidáti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ednesou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vé volební program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” versus “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ební programy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</a:t>
            </a:r>
            <a:r>
              <a:rPr b="1" i="1" lang="cs-CZ" sz="22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předneseny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šemi kandidát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88"/>
              </a:spcBef>
              <a:buClr>
                <a:srgbClr val="ffae5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n-US" sz="33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prezentace jazyka</a:t>
            </a:r>
            <a:r>
              <a:rPr b="1" lang="en-US" sz="33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cs-CZ" sz="33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1" lang="cs-CZ" sz="33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en-US" sz="33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mplicitní znalosti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1143000"/>
            <a:ext cx="84582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 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ám paměti i vyjadřování vede použití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ůz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ý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chnik odvozován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250"/>
              </a:spcBef>
              <a:buClr>
                <a:srgbClr val="ffae5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dukce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Spěchám (a proto nesním snídani, předbíhám v koupelně .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ae5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ukce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„Silnice je mokrá“,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 ...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e dveřmi mok se jeví krvavý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..“, „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mknu, aby zůstalo otevřeno!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ae5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kce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Každý, kdo se motá, je podroušený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3200400"/>
            <a:ext cx="8077320" cy="22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émy jazyk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ze chápat i jako jeho přednost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ae5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lmi rozmanitá skutečnost (nikoliv omezená a konečná) se popisuje pomocí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konečného”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boru symbolů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ae5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žit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zyk j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ký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mění a vyvíjí (např. vznik nových slov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ae5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zyk dává možnost pracovat 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icitními informacem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 tak sdělení má pro různé osoby rozdílý obsah: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o hodně ví, může si mnoho domysl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5715000"/>
            <a:ext cx="86104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tento probl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narážíme i při komunikaci v cizím jazy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taz: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Co je sen průměrného Čecha?”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pověď: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Mít pokoj!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14400" y="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000000"/>
                </a:solidFill>
                <a:latin typeface="Arial Narrow"/>
              </a:rPr>
              <a:t>Problémy NLP?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1066680"/>
            <a:ext cx="8686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ozumění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proces úpravy vstupních informací do tvaru, který je možno lépe využít pro další zpracování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leží tedy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na kontextu 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cíli!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táž věta může mít mnoho významů. 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Proto je porozumění v NLP tak těžké</a:t>
            </a:r>
            <a:r>
              <a:rPr b="0" lang="cs-CZ" sz="2400" spc="-1" strike="noStrike">
                <a:solidFill>
                  <a:srgbClr val="990000"/>
                </a:solidFill>
                <a:latin typeface="Times New Roman"/>
              </a:rPr>
              <a:t>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909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7d"/>
                </a:solidFill>
                <a:latin typeface="Times New Roman"/>
              </a:rPr>
              <a:t>Time flies like an arow</a:t>
            </a:r>
            <a:r>
              <a:rPr b="0" lang="cs-CZ" sz="2400" spc="-1" strike="noStrike">
                <a:solidFill>
                  <a:srgbClr val="00007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040" y="32767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Úspěch př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LP předpokládá použití bohatého kontextu, prostor pro experimentální prověření některých konceptů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gnitivní psych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502920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zy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á 2 složk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e jazy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ílová represent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émantik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-38088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vorb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nitřní reprezenta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685800"/>
            <a:ext cx="84582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250"/>
              </a:spcBef>
              <a:buClr>
                <a:srgbClr val="ffae5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usticko-fonetická analýz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řevádí sluchový vjem do tvaru řetězce (psaných) symbolů abecedy. Použité postupy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zpoznáván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250"/>
              </a:spcBef>
              <a:buClr>
                <a:srgbClr val="ffae5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fologicko-syntaktická analýza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věřuje, že jde o korektně utvořenou větu jazyka. Snaha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eliminovat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vět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terými jistě nemá smysl se zabývat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ae5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mantická analýz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hledání významu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, 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ř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ae5d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plnění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azeb mezi uvažovanými obj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ty a použit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ým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jme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y „Míč letěl na psa. Nakopl ho.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ae5d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iřazení (zobrazení) mezi nalezenými syntaktickými strukturami a objekty v uvažovaném prostředí (případně objekty v odp. bázi znalostí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ae5d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běr smysluplných korektně složených struktur z individuálních slov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ae5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azení do širšího kontextu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iscourse integr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etl jsem o tom finačním skandále v Lidových novinách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i="1" lang="cs-CZ" sz="2200" spc="-1" strike="noStrike">
                <a:solidFill>
                  <a:srgbClr val="000000"/>
                </a:solidFill>
                <a:latin typeface="Times New Roman"/>
              </a:rPr>
              <a:t>Jsem slušná řidička – každého pozdravím.“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ae5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gmatická analýza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ůžete mi podat sů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18:53:17Z</dcterms:created>
  <dc:creator>Lenka Novakova</dc:creator>
  <dc:description/>
  <dc:language>en-US</dc:language>
  <cp:lastModifiedBy>matousek</cp:lastModifiedBy>
  <dcterms:modified xsi:type="dcterms:W3CDTF">2008-04-22T10:27:51Z</dcterms:modified>
  <cp:revision>33</cp:revision>
  <dc:subject/>
  <dc:title>Umělá inteligence I.</dc:title>
</cp:coreProperties>
</file>