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441-3160-4EF3-9B2B-6C266536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8040" y="56563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99FC-E79E-4152-B539-AA231815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6662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03E-9BB6-4FF1-A653-0C08B143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26258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436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80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26258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46436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23CB-17E3-43C4-AF45-813544DD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7CB-00AB-4DEF-B5C9-9377D920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196F-461F-4323-86BC-8BEAFDCE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0769-35C9-4339-9450-BD62C09E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7387-3C78-4984-8281-AF4B009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BA5-727A-496B-8374-A3571233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28880" y="812520"/>
            <a:ext cx="55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028C-AA73-4DCA-878D-BD5EE09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74E6-2B93-4707-BB25-2B95C369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9B0-BE96-4A6F-BCE0-D24C7EF0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6662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48CC-D66B-413E-840C-C9E5FF59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E552-321A-49E5-9E54-0249BCF3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08040" y="56563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70F6-CAD7-4F88-A692-676E0FEE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6662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D947-2A74-46EF-8801-62C4D5CC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6258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43640" y="29527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080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6258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643640" y="5656320"/>
            <a:ext cx="192132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C71D-F94D-4270-BA7A-9D580C07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589-0CD7-4BD8-B237-55048E12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3D9-FAAD-4C70-8AA7-8B67976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0B0-F9B3-40D3-91E1-9ACF4900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28880" y="812520"/>
            <a:ext cx="55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2FE-BB56-4D2E-95A8-B62A694E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143-B521-449F-AAC2-19715E2E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666240" y="56563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7485-06C9-462C-81F6-68045F14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6240" y="2952720"/>
            <a:ext cx="291204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8040" y="5656320"/>
            <a:ext cx="59673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45F-8E06-41EF-AADE-F197216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0360"/>
            <a:ext cx="6686640" cy="8951400"/>
            <a:chOff x="0" y="90360"/>
            <a:chExt cx="6686640" cy="8951400"/>
          </a:xfrm>
        </p:grpSpPr>
        <p:grpSp>
          <p:nvGrpSpPr>
            <p:cNvPr id="1" name=""/>
            <p:cNvGrpSpPr/>
            <p:nvPr/>
          </p:nvGrpSpPr>
          <p:grpSpPr>
            <a:xfrm>
              <a:off x="0" y="90360"/>
              <a:ext cx="485640" cy="8951400"/>
              <a:chOff x="0" y="90360"/>
              <a:chExt cx="485640" cy="89514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889596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897228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0417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870516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86040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88009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775908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770220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85086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824148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80701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846396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78037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79182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833724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829260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742896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750528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75747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723816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1370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73339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629208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623520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70416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677520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66031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69973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63367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64512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687024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682560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599184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582048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566784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608688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604260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540504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548136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55515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521496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511308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53100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501768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475128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497340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8463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0204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45079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458388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6537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431748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42156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44125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7104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31416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41205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385380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8244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40759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34153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52944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39492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390456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30409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311724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1867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85048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9455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214956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209232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263232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246096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21942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23083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7273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68344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81908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89576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9656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62864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72404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51884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36656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11041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18044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124992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913320"/>
                <a:ext cx="485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81180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10083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71676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67212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545400"/>
                <a:ext cx="485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47240"/>
                <a:ext cx="485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9036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152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305640"/>
                <a:ext cx="485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426600"/>
                <a:ext cx="485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476280" y="433080"/>
              <a:ext cx="6210360" cy="2376720"/>
              <a:chOff x="476280" y="433080"/>
              <a:chExt cx="6210360" cy="2376720"/>
            </a:xfrm>
          </p:grpSpPr>
          <p:sp>
            <p:nvSpPr>
              <p:cNvPr id="101" name=""/>
              <p:cNvSpPr/>
              <p:nvPr/>
            </p:nvSpPr>
            <p:spPr>
              <a:xfrm>
                <a:off x="663120" y="433080"/>
                <a:ext cx="372600" cy="193428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76280" y="608760"/>
                <a:ext cx="4246920" cy="1036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75600" y="2359080"/>
                <a:ext cx="1105920" cy="4507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9720" y="2562120"/>
                <a:ext cx="4246920" cy="10368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607680" y="849780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2349360" y="8502480"/>
            <a:ext cx="23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4941360" y="8502480"/>
            <a:ext cx="1646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3BB-710E-4509-BD08-D642D150F8D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90360"/>
            <a:ext cx="6508440" cy="8951400"/>
            <a:chOff x="0" y="90360"/>
            <a:chExt cx="6508440" cy="8951400"/>
          </a:xfrm>
        </p:grpSpPr>
        <p:sp>
          <p:nvSpPr>
            <p:cNvPr id="147" name=""/>
            <p:cNvSpPr/>
            <p:nvPr/>
          </p:nvSpPr>
          <p:spPr>
            <a:xfrm>
              <a:off x="823680" y="1044360"/>
              <a:ext cx="5684760" cy="19814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90360"/>
              <a:ext cx="742680" cy="8951400"/>
              <a:chOff x="0" y="90360"/>
              <a:chExt cx="742680" cy="895140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889596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897228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90417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870516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86040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88009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775908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770220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85086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824148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80701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846396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78037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79182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833724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829260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742896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750528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75747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723816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71370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73339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629208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623520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70416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677520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66031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69973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63367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64512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87024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682560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99184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82048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566784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608688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604260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540504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548136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55515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521496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511308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53100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501768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475128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497340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48463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480204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45079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458388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46537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431748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42156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44125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7104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1416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41205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85380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68244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40759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4153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52944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39492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90456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30409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311724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1867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85048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9455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14956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09232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263232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246096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21942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23083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7273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68344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81908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89576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9656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62864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72404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51884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36656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041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18044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124992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913320"/>
                <a:ext cx="74268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81180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10083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71676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67212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45400"/>
                <a:ext cx="74268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47240"/>
                <a:ext cx="74268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9036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9152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305640"/>
                <a:ext cx="74268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426600"/>
                <a:ext cx="74268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041120" y="847692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2792160" y="8476920"/>
            <a:ext cx="1703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4847760" y="8481600"/>
            <a:ext cx="143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A8CC-302A-4D66-886B-B2DEFE26FCC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878040" y="1395000"/>
            <a:ext cx="5580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63680" y="2827440"/>
            <a:ext cx="4246560" cy="104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24040" y="1149480"/>
            <a:ext cx="4246560" cy="102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78040" y="1395000"/>
            <a:ext cx="55800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enerování odpověd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680" y="3592440"/>
            <a:ext cx="510552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Karel Tauš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y systémů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Store-and-forward systém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očet generovaných odpovědí není velký a odpovědi předem znám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Odpovědi nahrané jako celek nebo předdefinované jednotky (slova či menší) - spojování jednotek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ompre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Nevýhoda: aktualizace jednotek (stejný řečník, stejné podmínky, jinak celá databáz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y systémů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ednoduchý systém – založen na stavovém automatu, v každém stavu se generuje posloupnost indexů jednotek, které se mají spoj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ř.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. Chtěl bych jet do Berlína ve středu 28. červ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. Chtěl bych jet do Berlí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y systémů (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ro každý stav musí návrhář zvážit všechny možnosti, které mohou nastat a připravit indexy pro odpověd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2. typ – systémy generující odpovědi na základě konceptuální reprezentac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evádí koncept na formu pro syntetizér (často text pak TTS)  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rován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Obecně generování pomocí         2 komponent (každá má KS+rozhodovací strategie)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oncept generátor (doménové a komunikační znalosti, rozhodovací strategie založeny na inferenčním mechanismu produkujícím koncep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ext generátor (lingvistické znalosti, rozhodovací strategie většinou kompozitní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3 typy architektu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zódie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rozodické prvky: tempo řeči, accent, vkládání pauz, délka pauz, ... vhodné začleni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: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: Chtěl bych jet do Paříže ve středu 28. června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: Chcete je do stanice Petrovice. V kolik?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: Chci jet do Paříže v 9 hod.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: Odjezd Praha_holešovice 06.31,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říjezd +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[P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aříž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]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21.0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zódie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: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: Můžete mi říci něco o letu BI dva – osm – šest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: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-[dva-osm-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] p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řistává ve 2 hodin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: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: V kolik přiletí BI pět-osm-čtyři z Turin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: z Turina přiletí let ++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[p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ět-sedm-devět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 ve 3 hodin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Categorial Grammar (CG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alá množina základních kategorií N, NP, 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ravidla pro vytváření komplexních kategorií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Y Y -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gt; X   (FF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 Y\X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gt; X   (BFA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.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Jan      jde.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NP   NP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\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       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ubkategorizace a sig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ubkategorizace poskytuje lexikální specifikaci lokálního kontextu predikátu ve frázi, umožňuje odkazovat na sémantiku argumentů predikát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 sloveso prodávat subkategorizuje na 2 jmené fráze (kdo a co prodává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základem je pojem sig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fikace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nifikace – kombinace informace ze dvou feature-structure (struktur rysů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edn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á se o monotónní operaci (všechna původní informace zachována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atributy feature-structure se definují tzv. cestou: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lt;agreement, number&gt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ifikace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FA mechanismus u CG (FFA, BFA) lze rovněž považovat za spojení syntaktické valence, ale není monotónn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    street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NP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\N      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FFA)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N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Úvo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Komunikace přirozenou řeč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  Informační D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informace o dopravě – vlaky, letové řád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CIC – city information centre – informace o místní dopravě, institucích, ubytování, kultuře, 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G (1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CG (Unification categorial grammar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) – založen na CG, sign a unifikac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Definice kategorií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rimitivní kategorie N, NP, 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každá primitivní kategorie je kategori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okud X je kategorie a E sign, pak X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/E je kategori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G (</a:t>
            </a: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základní operace FA je daleko více propracovan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v některé literatuře je pořadí funktoru a jeho argumentů definováno pomocí „slash“ symbolu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“ ortografická podoba funktoru se generuje před jeho argu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„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\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“ortografická podoba funktoru se generuj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za 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argu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PSG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GPSG – Generalized Phrase Structure gramm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yntaktické kategorie definovány jako množiny feature-structur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atributy struktury mohou mít hodnoty atomické nebo opět syntaktické kategor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features mají svojí domén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PSG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GPSG založeno na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ID-r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LP-r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etar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Feature Instantiation Princip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ID-rule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Cat0 </a:t>
            </a:r>
            <a:r>
              <a:rPr b="0" lang="cs-CZ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{Cat1, ..., CatN}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P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-rul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(omezuje v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šechny LP)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t1 &lt; Cat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PSG (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metarules – relace mezi množinou ID-ru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ro každé metapravidlo definována vstupní a výstupní  šablo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eature Instantion Principles se pou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žívají pro detailnější specifikaci kategorií a jejich vztahů, Př. FC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losofický příst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eorie – řečník realizuje alespoň 3 různé typy lingvistických akcí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locutory –produkce jednotek (slov,..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illocutory – vyjádření záměr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perlocutory – reprezentace výsledku promluv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generování řízeno konceptuální reprezentací složené z dialogových akcí </a:t>
            </a: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p</a:t>
            </a:r>
            <a:r>
              <a:rPr b="0" lang="de-DE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ánování lingvist. akc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2 typy illocutory v Allen a Perraul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INFORM – pro deklarativní příkaz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REQUEST – pro otázk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DIAL přístup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lánovač dialog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určí komunikační účel odpovědi a schématický konceptuální obsa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aložen na dialogovém modelu strukturovaném do výměn promluv, zásahů a dialogových akc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generuje množinu možných „tahů“ systému s odkazem do belief model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DIAL přístup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lánovač promluv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řipraví detailní sémantický popis odpovědi na základě stavu belief modelu (UFO objekty představující doménové znalosti a kontext dialogu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řevádí množinu „tahů“ na lingvistickou reprezentaci promluvy – opět UF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DIAL přístup (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Lingvistický generáto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na základě UFO vygeneruje ortografickou formu promluv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oužívá UCG lexicon grammar – UCG aparát pro lexikálně gramatickou reprezentaci, lexikon obsahuje lexikální prvky indexované na základě sémantického typ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UCG propracované dir,adj,o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DIAL přístup (4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lexikon definován na základě jazyka DAT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informace v DATR síť uzl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každý uzel odpovídá slovu, lexému nebo třídě lexem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DATR zkompilován offlin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1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Dialog – 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- B - A 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málo překryvů, méně u HC komunikace, lze zpracováv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Návrh DS – modelování dialogu, co nejpřesněj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Reálné chování systému a uživatele nelze však pozorovat, dokud není systém hotov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začarovaný kruh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 jak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řešit ??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NDIAL přístup (5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algoritmus generování založen na hledání lexical pivot a rekurzivním generování jeho argument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ivot je lexikální kandidát, jehož sémantika odpovídá sémantice vstupního UF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výběrem podle sémantiky může dojít k porušení syntaktické koherence – proto rais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yklace promluv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užití předchozích promluv (uložených v lingvistické historii) při generován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vě podmínky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ybírá se položka nedávno vygenerovaná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aximalizovat použití již vygenerovanou struktur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hrnut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Nedostatečný výzkum v oblasti generován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Dialogové systémy obvykle jednoduché, generování na základě předdefinovaných jednotek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Existují sofistifikovanější systémy – TENDUM  (GPSG), SUNDIAL (UCG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???? pro češtin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2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ešení: simulace dialog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WOZ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DS musí být přátelský, pokud neumí odpovědět, směruje dotaz na osobu, musí spolupracova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ro kooperativní DS nutný návrh interaktivního strukturovaného modelu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lingvistická struk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belief struktura (concept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intenzionální struktur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ruktura dialogu + task struktu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3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Role intenzionální a lingvistické struktury určuje 2 přístupy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plan-based – modelování uživ. záměrů, vychází z psychologie – komunikace je akce – modelují se plány dialogu soustředící se na komunikační akce (intenzionální přístup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trukturní přístup – založen na gramatice či SD, promluvy interpretovány na základě lingvistické struktury, založeno na myšlence, že existuje regulá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í struktura dialogu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4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DS a user vytváří discourse mod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odpovědi musí být relevantní          k tomu, co se řekl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nutno pracovat s kontextem dialogu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Př.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U: Chci jet do Londýna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S: Chcete jet do Londýna. V kolik?</a:t>
            </a:r>
            <a:br>
              <a:rPr sz="2800"/>
            </a:b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U: Ne Londýn, Lut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5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navíc uživatel nemluví o faktech zřejmých z kontext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 den odjezdu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belief  (discourse) model – repositář sémantické znalost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+ lingvistická historie (vyslovené promluvy) – lze použít pro recyklaci odpovědí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zodpovědný - D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6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IL – sémantická reprezentace ve dvou úrovních detailu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lingvistická úroveň – komplexní sémantická reprezenta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task úroveň – struktura obsahuje jen podstatná data pro back-end aplikaci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hierarchie typů, každý typ několik rolí (atomické či komplexní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28880" y="812520"/>
            <a:ext cx="5533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Řízení odpovědí (7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8040" y="2952720"/>
            <a:ext cx="596736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SIL – reprezentace jen podstatného (v doméně) – výhoda pro parser – nesprávné, eliptické, anaforické promluv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reprezentace pomocí UF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více vět MUF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Př. </a:t>
            </a:r>
            <a:br>
              <a:rPr sz="3200"/>
            </a:br>
            <a:r>
              <a:rPr b="0" lang="cs-CZ" sz="3200" spc="-1" strike="noStrike">
                <a:solidFill>
                  <a:srgbClr val="003366"/>
                </a:solidFill>
                <a:latin typeface="Times New Roman"/>
              </a:rPr>
              <a:t>Not London, Luto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12:35:16Z</dcterms:created>
  <dc:creator>Karel Tauser</dc:creator>
  <dc:description/>
  <dc:language>en-US</dc:language>
  <cp:lastModifiedBy>matousek</cp:lastModifiedBy>
  <dcterms:modified xsi:type="dcterms:W3CDTF">2003-05-06T10:27:09Z</dcterms:modified>
  <cp:revision>39</cp:revision>
  <dc:subject/>
  <dc:title>Rigorózní práce</dc:title>
</cp:coreProperties>
</file>