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38120" y="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93400" y="685800"/>
            <a:ext cx="47754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99172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3812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AECD-97F3-41CE-8919-9867FE2E2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0C1C-E26F-4D1F-80B1-1A17704842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C0C8-5002-4F80-BF36-3C3C1365AC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alog Manager for robust and quick dialog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B3E-DE83-4E3B-A8F6-E37B780C98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3D30-C79C-4D08-AB87-71424714D0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996C-0C2B-4938-ABFF-5B55A1FC18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38480" y="899172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C685-E010-4B0D-85D3-A9C08F2683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775400" cy="3581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90360" y="4495680"/>
            <a:ext cx="518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46B-0CEB-49AE-B1AB-DE3F9993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48A-8632-4464-852D-547D925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01A9-AD88-49CC-9DA5-230752E5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924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83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924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83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A9D-F556-40ED-990A-F9956B987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7960-4096-470C-88BF-0BBF77FE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6185-E009-41B5-A7C1-A2BE5702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5D1-D0ED-4F18-AE3A-8055D0C9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A6E-D253-43B1-8E09-01DA73A0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C26D-FD77-4E3B-9EE9-A32C062A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562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EF5-2648-42DA-A997-3702F54B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8F8F-C9FA-44A8-BCEE-C4367D7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B58-73FC-4270-A7AB-FE9066ED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58F2-D918-4D75-9202-D80E4904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2AE5-AE5A-413E-AB61-F4532B54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A299-E201-4268-B790-FE3E970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0FCE-5DF4-4C55-9732-D8ABDBD5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924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160020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05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924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967920"/>
            <a:ext cx="276048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52C8-30C1-42B1-B909-D808F2EC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280C-B110-444F-A45A-3218F3F9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48D-4583-49DA-B1AC-BDCF6F3D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FE4-13BE-43A4-AB62-897CCEF2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5629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960-BCA6-4EA5-83E5-72BDB819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3FA-6872-4150-8E59-208EBA6C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3960" y="396792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0B8-4C4C-41A2-A2CE-14F226BE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591480"/>
            <a:ext cx="8562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3960" y="1600200"/>
            <a:ext cx="41839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967920"/>
            <a:ext cx="8574120" cy="21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92DA-273C-4CB2-8E1A-070B9A3C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52BC-AA98-475E-9458-E694D9CF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B559-84E4-4D0D-BCE8-E22AEC63E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" name="Picture 15" descr="cmu"/>
          <p:cNvPicPr/>
          <p:nvPr/>
        </p:nvPicPr>
        <p:blipFill>
          <a:blip r:embed="rId2"/>
          <a:stretch/>
        </p:blipFill>
        <p:spPr>
          <a:xfrm>
            <a:off x="7072200" y="0"/>
            <a:ext cx="2057400" cy="289080"/>
          </a:xfrm>
          <a:prstGeom prst="rect">
            <a:avLst/>
          </a:prstGeom>
          <a:ln w="0">
            <a:noFill/>
          </a:ln>
        </p:spPr>
      </p:pic>
      <p:sp>
        <p:nvSpPr>
          <p:cNvPr id="7" name="Text Box 16"/>
          <p:cNvSpPr/>
          <p:nvPr/>
        </p:nvSpPr>
        <p:spPr>
          <a:xfrm>
            <a:off x="1440" y="2052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Language Technologies Institu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18" descr="cmu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89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9"/>
          <p:cNvSpPr/>
          <p:nvPr/>
        </p:nvSpPr>
        <p:spPr>
          <a:xfrm>
            <a:off x="1440" y="20520"/>
            <a:ext cx="26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Language Technologies Institu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102C-E9BE-4955-8550-27CB6643C38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1625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lexible Dialog Management </a:t>
            </a:r>
            <a:br>
              <a:rPr sz="4000"/>
            </a:b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or In-vehicle Dialog System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ongwoo K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ko@cs.cm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C8A7-A56F-44BA-90B1-24850BF755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r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-user/multi-dialo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Keep track of user session and dialog flows for smooth task switch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Convert user utterances to database qu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-initiative inte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Create VoiceXML with dynamic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&gt; Hard to write VoiceXML by h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=&gt; Provide abstract level of dialog description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9E94-9837-455C-AD78-3E6DC16B1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Dialog Descrip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enarioTemplate (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esigned to facilitate new dialog cre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nsist of prompts an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=&gt; Dialog designer does not have to know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upport explicit/implicit 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iled into S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ScenarioXML (SXM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nsist of dialog states and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ialog developers need to know grammar, but 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 have to add other dialogs for dialog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iled into JSP to create VXML with dynamic con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1DEB-8A4C-4B95-9630-30AF6F3A46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Example of ST and SXML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63480"/>
            <a:ext cx="380988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variabl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area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date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weather_result: Str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&lt;states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area and da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area weather_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are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prompt: please tell me the date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variable: weather_da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confirmation: Would you like to know the weather for weather_area weather_date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宋体"/>
              </a:rPr>
              <a:t>response: The weather for weather_date weather_area is weather_result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609440" y="1461600"/>
            <a:ext cx="4287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!DOCTYPE function SYSTEM "dtd/function.dt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unction name="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" position="star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grammar src="grammars/ask_weather_jp.gad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text&gt;Please tell me the area and date&lt;/tex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area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dat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confirm_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default&gt;Can you tell me again?&lt;/defa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_area" position="transi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function&gt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380880" y="2057400"/>
            <a:ext cx="8229600" cy="3429000"/>
            <a:chOff x="380880" y="2057400"/>
            <a:chExt cx="8229600" cy="3429000"/>
          </a:xfrm>
        </p:grpSpPr>
        <p:sp>
          <p:nvSpPr>
            <p:cNvPr id="176" name="Rectangle 11"/>
            <p:cNvSpPr/>
            <p:nvPr/>
          </p:nvSpPr>
          <p:spPr>
            <a:xfrm>
              <a:off x="380880" y="2819520"/>
              <a:ext cx="3505320" cy="5331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Line 9"/>
            <p:cNvSpPr/>
            <p:nvPr/>
          </p:nvSpPr>
          <p:spPr>
            <a:xfrm flipV="1">
              <a:off x="3886200" y="2209320"/>
              <a:ext cx="914400" cy="68580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4800600" y="2057400"/>
              <a:ext cx="3809880" cy="34290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19"/>
          <p:cNvGrpSpPr/>
          <p:nvPr/>
        </p:nvGrpSpPr>
        <p:grpSpPr>
          <a:xfrm>
            <a:off x="380880" y="3429000"/>
            <a:ext cx="8382240" cy="2666880"/>
            <a:chOff x="380880" y="3429000"/>
            <a:chExt cx="8382240" cy="2666880"/>
          </a:xfrm>
        </p:grpSpPr>
        <p:sp>
          <p:nvSpPr>
            <p:cNvPr id="180" name="Rectangle 15"/>
            <p:cNvSpPr/>
            <p:nvPr/>
          </p:nvSpPr>
          <p:spPr>
            <a:xfrm>
              <a:off x="380880" y="3429000"/>
              <a:ext cx="3505320" cy="5335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16"/>
            <p:cNvSpPr/>
            <p:nvPr/>
          </p:nvSpPr>
          <p:spPr>
            <a:xfrm>
              <a:off x="3886200" y="3733920"/>
              <a:ext cx="914400" cy="1981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7"/>
            <p:cNvSpPr/>
            <p:nvPr/>
          </p:nvSpPr>
          <p:spPr>
            <a:xfrm>
              <a:off x="4800600" y="5486400"/>
              <a:ext cx="3962520" cy="609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4AE1-5979-4A49-B677-E8638EFC65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Example of SXML and VoiceXML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04920" y="1371600"/>
            <a:ext cx="41148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266040" y="1447560"/>
            <a:ext cx="428796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!DOCTYPE function SYSTEM "dtd/function.dtd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unction name="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" position="start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grammar src="grammars/ask_weather_jp.gad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text&gt;Please tell me the area and date&lt;/tex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area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ask_weather_date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nextstate next="confirm_weather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area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field&gt;weather_date&lt;/fiel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next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default&gt;Can you tell me again?&lt;/defa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jump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stat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name="ask_weather_area" position="transi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stat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宋体"/>
              </a:rPr>
              <a:t>&lt;/function&gt;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80880" y="2057400"/>
            <a:ext cx="3810240" cy="3429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4191120" y="3809880"/>
            <a:ext cx="53316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724280" y="1371600"/>
            <a:ext cx="41148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4724280" y="1629360"/>
            <a:ext cx="41148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?xml version="1.0" encoding="UTF-8" ?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xm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version="2.0" xmlns="http://www.w3.org/2001/vxml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orm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property name="message" value="'SessionID=99 IP=127.0.0.1 PORT=1001 COM=GRAMMAR PARAM=C:\CAMMIA\grammars/;enter_direction_jp.gad;enter_parking_jp.gad;enter_restaurant_jp.gad;cancel_jp.gad;ask_weather_jp.gad;Correction.gad'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block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Please tell me the area and date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prompt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block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intention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area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eld name="weather_date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 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filled namelist="weather_intention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if cond="(weather_date!=undefined)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submit namelist="recog_result weather_date"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next="ask_weather_area.jsp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/if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if cond="(weather_area!=undefined)"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submit namelist="recog_result weather_area"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next="ask_weather_date.jsp" /&gt;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 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/if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filled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 …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lt;/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vxml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宋体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AutoShape 21"/>
          <p:cNvSpPr/>
          <p:nvPr/>
        </p:nvSpPr>
        <p:spPr>
          <a:xfrm>
            <a:off x="5715000" y="3236760"/>
            <a:ext cx="3276720" cy="641520"/>
          </a:xfrm>
          <a:prstGeom prst="wedgeRectCallout">
            <a:avLst>
              <a:gd name="adj1" fmla="val -64717"/>
              <a:gd name="adj2" fmla="val 55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parking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restaurant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eld name=“direction_intention" 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22"/>
          <p:cNvSpPr/>
          <p:nvPr/>
        </p:nvSpPr>
        <p:spPr>
          <a:xfrm>
            <a:off x="5638680" y="5334120"/>
            <a:ext cx="3353040" cy="641520"/>
          </a:xfrm>
          <a:prstGeom prst="wedgeRectCallout">
            <a:avLst>
              <a:gd name="adj1" fmla="val -64532"/>
              <a:gd name="adj2" fmla="val 7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filled namelist=“direction_intention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goto next="ask_direction.jsp"/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  <a:ea typeface="宋体"/>
              </a:rPr>
              <a:t>&lt;/filled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B0EC-94D1-44E3-9A49-32B1154D5E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ScenarioTemplate Format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templat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s&gt;&lt;stat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variables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variabl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statename&gt;_&lt;id&gt;:&lt;typ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name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letter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id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letter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typ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String|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letter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a|b|c|d|e|f|g|h|i|j|k|l|m|n|o|p|q|r|s|t|u|v|w|x|y|z|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A|B|C|D|E|F|G|H|I|J|K|L|M|N|O|P|Q|R|S|T|U|V|W|X|Y|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s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state+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stat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{&lt;question+&gt;&lt;confirmation&gt;&lt;response&gt;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question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variable+&gt;&lt;prompt&gt;&lt;back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prompt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{ &lt;letter&gt; | &lt;variable&gt; | " "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backprompt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confirmation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&lt;response&gt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::= &lt;promp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76C9-DF45-4CB9-934F-658AE7A11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ScenarioXML DTD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1304640"/>
            <a:ext cx="857412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unction (state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function name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state (grammar?, result*, prompt?, backprompt?, filled?, jump?, nofound?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state name CDATA #REQUI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osition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grammar EMPT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grammar src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result (field*, list*, param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result class CDATA #REQUI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thod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ield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lis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field condition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param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prompt AN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tex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backprompt AN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filled (field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jump (nextstate*, default?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nextstate (field*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nextstate next CDATA #REQUIR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default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ATTLIST default next CDATA #IMPLIED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!ELEMENT nofound (#PCDATA)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94A-5DD5-4202-95C2-F09F4D16B3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SXML Development Kit (SXMLDK)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wo-step compilation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XMLD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1600200" y="2209680"/>
            <a:ext cx="472428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057400" y="2270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cenarioXML Development K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" name="Group 27"/>
          <p:cNvGrpSpPr/>
          <p:nvPr/>
        </p:nvGrpSpPr>
        <p:grpSpPr>
          <a:xfrm>
            <a:off x="3048120" y="2819520"/>
            <a:ext cx="1600200" cy="761760"/>
            <a:chOff x="3048120" y="2819520"/>
            <a:chExt cx="1600200" cy="761760"/>
          </a:xfrm>
        </p:grpSpPr>
        <p:sp>
          <p:nvSpPr>
            <p:cNvPr id="206" name="AutoShape 6"/>
            <p:cNvSpPr/>
            <p:nvPr/>
          </p:nvSpPr>
          <p:spPr>
            <a:xfrm>
              <a:off x="3048120" y="2819520"/>
              <a:ext cx="1600200" cy="76176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327672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T Compil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" name="Oval 9"/>
          <p:cNvSpPr/>
          <p:nvPr/>
        </p:nvSpPr>
        <p:spPr>
          <a:xfrm>
            <a:off x="228600" y="3124080"/>
            <a:ext cx="121932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7040" y="3124080"/>
            <a:ext cx="109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cenario Templ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Line 11"/>
          <p:cNvSpPr/>
          <p:nvPr/>
        </p:nvSpPr>
        <p:spPr>
          <a:xfrm flipV="1">
            <a:off x="1447920" y="3200040"/>
            <a:ext cx="15238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048120" y="5410080"/>
            <a:ext cx="1600200" cy="7621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035160" y="5454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SXML Compi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Line 18"/>
          <p:cNvSpPr/>
          <p:nvPr/>
        </p:nvSpPr>
        <p:spPr>
          <a:xfrm>
            <a:off x="1600200" y="3886200"/>
            <a:ext cx="464832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Line 19"/>
          <p:cNvSpPr/>
          <p:nvPr/>
        </p:nvSpPr>
        <p:spPr>
          <a:xfrm>
            <a:off x="1600200" y="5105520"/>
            <a:ext cx="4648320" cy="0"/>
          </a:xfrm>
          <a:prstGeom prst="line">
            <a:avLst/>
          </a:prstGeom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35"/>
          <p:cNvGrpSpPr/>
          <p:nvPr/>
        </p:nvGrpSpPr>
        <p:grpSpPr>
          <a:xfrm>
            <a:off x="3200400" y="3733920"/>
            <a:ext cx="1447920" cy="1143000"/>
            <a:chOff x="3200400" y="3733920"/>
            <a:chExt cx="1447920" cy="1143000"/>
          </a:xfrm>
        </p:grpSpPr>
        <p:sp>
          <p:nvSpPr>
            <p:cNvPr id="216" name="Line 15"/>
            <p:cNvSpPr/>
            <p:nvPr/>
          </p:nvSpPr>
          <p:spPr>
            <a:xfrm>
              <a:off x="3886200" y="3733920"/>
              <a:ext cx="0" cy="3812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7" name="Group 33"/>
            <p:cNvGrpSpPr/>
            <p:nvPr/>
          </p:nvGrpSpPr>
          <p:grpSpPr>
            <a:xfrm>
              <a:off x="3200400" y="4191120"/>
              <a:ext cx="1447920" cy="685800"/>
              <a:chOff x="3200400" y="4191120"/>
              <a:chExt cx="1447920" cy="685800"/>
            </a:xfrm>
          </p:grpSpPr>
          <p:sp>
            <p:nvSpPr>
              <p:cNvPr id="218" name="Oval 16"/>
              <p:cNvSpPr/>
              <p:nvPr/>
            </p:nvSpPr>
            <p:spPr>
              <a:xfrm>
                <a:off x="3200400" y="4191120"/>
                <a:ext cx="1447920" cy="685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3200400" y="4343760"/>
                <a:ext cx="1447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ScenarioXML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20" name="Oval 21"/>
          <p:cNvSpPr/>
          <p:nvPr/>
        </p:nvSpPr>
        <p:spPr>
          <a:xfrm>
            <a:off x="6629400" y="4648320"/>
            <a:ext cx="9144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22"/>
          <p:cNvSpPr/>
          <p:nvPr/>
        </p:nvSpPr>
        <p:spPr>
          <a:xfrm flipV="1">
            <a:off x="4800600" y="50288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23"/>
          <p:cNvSpPr/>
          <p:nvPr/>
        </p:nvSpPr>
        <p:spPr>
          <a:xfrm>
            <a:off x="6629400" y="472932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JSP fi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" name="Group 34"/>
          <p:cNvGrpSpPr/>
          <p:nvPr/>
        </p:nvGrpSpPr>
        <p:grpSpPr>
          <a:xfrm>
            <a:off x="1600200" y="4191120"/>
            <a:ext cx="4648320" cy="686880"/>
            <a:chOff x="1600200" y="4191120"/>
            <a:chExt cx="4648320" cy="686880"/>
          </a:xfrm>
        </p:grpSpPr>
        <p:sp>
          <p:nvSpPr>
            <p:cNvPr id="224" name="Oval 24"/>
            <p:cNvSpPr/>
            <p:nvPr/>
          </p:nvSpPr>
          <p:spPr>
            <a:xfrm>
              <a:off x="1676520" y="4192560"/>
              <a:ext cx="1447920" cy="685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1600200" y="4343400"/>
              <a:ext cx="152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Dialog Nam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Oval 31"/>
            <p:cNvSpPr/>
            <p:nvPr/>
          </p:nvSpPr>
          <p:spPr>
            <a:xfrm>
              <a:off x="4800600" y="4191120"/>
              <a:ext cx="1447920" cy="685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Text Box 32"/>
            <p:cNvSpPr/>
            <p:nvPr/>
          </p:nvSpPr>
          <p:spPr>
            <a:xfrm>
              <a:off x="4724640" y="4341600"/>
              <a:ext cx="1523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Gramma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8" name="Group 38"/>
          <p:cNvGrpSpPr/>
          <p:nvPr/>
        </p:nvGrpSpPr>
        <p:grpSpPr>
          <a:xfrm>
            <a:off x="2743200" y="4952880"/>
            <a:ext cx="2209320" cy="380880"/>
            <a:chOff x="2743200" y="4952880"/>
            <a:chExt cx="2209320" cy="380880"/>
          </a:xfrm>
        </p:grpSpPr>
        <p:sp>
          <p:nvSpPr>
            <p:cNvPr id="229" name="Line 14"/>
            <p:cNvSpPr/>
            <p:nvPr/>
          </p:nvSpPr>
          <p:spPr>
            <a:xfrm>
              <a:off x="3885840" y="4952880"/>
              <a:ext cx="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26"/>
            <p:cNvSpPr/>
            <p:nvPr/>
          </p:nvSpPr>
          <p:spPr>
            <a:xfrm>
              <a:off x="2743200" y="4952880"/>
              <a:ext cx="838080" cy="304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37"/>
            <p:cNvSpPr/>
            <p:nvPr/>
          </p:nvSpPr>
          <p:spPr>
            <a:xfrm flipH="1">
              <a:off x="4190760" y="4952880"/>
              <a:ext cx="761760" cy="3049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Oval 39"/>
          <p:cNvSpPr/>
          <p:nvPr/>
        </p:nvSpPr>
        <p:spPr>
          <a:xfrm>
            <a:off x="7848720" y="4643280"/>
            <a:ext cx="9144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40"/>
          <p:cNvSpPr/>
          <p:nvPr/>
        </p:nvSpPr>
        <p:spPr>
          <a:xfrm>
            <a:off x="7891560" y="467676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oice 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41"/>
          <p:cNvSpPr/>
          <p:nvPr/>
        </p:nvSpPr>
        <p:spPr>
          <a:xfrm>
            <a:off x="7543800" y="502920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96D-CFBE-42FF-B470-23EDD4BDC2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XMLDK User Interfac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237" name="Picture 1028" descr="snapshot8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36C-C730-4C01-AA18-02EB832A7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Pilot Systems &amp; Experime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D080-A4B6-4D08-BF1A-7417EC39D0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Systems </a:t>
            </a: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type I (200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building general architecture to support SXM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 is session-less and VoiceXML needs to keep user’s utterances in each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XML provides session variable to keep user’s uttera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session-variables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ersistent names="DMEnv_persistent_topic DMEnv_persistent_weather_date DMEnv_persistent_weather_area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ient names="DMEnv_answer_weather_date DMEnv_answer_weather_area DMEnv_answer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ssion-variable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E52E-DBCA-40EF-80C7-54FDE73E6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Outline</a:t>
            </a:r>
            <a:r>
              <a:rPr b="0" lang="en-US" sz="36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4F4-DF48-4A70-B412-8156E41B86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System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otype II (2003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Prototype 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ScenarioTemplate &amp; SXMLD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ed values and dialog states are stored in back-end dialog contro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the current values are stored in Voice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645B-D1DD-402D-A85E-9F66C338A1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Pilot Experiment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91"/>
          <p:cNvSpPr/>
          <p:nvPr/>
        </p:nvSpPr>
        <p:spPr>
          <a:xfrm>
            <a:off x="569880" y="1447920"/>
            <a:ext cx="8574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ompare Prototype I &amp; 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Test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VXI: Intel Pentium III 800MHz, 512M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DM: Intel Pentium II 400MHz, 224M 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Sample Dialo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1: Weather information, p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1: Please tell me the area and the 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2: Tomorr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2: Please tell me th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3: Pittsbur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3: Are you asking the weather for Pittsburgh tomorrow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U4: Y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宋体"/>
              </a:rPr>
              <a:t>S4: The weather for Pittsburgh tomorrow will be sunn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543800" y="3581280"/>
            <a:ext cx="228600" cy="871560"/>
          </a:xfrm>
          <a:custGeom>
            <a:avLst/>
            <a:gdLst>
              <a:gd name="textAreaLeft" fmla="*/ 0 w 228600"/>
              <a:gd name="textAreaRight" fmla="*/ 228960 w 228600"/>
              <a:gd name="textAreaTop" fmla="*/ 0 h 871560"/>
              <a:gd name="textAreaBottom" fmla="*/ 871920 h 87156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Freeform 115"/>
          <p:cNvSpPr/>
          <p:nvPr/>
        </p:nvSpPr>
        <p:spPr>
          <a:xfrm>
            <a:off x="7543800" y="4495680"/>
            <a:ext cx="228600" cy="762120"/>
          </a:xfrm>
          <a:custGeom>
            <a:avLst/>
            <a:gdLst>
              <a:gd name="textAreaLeft" fmla="*/ 0 w 228600"/>
              <a:gd name="textAreaRight" fmla="*/ 228960 w 228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Freeform 116"/>
          <p:cNvSpPr/>
          <p:nvPr/>
        </p:nvSpPr>
        <p:spPr>
          <a:xfrm>
            <a:off x="7543800" y="5410080"/>
            <a:ext cx="228600" cy="592200"/>
          </a:xfrm>
          <a:custGeom>
            <a:avLst/>
            <a:gdLst>
              <a:gd name="textAreaLeft" fmla="*/ 0 w 228600"/>
              <a:gd name="textAreaRight" fmla="*/ 228960 w 2286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Freeform 117"/>
          <p:cNvSpPr/>
          <p:nvPr/>
        </p:nvSpPr>
        <p:spPr>
          <a:xfrm>
            <a:off x="7543800" y="6095880"/>
            <a:ext cx="228600" cy="338400"/>
          </a:xfrm>
          <a:custGeom>
            <a:avLst/>
            <a:gdLst>
              <a:gd name="textAreaLeft" fmla="*/ 0 w 228600"/>
              <a:gd name="textAreaRight" fmla="*/ 228960 w 228600"/>
              <a:gd name="textAreaTop" fmla="*/ 0 h 338400"/>
              <a:gd name="textAreaBottom" fmla="*/ 338760 h 338400"/>
            </a:gdLst>
            <a:ahLst/>
            <a:rect l="textAreaLeft" t="textAreaTop" r="textAreaRight" b="textAreaBottom"/>
            <a:pathLst>
              <a:path w="576" h="624">
                <a:moveTo>
                  <a:pt x="0" y="0"/>
                </a:moveTo>
                <a:lnTo>
                  <a:pt x="576" y="0"/>
                </a:lnTo>
                <a:lnTo>
                  <a:pt x="576" y="624"/>
                </a:lnTo>
                <a:lnTo>
                  <a:pt x="4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118"/>
          <p:cNvSpPr/>
          <p:nvPr/>
        </p:nvSpPr>
        <p:spPr>
          <a:xfrm>
            <a:off x="7908840" y="384192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119"/>
          <p:cNvSpPr/>
          <p:nvPr/>
        </p:nvSpPr>
        <p:spPr>
          <a:xfrm>
            <a:off x="7908840" y="4724280"/>
            <a:ext cx="6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120"/>
          <p:cNvSpPr/>
          <p:nvPr/>
        </p:nvSpPr>
        <p:spPr>
          <a:xfrm>
            <a:off x="7717320" y="54864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21"/>
          <p:cNvSpPr/>
          <p:nvPr/>
        </p:nvSpPr>
        <p:spPr>
          <a:xfrm>
            <a:off x="7882200" y="60199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C70F-EAC1-4460-AC96-E6F08268EA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omparison of Bandwidth Utilization 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compare bandwidth utilization, VXML file sizes were meas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143000" y="2895480"/>
          <a:ext cx="6705720" cy="281952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2210040"/>
              </a:tblGrid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ub 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nfi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vg VXML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2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3" name="Text Box 34"/>
          <p:cNvSpPr/>
          <p:nvPr/>
        </p:nvSpPr>
        <p:spPr>
          <a:xfrm>
            <a:off x="6487200" y="57294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: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18F-EF4F-4755-98F6-4AA994A4E4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Comparison of User Wait Tim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To compare end-user wait time, loading time in VXI were meas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143000" y="2819520"/>
          <a:ext cx="6705720" cy="2819160"/>
        </p:xfrm>
        <a:graphic>
          <a:graphicData uri="http://schemas.openxmlformats.org/drawingml/2006/table">
            <a:tbl>
              <a:tblPr/>
              <a:tblGrid>
                <a:gridCol w="2362320"/>
                <a:gridCol w="2133360"/>
                <a:gridCol w="221004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Sub 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type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5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.8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sk 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2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Confi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4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3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.1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Avg Load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4.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ahoma"/>
                          <a:ea typeface="宋体"/>
                        </a:rPr>
                        <a:t>1.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8"/>
          <p:cNvSpPr/>
          <p:nvPr/>
        </p:nvSpPr>
        <p:spPr>
          <a:xfrm>
            <a:off x="6363000" y="56530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: seco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23FC-89DB-4830-8669-650701FA43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ummary of Prototype II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fficient VXML management: VXML includes only the current 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&gt; faster &amp; less use of network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asy to add new dialogs using Scenario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Easy to support multiple languages by changing ScenarioTemplate prompts and gramm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Predefined dialog states and prom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 to support more complex dialo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F75A-C690-4554-A3A9-4ADA1924DF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Example of Complex Dialog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1629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1: Tour guide, please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1: Tour guidance is started. Where is a destination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2: Carnegie Mellon Universit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2: The distance to the destination is 100 miles. It takes about 2 hour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3: Do you know a good restaurant near here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3: What kind of food do you like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4: I want to eat Italian food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4: There are Olive garden, Bravo and Laromana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5: Well, I'd like to go to Laromana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5: </a:t>
            </a:r>
            <a:r>
              <a:rPr b="1" lang="en-US" sz="1700" spc="-1" strike="noStrike">
                <a:solidFill>
                  <a:srgbClr val="ff0000"/>
                </a:solidFill>
                <a:latin typeface="Tahoma"/>
              </a:rPr>
              <a:t>It does not have a parking lot. Is it OK?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6: Tell me the one which has parking lots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6: </a:t>
            </a:r>
            <a:r>
              <a:rPr b="1" lang="en-US" sz="1700" spc="-1" strike="noStrike">
                <a:solidFill>
                  <a:srgbClr val="3333cc"/>
                </a:solidFill>
                <a:latin typeface="Tahoma"/>
              </a:rPr>
              <a:t>Olive garden and Bravo have parking lots</a:t>
            </a:r>
            <a:r>
              <a:rPr b="0" lang="en-US" sz="1700" spc="-1" strike="noStrike">
                <a:solidFill>
                  <a:srgbClr val="3333cc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7: </a:t>
            </a:r>
            <a:r>
              <a:rPr b="1" lang="en-US" sz="1700" spc="-1" strike="noStrike">
                <a:solidFill>
                  <a:srgbClr val="00e4a8"/>
                </a:solidFill>
                <a:latin typeface="Tahoma"/>
              </a:rPr>
              <a:t>Which one is closer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7: Brav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8: I would like to go </a:t>
            </a:r>
            <a:r>
              <a:rPr b="1" lang="en-US" sz="1700" spc="-1" strike="noStrike">
                <a:solidFill>
                  <a:srgbClr val="ff0000"/>
                </a:solidFill>
                <a:latin typeface="Tahoma"/>
              </a:rPr>
              <a:t>there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8: Do you want to add it as a way point?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9: Y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9: </a:t>
            </a:r>
            <a:r>
              <a:rPr b="1" lang="en-US" sz="1700" spc="-1" strike="noStrike">
                <a:solidFill>
                  <a:srgbClr val="a50021"/>
                </a:solidFill>
                <a:latin typeface="Tahoma"/>
              </a:rPr>
              <a:t>I set Bravo as the waypoint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021-F434-462A-A329-FC9CE42A86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me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Current Research Focu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517-E440-4CB1-A15A-7F136C495E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Current Research Focu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le dialog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model: Offer important information even though user does no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) do not take credit card, do not have parking l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data from the list which was already retr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comparison (the cheapest, clo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phora resolution (there,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way point to Navig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CA2E-5852-4B51-AA07-0DD4F5EFB4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  <a:ea typeface="宋体"/>
              </a:rPr>
              <a:t>Current Research Focus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 dialog management for signal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Retrieval task management for signa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og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Located in vehi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Retrieve data from the remote database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Maintain local cache with timesta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3817-9107-4872-883D-7EF1609827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228600" y="1600200"/>
            <a:ext cx="63244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Extended Architecture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7" name="Rectangle 37"/>
          <p:cNvSpPr/>
          <p:nvPr/>
        </p:nvSpPr>
        <p:spPr>
          <a:xfrm>
            <a:off x="2438280" y="2317680"/>
            <a:ext cx="3886200" cy="217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38"/>
          <p:cNvSpPr/>
          <p:nvPr/>
        </p:nvSpPr>
        <p:spPr>
          <a:xfrm>
            <a:off x="2743200" y="2470320"/>
            <a:ext cx="106668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39"/>
          <p:cNvSpPr/>
          <p:nvPr/>
        </p:nvSpPr>
        <p:spPr>
          <a:xfrm>
            <a:off x="2743200" y="3581280"/>
            <a:ext cx="99072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2819520" y="37130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41"/>
          <p:cNvSpPr/>
          <p:nvPr/>
        </p:nvSpPr>
        <p:spPr>
          <a:xfrm>
            <a:off x="2788920" y="257328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42"/>
          <p:cNvSpPr/>
          <p:nvPr/>
        </p:nvSpPr>
        <p:spPr>
          <a:xfrm>
            <a:off x="3861360" y="16765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og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7"/>
          <p:cNvSpPr/>
          <p:nvPr/>
        </p:nvSpPr>
        <p:spPr>
          <a:xfrm>
            <a:off x="533520" y="2317680"/>
            <a:ext cx="1371600" cy="217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762120" y="25462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51"/>
          <p:cNvSpPr/>
          <p:nvPr/>
        </p:nvSpPr>
        <p:spPr>
          <a:xfrm>
            <a:off x="914760" y="257508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55"/>
          <p:cNvSpPr/>
          <p:nvPr/>
        </p:nvSpPr>
        <p:spPr>
          <a:xfrm>
            <a:off x="1219320" y="292752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56"/>
          <p:cNvSpPr/>
          <p:nvPr/>
        </p:nvSpPr>
        <p:spPr>
          <a:xfrm>
            <a:off x="717840" y="170028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58"/>
          <p:cNvSpPr/>
          <p:nvPr/>
        </p:nvSpPr>
        <p:spPr>
          <a:xfrm>
            <a:off x="1600200" y="5029200"/>
            <a:ext cx="304812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59"/>
          <p:cNvSpPr/>
          <p:nvPr/>
        </p:nvSpPr>
        <p:spPr>
          <a:xfrm>
            <a:off x="4572000" y="2470320"/>
            <a:ext cx="990720" cy="5778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60"/>
          <p:cNvSpPr/>
          <p:nvPr/>
        </p:nvSpPr>
        <p:spPr>
          <a:xfrm>
            <a:off x="4579920" y="2516040"/>
            <a:ext cx="10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61"/>
          <p:cNvSpPr/>
          <p:nvPr/>
        </p:nvSpPr>
        <p:spPr>
          <a:xfrm>
            <a:off x="340200" y="5307120"/>
            <a:ext cx="127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viga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62"/>
          <p:cNvSpPr/>
          <p:nvPr/>
        </p:nvSpPr>
        <p:spPr>
          <a:xfrm>
            <a:off x="1871640" y="5257800"/>
            <a:ext cx="9907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63"/>
          <p:cNvSpPr/>
          <p:nvPr/>
        </p:nvSpPr>
        <p:spPr>
          <a:xfrm>
            <a:off x="1828800" y="5286240"/>
            <a:ext cx="110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83"/>
          <p:cNvSpPr/>
          <p:nvPr/>
        </p:nvSpPr>
        <p:spPr>
          <a:xfrm>
            <a:off x="719280" y="3276720"/>
            <a:ext cx="1033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84"/>
          <p:cNvSpPr/>
          <p:nvPr/>
        </p:nvSpPr>
        <p:spPr>
          <a:xfrm>
            <a:off x="871200" y="3348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Rectangle 89"/>
          <p:cNvSpPr/>
          <p:nvPr/>
        </p:nvSpPr>
        <p:spPr>
          <a:xfrm>
            <a:off x="3189240" y="5181480"/>
            <a:ext cx="1219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90"/>
          <p:cNvSpPr/>
          <p:nvPr/>
        </p:nvSpPr>
        <p:spPr>
          <a:xfrm>
            <a:off x="3182760" y="5245200"/>
            <a:ext cx="122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 System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92"/>
          <p:cNvSpPr/>
          <p:nvPr/>
        </p:nvSpPr>
        <p:spPr>
          <a:xfrm>
            <a:off x="2873520" y="5562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93"/>
          <p:cNvSpPr/>
          <p:nvPr/>
        </p:nvSpPr>
        <p:spPr>
          <a:xfrm>
            <a:off x="3505320" y="4191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95"/>
          <p:cNvSpPr/>
          <p:nvPr/>
        </p:nvSpPr>
        <p:spPr>
          <a:xfrm>
            <a:off x="5410080" y="30481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96"/>
          <p:cNvSpPr/>
          <p:nvPr/>
        </p:nvSpPr>
        <p:spPr>
          <a:xfrm>
            <a:off x="5479920" y="3216240"/>
            <a:ext cx="725760" cy="746280"/>
          </a:xfrm>
          <a:prstGeom prst="flowChartMagneticDisk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97"/>
          <p:cNvSpPr/>
          <p:nvPr/>
        </p:nvSpPr>
        <p:spPr>
          <a:xfrm>
            <a:off x="5410080" y="3430440"/>
            <a:ext cx="87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99"/>
          <p:cNvSpPr/>
          <p:nvPr/>
        </p:nvSpPr>
        <p:spPr>
          <a:xfrm>
            <a:off x="3809880" y="2774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100"/>
          <p:cNvSpPr/>
          <p:nvPr/>
        </p:nvSpPr>
        <p:spPr>
          <a:xfrm>
            <a:off x="3276720" y="3156120"/>
            <a:ext cx="0" cy="42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102"/>
          <p:cNvSpPr/>
          <p:nvPr/>
        </p:nvSpPr>
        <p:spPr>
          <a:xfrm>
            <a:off x="7238880" y="1600200"/>
            <a:ext cx="16765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AutoShape 103"/>
          <p:cNvSpPr/>
          <p:nvPr/>
        </p:nvSpPr>
        <p:spPr>
          <a:xfrm>
            <a:off x="7696080" y="3886200"/>
            <a:ext cx="725760" cy="53352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104"/>
          <p:cNvSpPr/>
          <p:nvPr/>
        </p:nvSpPr>
        <p:spPr>
          <a:xfrm>
            <a:off x="7736040" y="4038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107"/>
          <p:cNvSpPr/>
          <p:nvPr/>
        </p:nvSpPr>
        <p:spPr>
          <a:xfrm>
            <a:off x="7504200" y="2486160"/>
            <a:ext cx="11001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108"/>
          <p:cNvSpPr/>
          <p:nvPr/>
        </p:nvSpPr>
        <p:spPr>
          <a:xfrm>
            <a:off x="7351560" y="2514600"/>
            <a:ext cx="141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09"/>
          <p:cNvSpPr/>
          <p:nvPr/>
        </p:nvSpPr>
        <p:spPr>
          <a:xfrm>
            <a:off x="7873920" y="43434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110"/>
          <p:cNvSpPr/>
          <p:nvPr/>
        </p:nvSpPr>
        <p:spPr>
          <a:xfrm>
            <a:off x="8037360" y="3200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111"/>
          <p:cNvSpPr/>
          <p:nvPr/>
        </p:nvSpPr>
        <p:spPr>
          <a:xfrm>
            <a:off x="5562720" y="2743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112"/>
          <p:cNvSpPr/>
          <p:nvPr/>
        </p:nvSpPr>
        <p:spPr>
          <a:xfrm>
            <a:off x="5411160" y="59436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hi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113"/>
          <p:cNvSpPr/>
          <p:nvPr/>
        </p:nvSpPr>
        <p:spPr>
          <a:xfrm>
            <a:off x="7543800" y="5791320"/>
            <a:ext cx="119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mote Ser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114"/>
          <p:cNvSpPr/>
          <p:nvPr/>
        </p:nvSpPr>
        <p:spPr>
          <a:xfrm>
            <a:off x="7680240" y="658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115"/>
          <p:cNvSpPr/>
          <p:nvPr/>
        </p:nvSpPr>
        <p:spPr>
          <a:xfrm>
            <a:off x="7704000" y="4800600"/>
            <a:ext cx="725760" cy="533520"/>
          </a:xfrm>
          <a:prstGeom prst="flowChartMagneticDisk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116"/>
          <p:cNvSpPr/>
          <p:nvPr/>
        </p:nvSpPr>
        <p:spPr>
          <a:xfrm>
            <a:off x="7743960" y="49528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17"/>
          <p:cNvSpPr/>
          <p:nvPr/>
        </p:nvSpPr>
        <p:spPr>
          <a:xfrm>
            <a:off x="4114800" y="3579840"/>
            <a:ext cx="990720" cy="57780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118"/>
          <p:cNvSpPr/>
          <p:nvPr/>
        </p:nvSpPr>
        <p:spPr>
          <a:xfrm>
            <a:off x="4114800" y="3624120"/>
            <a:ext cx="103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Line 119"/>
          <p:cNvSpPr/>
          <p:nvPr/>
        </p:nvSpPr>
        <p:spPr>
          <a:xfrm>
            <a:off x="3809880" y="2895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20"/>
          <p:cNvSpPr/>
          <p:nvPr/>
        </p:nvSpPr>
        <p:spPr>
          <a:xfrm flipH="1">
            <a:off x="1676160" y="27432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B1D-C7BE-450E-A424-870946BFC1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Introduction of CAMMIA Projec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pic>
        <p:nvPicPr>
          <p:cNvPr id="102" name="Picture 4" descr="C:\Documents and Settings\Owner\Desktop\CAMMIA_image.jpg"/>
          <p:cNvPicPr/>
          <p:nvPr/>
        </p:nvPicPr>
        <p:blipFill>
          <a:blip r:embed="rId1"/>
          <a:stretch/>
        </p:blipFill>
        <p:spPr>
          <a:xfrm>
            <a:off x="838080" y="2514600"/>
            <a:ext cx="7315200" cy="27655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4800" y="1295280"/>
            <a:ext cx="80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(Conversational Agent for Multilingual Mobile Information Acc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E0AE-27A8-46CC-A619-7B541116D7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r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upport information seeking dialogs, it has three dialog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sk the user to fill the minimum search constrai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Display the search resul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There are three Italian restaurants near hear, A, B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refine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User can narrow down the searched items with different search options such as price and dist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Which one is closer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utomatically check important information (Push mode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Add way point to the Navigation m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) I set it as the way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EE37-4DC6-4187-ABCA-BD09F00C8C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ynamic State Transition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7" name="Rectangle 76"/>
          <p:cNvSpPr/>
          <p:nvPr/>
        </p:nvSpPr>
        <p:spPr>
          <a:xfrm>
            <a:off x="3809880" y="4876920"/>
            <a:ext cx="449604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78"/>
          <p:cNvSpPr/>
          <p:nvPr/>
        </p:nvSpPr>
        <p:spPr>
          <a:xfrm>
            <a:off x="1371600" y="1523880"/>
            <a:ext cx="5562720" cy="160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80"/>
          <p:cNvSpPr/>
          <p:nvPr/>
        </p:nvSpPr>
        <p:spPr>
          <a:xfrm>
            <a:off x="4114800" y="3733920"/>
            <a:ext cx="38098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81"/>
          <p:cNvSpPr/>
          <p:nvPr/>
        </p:nvSpPr>
        <p:spPr>
          <a:xfrm>
            <a:off x="1752480" y="1676520"/>
            <a:ext cx="1422360" cy="36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82"/>
          <p:cNvSpPr/>
          <p:nvPr/>
        </p:nvSpPr>
        <p:spPr>
          <a:xfrm>
            <a:off x="1752480" y="168120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search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Oval 83"/>
          <p:cNvSpPr/>
          <p:nvPr/>
        </p:nvSpPr>
        <p:spPr>
          <a:xfrm>
            <a:off x="1752480" y="2590920"/>
            <a:ext cx="14479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84"/>
          <p:cNvSpPr/>
          <p:nvPr/>
        </p:nvSpPr>
        <p:spPr>
          <a:xfrm>
            <a:off x="1816200" y="2666880"/>
            <a:ext cx="144756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the resul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86"/>
          <p:cNvSpPr/>
          <p:nvPr/>
        </p:nvSpPr>
        <p:spPr>
          <a:xfrm>
            <a:off x="243828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Oval 89"/>
          <p:cNvSpPr/>
          <p:nvPr/>
        </p:nvSpPr>
        <p:spPr>
          <a:xfrm>
            <a:off x="1752480" y="6343560"/>
            <a:ext cx="1422360" cy="285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90"/>
          <p:cNvSpPr/>
          <p:nvPr/>
        </p:nvSpPr>
        <p:spPr>
          <a:xfrm>
            <a:off x="2057400" y="634356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dialo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91"/>
          <p:cNvSpPr/>
          <p:nvPr/>
        </p:nvSpPr>
        <p:spPr>
          <a:xfrm>
            <a:off x="2438280" y="29718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92"/>
          <p:cNvSpPr/>
          <p:nvPr/>
        </p:nvSpPr>
        <p:spPr>
          <a:xfrm>
            <a:off x="3200400" y="1828800"/>
            <a:ext cx="1382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Text Box 93"/>
          <p:cNvSpPr/>
          <p:nvPr/>
        </p:nvSpPr>
        <p:spPr>
          <a:xfrm>
            <a:off x="3276720" y="16002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constraints=y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Oval 94"/>
          <p:cNvSpPr/>
          <p:nvPr/>
        </p:nvSpPr>
        <p:spPr>
          <a:xfrm>
            <a:off x="4572000" y="1816200"/>
            <a:ext cx="1295280" cy="393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95"/>
          <p:cNvSpPr/>
          <p:nvPr/>
        </p:nvSpPr>
        <p:spPr>
          <a:xfrm>
            <a:off x="4680000" y="1947960"/>
            <a:ext cx="1098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k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96"/>
          <p:cNvSpPr/>
          <p:nvPr/>
        </p:nvSpPr>
        <p:spPr>
          <a:xfrm flipH="1">
            <a:off x="2971440" y="2122560"/>
            <a:ext cx="1655640" cy="4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8"/>
          <p:cNvSpPr/>
          <p:nvPr/>
        </p:nvSpPr>
        <p:spPr>
          <a:xfrm>
            <a:off x="5029200" y="1660680"/>
            <a:ext cx="1752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constraints=ye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Freeform 99"/>
          <p:cNvSpPr/>
          <p:nvPr/>
        </p:nvSpPr>
        <p:spPr>
          <a:xfrm>
            <a:off x="5867280" y="187308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44" h="400">
                <a:moveTo>
                  <a:pt x="0" y="144"/>
                </a:moveTo>
                <a:cubicBezTo>
                  <a:pt x="44" y="72"/>
                  <a:pt x="88" y="0"/>
                  <a:pt x="144" y="0"/>
                </a:cubicBezTo>
                <a:cubicBezTo>
                  <a:pt x="200" y="0"/>
                  <a:pt x="328" y="80"/>
                  <a:pt x="336" y="144"/>
                </a:cubicBezTo>
                <a:cubicBezTo>
                  <a:pt x="344" y="208"/>
                  <a:pt x="248" y="368"/>
                  <a:pt x="192" y="384"/>
                </a:cubicBezTo>
                <a:cubicBezTo>
                  <a:pt x="136" y="400"/>
                  <a:pt x="68" y="320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101"/>
          <p:cNvSpPr/>
          <p:nvPr/>
        </p:nvSpPr>
        <p:spPr>
          <a:xfrm>
            <a:off x="3124080" y="34290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Oval 102"/>
          <p:cNvSpPr/>
          <p:nvPr/>
        </p:nvSpPr>
        <p:spPr>
          <a:xfrm>
            <a:off x="4038480" y="5715000"/>
            <a:ext cx="2273400" cy="4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03"/>
          <p:cNvSpPr/>
          <p:nvPr/>
        </p:nvSpPr>
        <p:spPr>
          <a:xfrm>
            <a:off x="4267080" y="5743440"/>
            <a:ext cx="213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detailed inf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way point if user wa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11480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tisfi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Line 105"/>
          <p:cNvSpPr/>
          <p:nvPr/>
        </p:nvSpPr>
        <p:spPr>
          <a:xfrm flipH="1">
            <a:off x="3157200" y="6019920"/>
            <a:ext cx="88092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06"/>
          <p:cNvSpPr/>
          <p:nvPr/>
        </p:nvSpPr>
        <p:spPr>
          <a:xfrm>
            <a:off x="5410080" y="524196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atisfie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107"/>
          <p:cNvSpPr/>
          <p:nvPr/>
        </p:nvSpPr>
        <p:spPr>
          <a:xfrm>
            <a:off x="548640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08"/>
          <p:cNvSpPr/>
          <p:nvPr/>
        </p:nvSpPr>
        <p:spPr>
          <a:xfrm>
            <a:off x="1600200" y="204156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features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109"/>
          <p:cNvSpPr/>
          <p:nvPr/>
        </p:nvSpPr>
        <p:spPr>
          <a:xfrm>
            <a:off x="1577880" y="3494160"/>
            <a:ext cx="1067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selection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Oval 110"/>
          <p:cNvSpPr/>
          <p:nvPr/>
        </p:nvSpPr>
        <p:spPr>
          <a:xfrm>
            <a:off x="6200640" y="5014800"/>
            <a:ext cx="140652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111"/>
          <p:cNvSpPr/>
          <p:nvPr/>
        </p:nvSpPr>
        <p:spPr>
          <a:xfrm>
            <a:off x="6311880" y="5105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ify it to the us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12"/>
          <p:cNvSpPr/>
          <p:nvPr/>
        </p:nvSpPr>
        <p:spPr>
          <a:xfrm>
            <a:off x="2971800" y="2971800"/>
            <a:ext cx="2133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Oval 114"/>
          <p:cNvSpPr/>
          <p:nvPr/>
        </p:nvSpPr>
        <p:spPr>
          <a:xfrm>
            <a:off x="4330800" y="3886200"/>
            <a:ext cx="18763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115"/>
          <p:cNvSpPr/>
          <p:nvPr/>
        </p:nvSpPr>
        <p:spPr>
          <a:xfrm>
            <a:off x="4564080" y="3917880"/>
            <a:ext cx="1676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d new lists from the previous resul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 i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16"/>
          <p:cNvSpPr/>
          <p:nvPr/>
        </p:nvSpPr>
        <p:spPr>
          <a:xfrm flipH="1" flipV="1">
            <a:off x="5943240" y="4343040"/>
            <a:ext cx="9032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Freeform 119"/>
          <p:cNvSpPr/>
          <p:nvPr/>
        </p:nvSpPr>
        <p:spPr>
          <a:xfrm rot="21073800">
            <a:off x="6159240" y="38862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44" h="400">
                <a:moveTo>
                  <a:pt x="0" y="144"/>
                </a:moveTo>
                <a:cubicBezTo>
                  <a:pt x="44" y="72"/>
                  <a:pt x="88" y="0"/>
                  <a:pt x="144" y="0"/>
                </a:cubicBezTo>
                <a:cubicBezTo>
                  <a:pt x="200" y="0"/>
                  <a:pt x="328" y="80"/>
                  <a:pt x="336" y="144"/>
                </a:cubicBezTo>
                <a:cubicBezTo>
                  <a:pt x="344" y="208"/>
                  <a:pt x="248" y="368"/>
                  <a:pt x="192" y="384"/>
                </a:cubicBezTo>
                <a:cubicBezTo>
                  <a:pt x="136" y="400"/>
                  <a:pt x="68" y="320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20"/>
          <p:cNvSpPr/>
          <p:nvPr/>
        </p:nvSpPr>
        <p:spPr>
          <a:xfrm>
            <a:off x="6388200" y="37339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21"/>
          <p:cNvSpPr/>
          <p:nvPr/>
        </p:nvSpPr>
        <p:spPr>
          <a:xfrm>
            <a:off x="6006960" y="4648320"/>
            <a:ext cx="123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Oval 122"/>
          <p:cNvSpPr/>
          <p:nvPr/>
        </p:nvSpPr>
        <p:spPr>
          <a:xfrm>
            <a:off x="4038480" y="5029200"/>
            <a:ext cx="14223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123"/>
          <p:cNvSpPr/>
          <p:nvPr/>
        </p:nvSpPr>
        <p:spPr>
          <a:xfrm>
            <a:off x="4191120" y="5105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special inf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125"/>
          <p:cNvSpPr/>
          <p:nvPr/>
        </p:nvSpPr>
        <p:spPr>
          <a:xfrm flipH="1">
            <a:off x="4711680" y="4419720"/>
            <a:ext cx="393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581280" y="2286000"/>
            <a:ext cx="152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ed features=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46"/>
          <p:cNvSpPr/>
          <p:nvPr/>
        </p:nvSpPr>
        <p:spPr>
          <a:xfrm>
            <a:off x="6781680" y="403848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arch Refin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147"/>
          <p:cNvSpPr/>
          <p:nvPr/>
        </p:nvSpPr>
        <p:spPr>
          <a:xfrm>
            <a:off x="7238880" y="59436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148"/>
          <p:cNvSpPr/>
          <p:nvPr/>
        </p:nvSpPr>
        <p:spPr>
          <a:xfrm>
            <a:off x="5410080" y="2743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Line 149"/>
          <p:cNvSpPr/>
          <p:nvPr/>
        </p:nvSpPr>
        <p:spPr>
          <a:xfrm>
            <a:off x="2743200" y="2971800"/>
            <a:ext cx="14479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Text Box 150"/>
          <p:cNvSpPr/>
          <p:nvPr/>
        </p:nvSpPr>
        <p:spPr>
          <a:xfrm>
            <a:off x="4191120" y="3352680"/>
            <a:ext cx="1307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arch op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151"/>
          <p:cNvSpPr/>
          <p:nvPr/>
        </p:nvSpPr>
        <p:spPr>
          <a:xfrm>
            <a:off x="4876920" y="4632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152"/>
          <p:cNvSpPr/>
          <p:nvPr/>
        </p:nvSpPr>
        <p:spPr>
          <a:xfrm>
            <a:off x="48006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154"/>
          <p:cNvSpPr/>
          <p:nvPr/>
        </p:nvSpPr>
        <p:spPr>
          <a:xfrm>
            <a:off x="79246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Line 155"/>
          <p:cNvSpPr/>
          <p:nvPr/>
        </p:nvSpPr>
        <p:spPr>
          <a:xfrm flipV="1">
            <a:off x="8077320" y="2438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157"/>
          <p:cNvSpPr/>
          <p:nvPr/>
        </p:nvSpPr>
        <p:spPr>
          <a:xfrm flipH="1">
            <a:off x="6933960" y="2438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58"/>
          <p:cNvSpPr/>
          <p:nvPr/>
        </p:nvSpPr>
        <p:spPr>
          <a:xfrm>
            <a:off x="7074000" y="2209680"/>
            <a:ext cx="1231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constraint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0D69-CD47-43B3-AE03-BFB80664BE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Future work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work on Tas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phora and ellipsis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mod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on of screen with Navigation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mentary prompts (voice and scre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grammar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intelligent push model based on user p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sed tu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DB19-7265-4C33-AFAB-0A70E9EB08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Sample Dialog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57200" y="1523880"/>
            <a:ext cx="8305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: How may I help you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1: I want to go to Carnegie Mellon Universit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2: Do you want to go to Carnegie Mellon University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2: Y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: The distance to the destination is 100 mil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 takes about 2 hou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3: I would like to know weat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: Please tell me the area and the dat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4: </a:t>
            </a:r>
            <a:r>
              <a:rPr b="1" lang="en-US" sz="1600" spc="-1" strike="noStrike">
                <a:solidFill>
                  <a:srgbClr val="00e4a8"/>
                </a:solidFill>
                <a:latin typeface="Tahoma"/>
              </a:rPr>
              <a:t>Pittsbur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(Navigation System sends the next direction to the dialog manag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5: </a:t>
            </a:r>
            <a:r>
              <a:rPr b="1" lang="en-US" sz="1600" spc="-1" strike="noStrike">
                <a:solidFill>
                  <a:srgbClr val="990033"/>
                </a:solidFill>
                <a:latin typeface="Tahoma"/>
              </a:rPr>
              <a:t>To go to Carnegie Mellon University, please make a left turn here.</a:t>
            </a: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Please tell me the date for Pittsburg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5: Tomorr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6: The weather for Pittsburgh tomorrow will be f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BD2-310A-460C-83AD-842E4373F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Tahoma"/>
              </a:rPr>
              <a:t>Some Related Research (Speech Interface)</a:t>
            </a:r>
            <a:endParaRPr b="0" lang="en-US" sz="3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lom et al, HLT 2001 (CU-Mov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planning and navi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 suppression front-end and back-end navigation information retrie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ownload driving instructions from the Internet after route plan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can ask route information during trav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ex. What’s my next turn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etti et al, IEEE 200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tel retrieval/reservation, POI retrieval, Simple Route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 Wide Web module: XML-based DB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 database for tour and geographic d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5593-B022-4969-8F4A-94A2D80C3F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562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ahoma"/>
              </a:rPr>
              <a:t>Some Related Research (Multimodal Interface)</a:t>
            </a:r>
            <a:endParaRPr b="0" lang="en-US" sz="3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inker et al, ICSLP 2002 (SmartKom Mobile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framework for modality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type on Compac iPAG H3630 handheld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to pedestrian and driver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maps for route infor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e shows for sigh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3AA0-3CA2-44ED-AD28-746B273B0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Approach in CAMMIA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communication with navig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getting the next direction, interrupt the current dia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the next turn direc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me the pending dialo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dialog history for smooth dialog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MS PGothic"/>
              </a:rPr>
              <a:t>Flexible &amp; robust Dialog Manager based on VoiceXML (Voice eXtensible Markup Langua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ction, Explicit/Implicit confi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multi-lingual (Japanese, Englis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AA3C-7647-4CFF-AC5E-099305DC2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Next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741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ach in CAMM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Dialog Management Framewor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Template/ScenarioX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enarioXML Development K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Systems &amp;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 Research Fo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Zástupný symbol pro zápatí 4"/>
          <p:cNvSpPr/>
          <p:nvPr/>
        </p:nvSpPr>
        <p:spPr>
          <a:xfrm>
            <a:off x="32004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54BA-EAAE-41E3-B21B-00084F9382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95"/>
          <p:cNvSpPr/>
          <p:nvPr/>
        </p:nvSpPr>
        <p:spPr>
          <a:xfrm>
            <a:off x="3200400" y="2286000"/>
            <a:ext cx="2590920" cy="3124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62"/>
          <p:cNvSpPr/>
          <p:nvPr/>
        </p:nvSpPr>
        <p:spPr>
          <a:xfrm>
            <a:off x="3505320" y="2590920"/>
            <a:ext cx="12189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64"/>
          <p:cNvSpPr/>
          <p:nvPr/>
        </p:nvSpPr>
        <p:spPr>
          <a:xfrm>
            <a:off x="3657600" y="4572000"/>
            <a:ext cx="121932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3"/>
          <p:cNvSpPr/>
          <p:nvPr/>
        </p:nvSpPr>
        <p:spPr>
          <a:xfrm>
            <a:off x="3809880" y="470376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65"/>
          <p:cNvSpPr/>
          <p:nvPr/>
        </p:nvSpPr>
        <p:spPr>
          <a:xfrm>
            <a:off x="3547080" y="2611440"/>
            <a:ext cx="11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3486600" y="155268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lo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 (D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AutoShape 86"/>
          <p:cNvSpPr/>
          <p:nvPr/>
        </p:nvSpPr>
        <p:spPr>
          <a:xfrm>
            <a:off x="4114800" y="3429000"/>
            <a:ext cx="1295280" cy="838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4137120" y="3594240"/>
            <a:ext cx="1501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log scenar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sour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562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Tahoma"/>
              </a:rPr>
              <a:t>Dialog Management Framework</a:t>
            </a:r>
            <a:endParaRPr b="0" lang="en-US" sz="4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29" name="Rectangle 42"/>
          <p:cNvSpPr/>
          <p:nvPr/>
        </p:nvSpPr>
        <p:spPr>
          <a:xfrm>
            <a:off x="5486400" y="5868360"/>
            <a:ext cx="33526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XI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VoiceXML Interpre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DM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Dialog Manag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61"/>
          <p:cNvSpPr/>
          <p:nvPr/>
        </p:nvSpPr>
        <p:spPr>
          <a:xfrm>
            <a:off x="685800" y="2286000"/>
            <a:ext cx="160020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57"/>
          <p:cNvSpPr/>
          <p:nvPr/>
        </p:nvSpPr>
        <p:spPr>
          <a:xfrm>
            <a:off x="990720" y="26668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58"/>
          <p:cNvSpPr/>
          <p:nvPr/>
        </p:nvSpPr>
        <p:spPr>
          <a:xfrm>
            <a:off x="1176120" y="26686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X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990720" y="385776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60"/>
          <p:cNvSpPr/>
          <p:nvPr/>
        </p:nvSpPr>
        <p:spPr>
          <a:xfrm>
            <a:off x="1093680" y="38592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70"/>
          <p:cNvSpPr/>
          <p:nvPr/>
        </p:nvSpPr>
        <p:spPr>
          <a:xfrm>
            <a:off x="14479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83"/>
          <p:cNvSpPr/>
          <p:nvPr/>
        </p:nvSpPr>
        <p:spPr>
          <a:xfrm>
            <a:off x="837360" y="155268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94"/>
          <p:cNvSpPr/>
          <p:nvPr/>
        </p:nvSpPr>
        <p:spPr>
          <a:xfrm>
            <a:off x="6629400" y="2286000"/>
            <a:ext cx="1752480" cy="3124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7"/>
          <p:cNvSpPr/>
          <p:nvPr/>
        </p:nvSpPr>
        <p:spPr>
          <a:xfrm>
            <a:off x="6900840" y="2971800"/>
            <a:ext cx="1219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68"/>
          <p:cNvSpPr/>
          <p:nvPr/>
        </p:nvSpPr>
        <p:spPr>
          <a:xfrm>
            <a:off x="6894360" y="2971800"/>
            <a:ext cx="122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vigation Syste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85"/>
          <p:cNvSpPr/>
          <p:nvPr/>
        </p:nvSpPr>
        <p:spPr>
          <a:xfrm>
            <a:off x="6690960" y="1552680"/>
            <a:ext cx="16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(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90"/>
          <p:cNvSpPr/>
          <p:nvPr/>
        </p:nvSpPr>
        <p:spPr>
          <a:xfrm>
            <a:off x="7053120" y="4038480"/>
            <a:ext cx="990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91"/>
          <p:cNvSpPr/>
          <p:nvPr/>
        </p:nvSpPr>
        <p:spPr>
          <a:xfrm>
            <a:off x="7010280" y="4067280"/>
            <a:ext cx="11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Group 107"/>
          <p:cNvGrpSpPr/>
          <p:nvPr/>
        </p:nvGrpSpPr>
        <p:grpSpPr>
          <a:xfrm>
            <a:off x="1904760" y="2895480"/>
            <a:ext cx="1600200" cy="307080"/>
            <a:chOff x="1904760" y="2895480"/>
            <a:chExt cx="1600200" cy="307080"/>
          </a:xfrm>
        </p:grpSpPr>
        <p:sp>
          <p:nvSpPr>
            <p:cNvPr id="144" name="Text Box 74"/>
            <p:cNvSpPr/>
            <p:nvPr/>
          </p:nvSpPr>
          <p:spPr>
            <a:xfrm>
              <a:off x="2286360" y="2895480"/>
              <a:ext cx="99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XM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79"/>
            <p:cNvSpPr/>
            <p:nvPr/>
          </p:nvSpPr>
          <p:spPr>
            <a:xfrm flipH="1">
              <a:off x="1904760" y="28954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6" name="Group 112"/>
          <p:cNvGrpSpPr/>
          <p:nvPr/>
        </p:nvGrpSpPr>
        <p:grpSpPr>
          <a:xfrm>
            <a:off x="1828800" y="3048120"/>
            <a:ext cx="1828800" cy="1755720"/>
            <a:chOff x="1828800" y="3048120"/>
            <a:chExt cx="1828800" cy="1755720"/>
          </a:xfrm>
        </p:grpSpPr>
        <p:sp>
          <p:nvSpPr>
            <p:cNvPr id="147" name="Line 71"/>
            <p:cNvSpPr/>
            <p:nvPr/>
          </p:nvSpPr>
          <p:spPr>
            <a:xfrm>
              <a:off x="1828800" y="3048120"/>
              <a:ext cx="182880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81"/>
            <p:cNvSpPr/>
            <p:nvPr/>
          </p:nvSpPr>
          <p:spPr>
            <a:xfrm>
              <a:off x="2362320" y="4070520"/>
              <a:ext cx="914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RL to get next 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106"/>
          <p:cNvGrpSpPr/>
          <p:nvPr/>
        </p:nvGrpSpPr>
        <p:grpSpPr>
          <a:xfrm>
            <a:off x="1905120" y="2286000"/>
            <a:ext cx="1600200" cy="520200"/>
            <a:chOff x="1905120" y="2286000"/>
            <a:chExt cx="1600200" cy="520200"/>
          </a:xfrm>
        </p:grpSpPr>
        <p:sp>
          <p:nvSpPr>
            <p:cNvPr id="150" name="Text Box 72"/>
            <p:cNvSpPr/>
            <p:nvPr/>
          </p:nvSpPr>
          <p:spPr>
            <a:xfrm>
              <a:off x="2331720" y="228600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TP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89"/>
            <p:cNvSpPr/>
            <p:nvPr/>
          </p:nvSpPr>
          <p:spPr>
            <a:xfrm>
              <a:off x="1905120" y="2743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8"/>
          <p:cNvGrpSpPr/>
          <p:nvPr/>
        </p:nvGrpSpPr>
        <p:grpSpPr>
          <a:xfrm>
            <a:off x="4723920" y="2743200"/>
            <a:ext cx="2133720" cy="456840"/>
            <a:chOff x="4723920" y="2743200"/>
            <a:chExt cx="2133720" cy="456840"/>
          </a:xfrm>
        </p:grpSpPr>
        <p:sp>
          <p:nvSpPr>
            <p:cNvPr id="153" name="Text Box 75"/>
            <p:cNvSpPr/>
            <p:nvPr/>
          </p:nvSpPr>
          <p:spPr>
            <a:xfrm>
              <a:off x="5556600" y="274320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76"/>
            <p:cNvSpPr/>
            <p:nvPr/>
          </p:nvSpPr>
          <p:spPr>
            <a:xfrm flipH="1" flipV="1">
              <a:off x="4723920" y="2895120"/>
              <a:ext cx="2133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09"/>
          <p:cNvGrpSpPr/>
          <p:nvPr/>
        </p:nvGrpSpPr>
        <p:grpSpPr>
          <a:xfrm>
            <a:off x="4876920" y="3504960"/>
            <a:ext cx="1981080" cy="1447560"/>
            <a:chOff x="4876920" y="3504960"/>
            <a:chExt cx="1981080" cy="1447560"/>
          </a:xfrm>
        </p:grpSpPr>
        <p:sp>
          <p:nvSpPr>
            <p:cNvPr id="156" name="Line 73"/>
            <p:cNvSpPr/>
            <p:nvPr/>
          </p:nvSpPr>
          <p:spPr>
            <a:xfrm flipV="1">
              <a:off x="4876920" y="3504960"/>
              <a:ext cx="198108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77"/>
            <p:cNvSpPr/>
            <p:nvPr/>
          </p:nvSpPr>
          <p:spPr>
            <a:xfrm>
              <a:off x="5943240" y="40384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8" name="Group 113"/>
          <p:cNvGrpSpPr/>
          <p:nvPr/>
        </p:nvGrpSpPr>
        <p:grpSpPr>
          <a:xfrm>
            <a:off x="3047760" y="3276720"/>
            <a:ext cx="884880" cy="1295280"/>
            <a:chOff x="3047760" y="3276720"/>
            <a:chExt cx="884880" cy="1295280"/>
          </a:xfrm>
        </p:grpSpPr>
        <p:sp>
          <p:nvSpPr>
            <p:cNvPr id="159" name="Text Box 80"/>
            <p:cNvSpPr/>
            <p:nvPr/>
          </p:nvSpPr>
          <p:spPr>
            <a:xfrm>
              <a:off x="3047760" y="3608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io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101"/>
            <p:cNvSpPr/>
            <p:nvPr/>
          </p:nvSpPr>
          <p:spPr>
            <a:xfrm flipV="1">
              <a:off x="3886200" y="3276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1" name="Line 114"/>
          <p:cNvSpPr/>
          <p:nvPr/>
        </p:nvSpPr>
        <p:spPr>
          <a:xfrm>
            <a:off x="44956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115"/>
          <p:cNvSpPr/>
          <p:nvPr/>
        </p:nvSpPr>
        <p:spPr>
          <a:xfrm>
            <a:off x="75438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8:28:14Z</dcterms:created>
  <dc:creator>jko</dc:creator>
  <dc:description/>
  <dc:language>en-US</dc:language>
  <cp:lastModifiedBy>matousek</cp:lastModifiedBy>
  <dcterms:modified xsi:type="dcterms:W3CDTF">2010-04-13T07:30:34Z</dcterms:modified>
  <cp:revision>1450</cp:revision>
  <dc:subject/>
  <dc:title>CAMMIA Dialog Manager</dc:title>
</cp:coreProperties>
</file>