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640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38120" y="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93400" y="685800"/>
            <a:ext cx="47754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99172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3812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2266-0B8B-4CFF-9D57-6E9EF0C80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3031-7B51-4A9F-89DD-46ACE025D7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B25C-B3AF-4908-BB22-DF8C44B040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alog Manager for robust and quick dialog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6D79-5D07-46CC-83CD-ADDA8FDD45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D4FB-202D-4F0C-A16C-EA0A63B94F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2D9F-ED1B-4B35-8DA9-C415F73149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0D23-828B-4E74-A1B2-AB652B5DF5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D77-8A01-4769-BBB7-350DCD0E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96792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375-A3D0-4952-9FEF-9EE06415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396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373-DF87-4686-8EC0-3813556B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924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832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924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832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4A5-1761-4442-A530-B1D5E65E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2128-E26C-4100-BDC9-945699587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6329-97B5-4F04-8D6D-C96E1A38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4C22-D18C-4AE1-9278-EDFF52DA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3FBC-C450-4D24-8767-86A13966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EE55-8D92-4947-8A3F-D40E7D38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5629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2D6B-710D-411E-B2D5-1A19620F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7E9D-EA84-4D29-818F-0891398B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5D22-7120-4FD5-9DD8-6ADF7949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396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40C9-075A-4DD5-A3AD-0C362DA8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E42F-1964-4594-A0B0-8EE4BE5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520" y="396792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3F7F-5FF1-43CD-A586-DF2CE5A9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396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D780-5630-4544-BFA9-D4C36CAD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924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832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052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924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832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A2E9-FBAF-49C3-9DD5-8570C409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48D7-6DD9-41E4-A0EC-20E6E3D3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C0A-E401-4A7F-A65A-6A5BED28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632-FD1C-4BF5-BC86-63ABE33D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5629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09B-E1A9-47AF-92FE-1DBBE899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E99-4490-43C4-9065-926AD798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396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582-91A2-4117-B995-35027BEC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430-838E-422E-BD70-FC064FB8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18BB-3403-4E80-BE2E-026C61D57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AF57-4280-4FF1-9426-6ED9BF26F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Picture 15" descr="cmu"/>
          <p:cNvPicPr/>
          <p:nvPr/>
        </p:nvPicPr>
        <p:blipFill>
          <a:blip r:embed="rId2"/>
          <a:stretch/>
        </p:blipFill>
        <p:spPr>
          <a:xfrm>
            <a:off x="7072200" y="0"/>
            <a:ext cx="2057400" cy="289080"/>
          </a:xfrm>
          <a:prstGeom prst="rect">
            <a:avLst/>
          </a:prstGeom>
          <a:ln w="0">
            <a:noFill/>
          </a:ln>
        </p:spPr>
      </p:pic>
      <p:sp>
        <p:nvSpPr>
          <p:cNvPr id="7" name="Text Box 16"/>
          <p:cNvSpPr/>
          <p:nvPr/>
        </p:nvSpPr>
        <p:spPr>
          <a:xfrm>
            <a:off x="1440" y="20520"/>
            <a:ext cx="26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Language Technologies Institu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18" descr="cmu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289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9"/>
          <p:cNvSpPr/>
          <p:nvPr/>
        </p:nvSpPr>
        <p:spPr>
          <a:xfrm>
            <a:off x="1440" y="20520"/>
            <a:ext cx="26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Language Technologies Institu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6F1D-F2D4-4882-9E5B-40771F9AC44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1625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Flexible Dialog Management </a:t>
            </a: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for In-vehicle Dialog System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ongwoo K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ko@cs.cm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8A94-6028-484F-BE1B-0669512C6D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Dialog Manager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multi-user/multi-dialo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Keep track of user session and dialog flows for smooth task switch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Convert user utterances to database qu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-initiative inte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Create VoiceXML with dynamic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=&gt; Hard to write VoiceXML by h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=&gt; Provide abstract level of dialog description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39F0-DFD9-486A-81DE-22AA8037C9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  <a:ea typeface="宋体"/>
              </a:rPr>
              <a:t>Dialog Description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cenarioTemplate (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esigned to facilitate new dialog cre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nsist of prompts an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=&gt; Dialog designer does not have to know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upport explicit/implicit 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mpiled into S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cenarioXML (SXM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nsist of dialog states and trans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ialog developers need to know grammar, but d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 have to add other dialogs for dialog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mpiled into JSP to create VXML with dynamic con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4722-3DAF-4445-A4A1-F228DDF360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724280" y="1371600"/>
            <a:ext cx="4114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1371600"/>
            <a:ext cx="4114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Example of ST and SXML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63480"/>
            <a:ext cx="380988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variables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weather_area: St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weather_date: St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weather_result: St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states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prompt: Please tell me the area and dat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variable: weather_area weather_da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prompt: Please tell me the are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variable: weather_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prompt: please tell me the dat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variable: weather_da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confirmation: Would you like to know the weather for weather_area weather_date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response: The weather for weather_date weather_area is weather_result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609440" y="1461600"/>
            <a:ext cx="4287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!DOCTYPE function SYSTEM "dtd/function.dtd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unction name="Weather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name="ask_weather" position="start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grammar src="grammars/ask_weather_jp.gad"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promp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text&gt;Please tell me the area and date&lt;/tex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promp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jump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ask_weather_area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date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ask_weather_date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area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confirm_weather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area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date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default&gt;Can you tell me again?&lt;/defa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jump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name="ask_weather_area" position="transition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function&gt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380880" y="2057400"/>
            <a:ext cx="8229600" cy="3429000"/>
            <a:chOff x="380880" y="2057400"/>
            <a:chExt cx="8229600" cy="3429000"/>
          </a:xfrm>
        </p:grpSpPr>
        <p:sp>
          <p:nvSpPr>
            <p:cNvPr id="176" name="Rectangle 11"/>
            <p:cNvSpPr/>
            <p:nvPr/>
          </p:nvSpPr>
          <p:spPr>
            <a:xfrm>
              <a:off x="380880" y="2819520"/>
              <a:ext cx="3505320" cy="5331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V="1">
              <a:off x="3886200" y="2209320"/>
              <a:ext cx="914400" cy="685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4800600" y="2057400"/>
              <a:ext cx="3809880" cy="3429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19"/>
          <p:cNvGrpSpPr/>
          <p:nvPr/>
        </p:nvGrpSpPr>
        <p:grpSpPr>
          <a:xfrm>
            <a:off x="380880" y="3429000"/>
            <a:ext cx="8382240" cy="2666880"/>
            <a:chOff x="380880" y="3429000"/>
            <a:chExt cx="8382240" cy="2666880"/>
          </a:xfrm>
        </p:grpSpPr>
        <p:sp>
          <p:nvSpPr>
            <p:cNvPr id="180" name="Rectangle 15"/>
            <p:cNvSpPr/>
            <p:nvPr/>
          </p:nvSpPr>
          <p:spPr>
            <a:xfrm>
              <a:off x="380880" y="3429000"/>
              <a:ext cx="3505320" cy="533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3886200" y="3733920"/>
              <a:ext cx="914400" cy="1981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4800600" y="5486400"/>
              <a:ext cx="3962520" cy="609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CE66-888F-4945-99B6-34D0E5E010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Example of SXML and VoiceXML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724280" y="1371600"/>
            <a:ext cx="4114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04920" y="1371600"/>
            <a:ext cx="4114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66040" y="1447560"/>
            <a:ext cx="4287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!DOCTYPE function SYSTEM "dtd/function.dtd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unction name="Weather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name="ask_weather" position="start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grammar src="grammars/ask_weather_jp.gad"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promp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text&gt;Please tell me the area and date&lt;/tex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promp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jump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ask_weather_area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date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ask_weather_date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area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confirm_weather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area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date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default&gt;Can you tell me again?&lt;/defa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jump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name="ask_weather_area" position="transition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function&gt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80880" y="2057400"/>
            <a:ext cx="3810240" cy="3429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4191120" y="3809880"/>
            <a:ext cx="53316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4724280" y="1371600"/>
            <a:ext cx="4114800" cy="5029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4724280" y="1629360"/>
            <a:ext cx="41148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?xml version="1.0" encoding="UTF-8" ?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xm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 version="2.0" xmlns="http://www.w3.org/2001/vxml"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form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property name="message" value="'SessionID=99 IP=127.0.0.1 PORT=1001 COM=GRAMMAR PARAM=C:\CAMMIA\grammars/;enter_direction_jp.gad;enter_parking_jp.gad;enter_restaurant_jp.gad;cancel_jp.gad;ask_weather_jp.gad;Correction.gad'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block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prompt&gt;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lease tell me the area and da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/prompt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/block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field name="weather_intention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field name="weather_area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field name="weather_date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  …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filled namelist="weather_intention"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if cond="(weather_date!=undefined)"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 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submit namelist="recog_result weather_date"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="ask_weather_area.jsp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/if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if cond="(weather_area!=undefined)"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submit namelist="recog_result weather_area"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ext="ask_weather_date.jsp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/if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/filled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/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xm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21"/>
          <p:cNvSpPr/>
          <p:nvPr/>
        </p:nvSpPr>
        <p:spPr>
          <a:xfrm>
            <a:off x="5715000" y="3236760"/>
            <a:ext cx="3276720" cy="641520"/>
          </a:xfrm>
          <a:prstGeom prst="wedgeRectCallout">
            <a:avLst>
              <a:gd name="adj1" fmla="val -64717"/>
              <a:gd name="adj2" fmla="val 55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field name=“parking_intention" 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field name=“restaurant_intention" 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field name=“direction_intention" 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22"/>
          <p:cNvSpPr/>
          <p:nvPr/>
        </p:nvSpPr>
        <p:spPr>
          <a:xfrm>
            <a:off x="5638680" y="5334120"/>
            <a:ext cx="3353040" cy="641520"/>
          </a:xfrm>
          <a:prstGeom prst="wedgeRectCallout">
            <a:avLst>
              <a:gd name="adj1" fmla="val -64532"/>
              <a:gd name="adj2" fmla="val 70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filled namelist=“direction_intention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goto next="ask_direction.jsp"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/fille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D611-7A40-41E7-85F1-DCD6CD999A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ScenarioTemplate Format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templat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variables&gt;&lt;state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variables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variable+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variabl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statename&gt;_&lt;id&gt;:&lt;typ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statename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letter+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id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letter+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typ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String|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letter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a|b|c|d|e|f|g|h|i|j|k|l|m|n|o|p|q|r|s|t|u|v|w|x|y|z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A|B|C|D|E|F|G|H|I|J|K|L|M|N|O|P|Q|R|S|T|U|V|W|X|Y|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states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state+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stat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{&lt;question+&gt;&lt;confirmation&gt;&lt;response&gt;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question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variable+&gt;&lt;prompt&gt;&lt;backpromp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prompt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{ &lt;letter&gt; | &lt;variable&gt; | " "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backprompt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promp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confirmation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promp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respons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promp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D295-72A3-485E-9B4E-41B7179FC0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ScenarioXML DTD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13046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function (state*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function name CDATA #REQUIR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state (grammar?, result*, prompt?, backprompt?, filled?, jump?, nofound?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state name CDATA #REQUI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sition CDATA #IMPLI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grammar EMPT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grammar src CDATA #REQUIR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result (field*, list*, param*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result class CDATA #REQUI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thod CDATA #REQUIR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field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list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field condition CDATA #IMPLI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param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prompt AN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text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backprompt AN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filled (field*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jump (nextstate*, default?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nextstate (field*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nextstate next CDATA #REQUIR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default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default next CDATA #IMPLI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nofound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C403-4D5E-4E8F-A2B1-1F2485A83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  <a:ea typeface="宋体"/>
              </a:rPr>
              <a:t>SXML Development Kit (SXMLDK)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wo-step compilation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XMLD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600200" y="2209680"/>
            <a:ext cx="472428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057400" y="22701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cenarioXML Development K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" name="Group 27"/>
          <p:cNvGrpSpPr/>
          <p:nvPr/>
        </p:nvGrpSpPr>
        <p:grpSpPr>
          <a:xfrm>
            <a:off x="3048120" y="2819520"/>
            <a:ext cx="1600200" cy="761760"/>
            <a:chOff x="3048120" y="2819520"/>
            <a:chExt cx="1600200" cy="761760"/>
          </a:xfrm>
        </p:grpSpPr>
        <p:sp>
          <p:nvSpPr>
            <p:cNvPr id="206" name="AutoShape 6"/>
            <p:cNvSpPr/>
            <p:nvPr/>
          </p:nvSpPr>
          <p:spPr>
            <a:xfrm>
              <a:off x="3048120" y="2819520"/>
              <a:ext cx="1600200" cy="7617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327672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T Compil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" name="Oval 9"/>
          <p:cNvSpPr/>
          <p:nvPr/>
        </p:nvSpPr>
        <p:spPr>
          <a:xfrm>
            <a:off x="228600" y="3124080"/>
            <a:ext cx="121932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257040" y="3124080"/>
            <a:ext cx="109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cenario Templ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11"/>
          <p:cNvSpPr/>
          <p:nvPr/>
        </p:nvSpPr>
        <p:spPr>
          <a:xfrm flipV="1">
            <a:off x="1447920" y="3200040"/>
            <a:ext cx="152388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3048120" y="541008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3035160" y="5454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XML Compi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1600200" y="3886200"/>
            <a:ext cx="4648320" cy="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1600200" y="5105520"/>
            <a:ext cx="4648320" cy="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35"/>
          <p:cNvGrpSpPr/>
          <p:nvPr/>
        </p:nvGrpSpPr>
        <p:grpSpPr>
          <a:xfrm>
            <a:off x="3200400" y="3733920"/>
            <a:ext cx="1447920" cy="1143000"/>
            <a:chOff x="3200400" y="3733920"/>
            <a:chExt cx="1447920" cy="1143000"/>
          </a:xfrm>
        </p:grpSpPr>
        <p:sp>
          <p:nvSpPr>
            <p:cNvPr id="216" name="Line 15"/>
            <p:cNvSpPr/>
            <p:nvPr/>
          </p:nvSpPr>
          <p:spPr>
            <a:xfrm>
              <a:off x="3886200" y="3733920"/>
              <a:ext cx="0" cy="3812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7" name="Group 33"/>
            <p:cNvGrpSpPr/>
            <p:nvPr/>
          </p:nvGrpSpPr>
          <p:grpSpPr>
            <a:xfrm>
              <a:off x="3200400" y="4191120"/>
              <a:ext cx="1447920" cy="685800"/>
              <a:chOff x="3200400" y="4191120"/>
              <a:chExt cx="1447920" cy="685800"/>
            </a:xfrm>
          </p:grpSpPr>
          <p:sp>
            <p:nvSpPr>
              <p:cNvPr id="218" name="Oval 16"/>
              <p:cNvSpPr/>
              <p:nvPr/>
            </p:nvSpPr>
            <p:spPr>
              <a:xfrm>
                <a:off x="3200400" y="4191120"/>
                <a:ext cx="1447920" cy="685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Text Box 17"/>
              <p:cNvSpPr/>
              <p:nvPr/>
            </p:nvSpPr>
            <p:spPr>
              <a:xfrm>
                <a:off x="3200400" y="4343760"/>
                <a:ext cx="144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ScenarioXM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20" name="Oval 21"/>
          <p:cNvSpPr/>
          <p:nvPr/>
        </p:nvSpPr>
        <p:spPr>
          <a:xfrm>
            <a:off x="6629400" y="4648320"/>
            <a:ext cx="9144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22"/>
          <p:cNvSpPr/>
          <p:nvPr/>
        </p:nvSpPr>
        <p:spPr>
          <a:xfrm flipV="1">
            <a:off x="4800600" y="5028840"/>
            <a:ext cx="17524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629400" y="472932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JSP fi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" name="Group 34"/>
          <p:cNvGrpSpPr/>
          <p:nvPr/>
        </p:nvGrpSpPr>
        <p:grpSpPr>
          <a:xfrm>
            <a:off x="1600200" y="4191120"/>
            <a:ext cx="4648320" cy="686880"/>
            <a:chOff x="1600200" y="4191120"/>
            <a:chExt cx="4648320" cy="686880"/>
          </a:xfrm>
        </p:grpSpPr>
        <p:sp>
          <p:nvSpPr>
            <p:cNvPr id="224" name="Oval 24"/>
            <p:cNvSpPr/>
            <p:nvPr/>
          </p:nvSpPr>
          <p:spPr>
            <a:xfrm>
              <a:off x="1676520" y="4192560"/>
              <a:ext cx="1447920" cy="685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1600200" y="4343400"/>
              <a:ext cx="152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ialog Nam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Oval 31"/>
            <p:cNvSpPr/>
            <p:nvPr/>
          </p:nvSpPr>
          <p:spPr>
            <a:xfrm>
              <a:off x="4800600" y="4191120"/>
              <a:ext cx="1447920" cy="685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2"/>
            <p:cNvSpPr/>
            <p:nvPr/>
          </p:nvSpPr>
          <p:spPr>
            <a:xfrm>
              <a:off x="4724640" y="4341600"/>
              <a:ext cx="1523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Gramma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" name="Group 38"/>
          <p:cNvGrpSpPr/>
          <p:nvPr/>
        </p:nvGrpSpPr>
        <p:grpSpPr>
          <a:xfrm>
            <a:off x="2743200" y="4952880"/>
            <a:ext cx="2209320" cy="380880"/>
            <a:chOff x="2743200" y="4952880"/>
            <a:chExt cx="2209320" cy="380880"/>
          </a:xfrm>
        </p:grpSpPr>
        <p:sp>
          <p:nvSpPr>
            <p:cNvPr id="229" name="Line 14"/>
            <p:cNvSpPr/>
            <p:nvPr/>
          </p:nvSpPr>
          <p:spPr>
            <a:xfrm>
              <a:off x="3885840" y="4952880"/>
              <a:ext cx="0" cy="380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26"/>
            <p:cNvSpPr/>
            <p:nvPr/>
          </p:nvSpPr>
          <p:spPr>
            <a:xfrm>
              <a:off x="2743200" y="4952880"/>
              <a:ext cx="838080" cy="304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37"/>
            <p:cNvSpPr/>
            <p:nvPr/>
          </p:nvSpPr>
          <p:spPr>
            <a:xfrm flipH="1">
              <a:off x="4190760" y="4952880"/>
              <a:ext cx="761760" cy="304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Oval 39"/>
          <p:cNvSpPr/>
          <p:nvPr/>
        </p:nvSpPr>
        <p:spPr>
          <a:xfrm>
            <a:off x="7848720" y="4643280"/>
            <a:ext cx="9144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40"/>
          <p:cNvSpPr/>
          <p:nvPr/>
        </p:nvSpPr>
        <p:spPr>
          <a:xfrm>
            <a:off x="7891560" y="467676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oice X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41"/>
          <p:cNvSpPr/>
          <p:nvPr/>
        </p:nvSpPr>
        <p:spPr>
          <a:xfrm>
            <a:off x="754380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1DCA-7270-4CD3-B0B3-F79B038F06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SXMLDK User Interfac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237" name="Picture 1028" descr="snapshot8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14E2-21C4-48EC-9C8F-C7D2774F50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Nex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ach in CAMM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og Manageme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Template/Scenario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XML Development 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ilot Systems &amp; Experime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Research Foc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D0F9-360F-449D-8219-93630871E8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Pilot Systems 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type I (200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building general architecture to support SXM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 is session-less and VoiceXML needs to keep user’s utterances in each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XML provides session variable to keep user’s utteran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ession-variable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ersistent names="DMEnv_persistent_topic DMEnv_persistent_weather_date DMEnv_persistent_weather_area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ient names="DMEnv_answer_weather_date DMEnv_answer_weather_area DMEnv_answer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ssion-variable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B102-A113-4528-8EFE-5F8389945A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Outline</a:t>
            </a: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ach in CAMM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og Manageme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Template/Scenario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XML Development 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lot Systems &amp;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Research Foc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F4C1-FB0E-44C4-824E-196DB633E6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Pilot System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otype II (200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Prototype 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ScenarioTemplate &amp; SXMLD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ed values and dialog states are stored in back-end dialog contro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the current values are stored in VoiceX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E8D8-1210-4104-A968-F6FDB7C70C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Pilot Experiment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91"/>
          <p:cNvSpPr/>
          <p:nvPr/>
        </p:nvSpPr>
        <p:spPr>
          <a:xfrm>
            <a:off x="569880" y="1447920"/>
            <a:ext cx="8574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mpare Prototype I &amp; 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est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VXI: Intel Pentium III 800MHz, 512M 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DM: Intel Pentium II 400MHz, 224M 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ample Dialo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U1: Weather information, p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1: Please tell me the area and the 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U2: Tomor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2: Please tell me th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U3: Pittsbur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3: Are you asking the weather for Pittsburgh tomorrow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U4: Y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4: The weather for Pittsburgh tomorrow will be sunn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543800" y="3581280"/>
            <a:ext cx="228600" cy="871560"/>
          </a:xfrm>
          <a:custGeom>
            <a:avLst/>
            <a:gdLst>
              <a:gd name="textAreaLeft" fmla="*/ 0 w 228600"/>
              <a:gd name="textAreaRight" fmla="*/ 228960 w 22860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576" h="624">
                <a:moveTo>
                  <a:pt x="0" y="0"/>
                </a:moveTo>
                <a:lnTo>
                  <a:pt x="576" y="0"/>
                </a:lnTo>
                <a:lnTo>
                  <a:pt x="576" y="624"/>
                </a:lnTo>
                <a:lnTo>
                  <a:pt x="48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Freeform 115"/>
          <p:cNvSpPr/>
          <p:nvPr/>
        </p:nvSpPr>
        <p:spPr>
          <a:xfrm>
            <a:off x="7543800" y="4495680"/>
            <a:ext cx="228600" cy="762120"/>
          </a:xfrm>
          <a:custGeom>
            <a:avLst/>
            <a:gdLst>
              <a:gd name="textAreaLeft" fmla="*/ 0 w 228600"/>
              <a:gd name="textAreaRight" fmla="*/ 228960 w 228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76" h="624">
                <a:moveTo>
                  <a:pt x="0" y="0"/>
                </a:moveTo>
                <a:lnTo>
                  <a:pt x="576" y="0"/>
                </a:lnTo>
                <a:lnTo>
                  <a:pt x="576" y="624"/>
                </a:lnTo>
                <a:lnTo>
                  <a:pt x="48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Freeform 116"/>
          <p:cNvSpPr/>
          <p:nvPr/>
        </p:nvSpPr>
        <p:spPr>
          <a:xfrm>
            <a:off x="7543800" y="5410080"/>
            <a:ext cx="228600" cy="592200"/>
          </a:xfrm>
          <a:custGeom>
            <a:avLst/>
            <a:gdLst>
              <a:gd name="textAreaLeft" fmla="*/ 0 w 228600"/>
              <a:gd name="textAreaRight" fmla="*/ 228960 w 2286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76" h="624">
                <a:moveTo>
                  <a:pt x="0" y="0"/>
                </a:moveTo>
                <a:lnTo>
                  <a:pt x="576" y="0"/>
                </a:lnTo>
                <a:lnTo>
                  <a:pt x="576" y="624"/>
                </a:lnTo>
                <a:lnTo>
                  <a:pt x="48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Freeform 117"/>
          <p:cNvSpPr/>
          <p:nvPr/>
        </p:nvSpPr>
        <p:spPr>
          <a:xfrm>
            <a:off x="7543800" y="6095880"/>
            <a:ext cx="228600" cy="338400"/>
          </a:xfrm>
          <a:custGeom>
            <a:avLst/>
            <a:gdLst>
              <a:gd name="textAreaLeft" fmla="*/ 0 w 228600"/>
              <a:gd name="textAreaRight" fmla="*/ 228960 w 22860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576" h="624">
                <a:moveTo>
                  <a:pt x="0" y="0"/>
                </a:moveTo>
                <a:lnTo>
                  <a:pt x="576" y="0"/>
                </a:lnTo>
                <a:lnTo>
                  <a:pt x="576" y="624"/>
                </a:lnTo>
                <a:lnTo>
                  <a:pt x="48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118"/>
          <p:cNvSpPr/>
          <p:nvPr/>
        </p:nvSpPr>
        <p:spPr>
          <a:xfrm>
            <a:off x="7908840" y="384192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119"/>
          <p:cNvSpPr/>
          <p:nvPr/>
        </p:nvSpPr>
        <p:spPr>
          <a:xfrm>
            <a:off x="7908840" y="472428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120"/>
          <p:cNvSpPr/>
          <p:nvPr/>
        </p:nvSpPr>
        <p:spPr>
          <a:xfrm>
            <a:off x="7717320" y="54864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121"/>
          <p:cNvSpPr/>
          <p:nvPr/>
        </p:nvSpPr>
        <p:spPr>
          <a:xfrm>
            <a:off x="7882200" y="60199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3559-0D81-4FB2-999A-2C23969ED8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omparison of Bandwidth Utilization 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compare bandwidth utilization, VXML file sizes were meas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143000" y="2895480"/>
          <a:ext cx="6705720" cy="281952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221004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Sub 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type 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type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sk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sk 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onfi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vg VXML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2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Text Box 34"/>
          <p:cNvSpPr/>
          <p:nvPr/>
        </p:nvSpPr>
        <p:spPr>
          <a:xfrm>
            <a:off x="6487200" y="57294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: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6D1D-F970-48DD-BAFA-60FC77243C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omparison of User Wait Tim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compare end-user wait time, loading time in VXI were meas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143000" y="2819520"/>
          <a:ext cx="6705720" cy="281916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221004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Sub 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type 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type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sk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5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.8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sk 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.2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onfi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4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.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.1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vg Loading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宋体"/>
                        </a:rPr>
                        <a:t>1.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 Box 38"/>
          <p:cNvSpPr/>
          <p:nvPr/>
        </p:nvSpPr>
        <p:spPr>
          <a:xfrm>
            <a:off x="6363000" y="56530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: seco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8BCF-B8FF-4ED3-866D-324CDADF11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Summary of Prototype II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fficient VXML management: VXML includes only the current 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faster &amp; less use of network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asy to add new dialogs using ScenarioTempl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asy to support multiple languages by changing ScenarioTemplate prompts and gramm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redefined dialog states and prom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 to support more complex dialo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646A-4514-4948-91D2-4E5D638E7A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Example of Complex Dialog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16292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1: Tour guide, please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1: Tour guidance is started. Where is a destination?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2: Carnegie Mellon Universit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2: The distance to the destination is 100 miles. It takes about 2 hour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3: Do you know a good restaurant near here?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3: What kind of food do you like?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4: I want to eat Italian food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4: There are Olive garden, Bravo and Laromana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5: Well, I'd like to go to Laromana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5: </a:t>
            </a:r>
            <a:r>
              <a:rPr b="1" lang="en-US" sz="1700" spc="-1" strike="noStrike">
                <a:solidFill>
                  <a:srgbClr val="ff0000"/>
                </a:solidFill>
                <a:latin typeface="Tahoma"/>
              </a:rPr>
              <a:t>It does not have a parking lot. Is it OK?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6: Tell me the one which has parking lot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6: </a:t>
            </a:r>
            <a:r>
              <a:rPr b="1" lang="en-US" sz="1700" spc="-1" strike="noStrike">
                <a:solidFill>
                  <a:srgbClr val="3333cc"/>
                </a:solidFill>
                <a:latin typeface="Tahoma"/>
              </a:rPr>
              <a:t>Olive garden and Bravo have parking lots</a:t>
            </a:r>
            <a:r>
              <a:rPr b="0" lang="en-US" sz="1700" spc="-1" strike="noStrike">
                <a:solidFill>
                  <a:srgbClr val="3333cc"/>
                </a:solidFill>
                <a:latin typeface="Tahom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7: </a:t>
            </a:r>
            <a:r>
              <a:rPr b="1" lang="en-US" sz="1700" spc="-1" strike="noStrike">
                <a:solidFill>
                  <a:srgbClr val="00e4a8"/>
                </a:solidFill>
                <a:latin typeface="Tahoma"/>
              </a:rPr>
              <a:t>Which one is closer?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7: Brav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8: I would like to go </a:t>
            </a:r>
            <a:r>
              <a:rPr b="1" lang="en-US" sz="1700" spc="-1" strike="noStrike">
                <a:solidFill>
                  <a:srgbClr val="ff0000"/>
                </a:solidFill>
                <a:latin typeface="Tahoma"/>
              </a:rPr>
              <a:t>there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8: Do you want to add it as a way point?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9: Y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9: </a:t>
            </a:r>
            <a:r>
              <a:rPr b="1" lang="en-US" sz="1700" spc="-1" strike="noStrike">
                <a:solidFill>
                  <a:srgbClr val="a50021"/>
                </a:solidFill>
                <a:latin typeface="Tahoma"/>
              </a:rPr>
              <a:t>I set Bravo as the waypoint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9527-4FA8-48D3-AE90-FFCBA93E11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Nex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ach in CAMM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og Manageme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Template/Scenario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XML Development 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lot Systems &amp;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urrent Research Focu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A0EC-B81B-48BF-8738-E5054329A1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  <a:ea typeface="宋体"/>
              </a:rPr>
              <a:t>Current Research Focu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le dialog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 model: Offer important information even though user does no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) do not take credit card, do not have parking l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data from the list which was already retr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comparison (the cheapest, clo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phora resolution (there,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way point to Navigation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EEEE-A77E-41BB-B85B-56E0625019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  <a:ea typeface="宋体"/>
              </a:rPr>
              <a:t>Current Research Focu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 dialog management for signal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Retrieval task management for signa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og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Located in vehi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Retrieve data from the remote database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Maintain local cache with timesta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3821-F611-44DD-A368-9D88FC072D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101"/>
          <p:cNvSpPr/>
          <p:nvPr/>
        </p:nvSpPr>
        <p:spPr>
          <a:xfrm>
            <a:off x="228600" y="1600200"/>
            <a:ext cx="63244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Extended Architectur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7" name="Rectangle 37"/>
          <p:cNvSpPr/>
          <p:nvPr/>
        </p:nvSpPr>
        <p:spPr>
          <a:xfrm>
            <a:off x="2438280" y="2317680"/>
            <a:ext cx="3886200" cy="217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2743200" y="2470320"/>
            <a:ext cx="106668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39"/>
          <p:cNvSpPr/>
          <p:nvPr/>
        </p:nvSpPr>
        <p:spPr>
          <a:xfrm>
            <a:off x="2743200" y="3581280"/>
            <a:ext cx="990720" cy="60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40"/>
          <p:cNvSpPr/>
          <p:nvPr/>
        </p:nvSpPr>
        <p:spPr>
          <a:xfrm>
            <a:off x="2819520" y="37130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1"/>
          <p:cNvSpPr/>
          <p:nvPr/>
        </p:nvSpPr>
        <p:spPr>
          <a:xfrm>
            <a:off x="2788920" y="257328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42"/>
          <p:cNvSpPr/>
          <p:nvPr/>
        </p:nvSpPr>
        <p:spPr>
          <a:xfrm>
            <a:off x="3861360" y="16765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o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7"/>
          <p:cNvSpPr/>
          <p:nvPr/>
        </p:nvSpPr>
        <p:spPr>
          <a:xfrm>
            <a:off x="533520" y="2317680"/>
            <a:ext cx="1371600" cy="217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762120" y="25462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1"/>
          <p:cNvSpPr/>
          <p:nvPr/>
        </p:nvSpPr>
        <p:spPr>
          <a:xfrm>
            <a:off x="914760" y="25750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55"/>
          <p:cNvSpPr/>
          <p:nvPr/>
        </p:nvSpPr>
        <p:spPr>
          <a:xfrm>
            <a:off x="1219320" y="292752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6"/>
          <p:cNvSpPr/>
          <p:nvPr/>
        </p:nvSpPr>
        <p:spPr>
          <a:xfrm>
            <a:off x="717840" y="1700280"/>
            <a:ext cx="102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58"/>
          <p:cNvSpPr/>
          <p:nvPr/>
        </p:nvSpPr>
        <p:spPr>
          <a:xfrm>
            <a:off x="1600200" y="5029200"/>
            <a:ext cx="304812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59"/>
          <p:cNvSpPr/>
          <p:nvPr/>
        </p:nvSpPr>
        <p:spPr>
          <a:xfrm>
            <a:off x="4572000" y="2470320"/>
            <a:ext cx="990720" cy="57780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60"/>
          <p:cNvSpPr/>
          <p:nvPr/>
        </p:nvSpPr>
        <p:spPr>
          <a:xfrm>
            <a:off x="4579920" y="2516040"/>
            <a:ext cx="103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61"/>
          <p:cNvSpPr/>
          <p:nvPr/>
        </p:nvSpPr>
        <p:spPr>
          <a:xfrm>
            <a:off x="340200" y="530712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viga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62"/>
          <p:cNvSpPr/>
          <p:nvPr/>
        </p:nvSpPr>
        <p:spPr>
          <a:xfrm>
            <a:off x="1871640" y="5257800"/>
            <a:ext cx="9907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63"/>
          <p:cNvSpPr/>
          <p:nvPr/>
        </p:nvSpPr>
        <p:spPr>
          <a:xfrm>
            <a:off x="1828800" y="5286240"/>
            <a:ext cx="110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83"/>
          <p:cNvSpPr/>
          <p:nvPr/>
        </p:nvSpPr>
        <p:spPr>
          <a:xfrm>
            <a:off x="719280" y="3276720"/>
            <a:ext cx="1033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84"/>
          <p:cNvSpPr/>
          <p:nvPr/>
        </p:nvSpPr>
        <p:spPr>
          <a:xfrm>
            <a:off x="871200" y="3348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89"/>
          <p:cNvSpPr/>
          <p:nvPr/>
        </p:nvSpPr>
        <p:spPr>
          <a:xfrm>
            <a:off x="3189240" y="51814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90"/>
          <p:cNvSpPr/>
          <p:nvPr/>
        </p:nvSpPr>
        <p:spPr>
          <a:xfrm>
            <a:off x="3182760" y="5245200"/>
            <a:ext cx="122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 Syste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92"/>
          <p:cNvSpPr/>
          <p:nvPr/>
        </p:nvSpPr>
        <p:spPr>
          <a:xfrm>
            <a:off x="2873520" y="5562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93"/>
          <p:cNvSpPr/>
          <p:nvPr/>
        </p:nvSpPr>
        <p:spPr>
          <a:xfrm>
            <a:off x="350532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95"/>
          <p:cNvSpPr/>
          <p:nvPr/>
        </p:nvSpPr>
        <p:spPr>
          <a:xfrm>
            <a:off x="541008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96"/>
          <p:cNvSpPr/>
          <p:nvPr/>
        </p:nvSpPr>
        <p:spPr>
          <a:xfrm>
            <a:off x="5479920" y="3216240"/>
            <a:ext cx="725760" cy="746280"/>
          </a:xfrm>
          <a:prstGeom prst="flowChartMagneticDisk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97"/>
          <p:cNvSpPr/>
          <p:nvPr/>
        </p:nvSpPr>
        <p:spPr>
          <a:xfrm>
            <a:off x="5410080" y="3430440"/>
            <a:ext cx="87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99"/>
          <p:cNvSpPr/>
          <p:nvPr/>
        </p:nvSpPr>
        <p:spPr>
          <a:xfrm>
            <a:off x="3809880" y="2774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100"/>
          <p:cNvSpPr/>
          <p:nvPr/>
        </p:nvSpPr>
        <p:spPr>
          <a:xfrm>
            <a:off x="3276720" y="3156120"/>
            <a:ext cx="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02"/>
          <p:cNvSpPr/>
          <p:nvPr/>
        </p:nvSpPr>
        <p:spPr>
          <a:xfrm>
            <a:off x="7238880" y="1600200"/>
            <a:ext cx="167652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AutoShape 103"/>
          <p:cNvSpPr/>
          <p:nvPr/>
        </p:nvSpPr>
        <p:spPr>
          <a:xfrm>
            <a:off x="7696080" y="3886200"/>
            <a:ext cx="725760" cy="533520"/>
          </a:xfrm>
          <a:prstGeom prst="flowChartMagneticDisk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104"/>
          <p:cNvSpPr/>
          <p:nvPr/>
        </p:nvSpPr>
        <p:spPr>
          <a:xfrm>
            <a:off x="7736040" y="4038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07"/>
          <p:cNvSpPr/>
          <p:nvPr/>
        </p:nvSpPr>
        <p:spPr>
          <a:xfrm>
            <a:off x="7504200" y="2486160"/>
            <a:ext cx="11001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108"/>
          <p:cNvSpPr/>
          <p:nvPr/>
        </p:nvSpPr>
        <p:spPr>
          <a:xfrm>
            <a:off x="7351560" y="2514600"/>
            <a:ext cx="14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09"/>
          <p:cNvSpPr/>
          <p:nvPr/>
        </p:nvSpPr>
        <p:spPr>
          <a:xfrm>
            <a:off x="7873920" y="4343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110"/>
          <p:cNvSpPr/>
          <p:nvPr/>
        </p:nvSpPr>
        <p:spPr>
          <a:xfrm>
            <a:off x="803736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111"/>
          <p:cNvSpPr/>
          <p:nvPr/>
        </p:nvSpPr>
        <p:spPr>
          <a:xfrm>
            <a:off x="5562720" y="2743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112"/>
          <p:cNvSpPr/>
          <p:nvPr/>
        </p:nvSpPr>
        <p:spPr>
          <a:xfrm>
            <a:off x="5411160" y="594360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113"/>
          <p:cNvSpPr/>
          <p:nvPr/>
        </p:nvSpPr>
        <p:spPr>
          <a:xfrm>
            <a:off x="7543800" y="5791320"/>
            <a:ext cx="11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mote Ser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114"/>
          <p:cNvSpPr/>
          <p:nvPr/>
        </p:nvSpPr>
        <p:spPr>
          <a:xfrm>
            <a:off x="768024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115"/>
          <p:cNvSpPr/>
          <p:nvPr/>
        </p:nvSpPr>
        <p:spPr>
          <a:xfrm>
            <a:off x="7704000" y="4800600"/>
            <a:ext cx="725760" cy="533520"/>
          </a:xfrm>
          <a:prstGeom prst="flowChartMagneticDisk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116"/>
          <p:cNvSpPr/>
          <p:nvPr/>
        </p:nvSpPr>
        <p:spPr>
          <a:xfrm>
            <a:off x="774396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117"/>
          <p:cNvSpPr/>
          <p:nvPr/>
        </p:nvSpPr>
        <p:spPr>
          <a:xfrm>
            <a:off x="4114800" y="3579840"/>
            <a:ext cx="990720" cy="57780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118"/>
          <p:cNvSpPr/>
          <p:nvPr/>
        </p:nvSpPr>
        <p:spPr>
          <a:xfrm>
            <a:off x="4114800" y="3624120"/>
            <a:ext cx="103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119"/>
          <p:cNvSpPr/>
          <p:nvPr/>
        </p:nvSpPr>
        <p:spPr>
          <a:xfrm>
            <a:off x="3809880" y="2895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20"/>
          <p:cNvSpPr/>
          <p:nvPr/>
        </p:nvSpPr>
        <p:spPr>
          <a:xfrm flipH="1">
            <a:off x="1676160" y="2743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C34F-D0AC-447C-B059-7ABA0812BD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Introduction of CAMMIA Projec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2" name="Picture 4" descr="C:\Documents and Settings\Owner\Desktop\CAMMIA_image.jpg"/>
          <p:cNvPicPr/>
          <p:nvPr/>
        </p:nvPicPr>
        <p:blipFill>
          <a:blip r:embed="rId1"/>
          <a:stretch/>
        </p:blipFill>
        <p:spPr>
          <a:xfrm>
            <a:off x="838080" y="2514600"/>
            <a:ext cx="7315200" cy="2765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4800" y="1295280"/>
            <a:ext cx="80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(Conversational Agent for Multilingual Mobile Information Acc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3D51-A6DF-45CB-83E5-9F199070F6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Dialog Manager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upport information seeking dialogs, it has three dialog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Ask the user to fill the minimum search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Display the search resul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) There are three Italian restaurants near hear, A, B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refin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User can narrow down the searched items with different search options such as price and dis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) Which one is close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Automatically check important information (Push mode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Add way point to the Navigation m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) I set it as the way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7355-1AB1-444D-8A1D-20E92729677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Dynamic State Transition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7" name="Rectangle 76"/>
          <p:cNvSpPr/>
          <p:nvPr/>
        </p:nvSpPr>
        <p:spPr>
          <a:xfrm>
            <a:off x="3809880" y="4876920"/>
            <a:ext cx="449604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78"/>
          <p:cNvSpPr/>
          <p:nvPr/>
        </p:nvSpPr>
        <p:spPr>
          <a:xfrm>
            <a:off x="1371600" y="1523880"/>
            <a:ext cx="5562720" cy="160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80"/>
          <p:cNvSpPr/>
          <p:nvPr/>
        </p:nvSpPr>
        <p:spPr>
          <a:xfrm>
            <a:off x="4114800" y="3733920"/>
            <a:ext cx="3809880" cy="83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81"/>
          <p:cNvSpPr/>
          <p:nvPr/>
        </p:nvSpPr>
        <p:spPr>
          <a:xfrm>
            <a:off x="1752480" y="1676520"/>
            <a:ext cx="1422360" cy="36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82"/>
          <p:cNvSpPr/>
          <p:nvPr/>
        </p:nvSpPr>
        <p:spPr>
          <a:xfrm>
            <a:off x="1752480" y="1681200"/>
            <a:ext cx="144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search constrai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Oval 83"/>
          <p:cNvSpPr/>
          <p:nvPr/>
        </p:nvSpPr>
        <p:spPr>
          <a:xfrm>
            <a:off x="1752480" y="2590920"/>
            <a:ext cx="1447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84"/>
          <p:cNvSpPr/>
          <p:nvPr/>
        </p:nvSpPr>
        <p:spPr>
          <a:xfrm>
            <a:off x="1816200" y="2666880"/>
            <a:ext cx="1447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the resul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86"/>
          <p:cNvSpPr/>
          <p:nvPr/>
        </p:nvSpPr>
        <p:spPr>
          <a:xfrm>
            <a:off x="243828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Oval 89"/>
          <p:cNvSpPr/>
          <p:nvPr/>
        </p:nvSpPr>
        <p:spPr>
          <a:xfrm>
            <a:off x="1752480" y="6343560"/>
            <a:ext cx="1422360" cy="28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90"/>
          <p:cNvSpPr/>
          <p:nvPr/>
        </p:nvSpPr>
        <p:spPr>
          <a:xfrm>
            <a:off x="2057400" y="634356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 dialo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91"/>
          <p:cNvSpPr/>
          <p:nvPr/>
        </p:nvSpPr>
        <p:spPr>
          <a:xfrm>
            <a:off x="2438280" y="2971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92"/>
          <p:cNvSpPr/>
          <p:nvPr/>
        </p:nvSpPr>
        <p:spPr>
          <a:xfrm>
            <a:off x="3200400" y="1828800"/>
            <a:ext cx="1382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93"/>
          <p:cNvSpPr/>
          <p:nvPr/>
        </p:nvSpPr>
        <p:spPr>
          <a:xfrm>
            <a:off x="3276720" y="16002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constraints=y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Oval 94"/>
          <p:cNvSpPr/>
          <p:nvPr/>
        </p:nvSpPr>
        <p:spPr>
          <a:xfrm>
            <a:off x="4572000" y="1816200"/>
            <a:ext cx="1295280" cy="39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95"/>
          <p:cNvSpPr/>
          <p:nvPr/>
        </p:nvSpPr>
        <p:spPr>
          <a:xfrm>
            <a:off x="4680000" y="1947960"/>
            <a:ext cx="1098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k constrai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96"/>
          <p:cNvSpPr/>
          <p:nvPr/>
        </p:nvSpPr>
        <p:spPr>
          <a:xfrm flipH="1">
            <a:off x="2971440" y="2122560"/>
            <a:ext cx="165564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98"/>
          <p:cNvSpPr/>
          <p:nvPr/>
        </p:nvSpPr>
        <p:spPr>
          <a:xfrm>
            <a:off x="5029200" y="1660680"/>
            <a:ext cx="1752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constraints=y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Freeform 99"/>
          <p:cNvSpPr/>
          <p:nvPr/>
        </p:nvSpPr>
        <p:spPr>
          <a:xfrm>
            <a:off x="5867280" y="187308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344" h="400">
                <a:moveTo>
                  <a:pt x="0" y="144"/>
                </a:moveTo>
                <a:cubicBezTo>
                  <a:pt x="44" y="72"/>
                  <a:pt x="88" y="0"/>
                  <a:pt x="144" y="0"/>
                </a:cubicBezTo>
                <a:cubicBezTo>
                  <a:pt x="200" y="0"/>
                  <a:pt x="328" y="80"/>
                  <a:pt x="336" y="144"/>
                </a:cubicBezTo>
                <a:cubicBezTo>
                  <a:pt x="344" y="208"/>
                  <a:pt x="248" y="368"/>
                  <a:pt x="192" y="384"/>
                </a:cubicBezTo>
                <a:cubicBezTo>
                  <a:pt x="136" y="400"/>
                  <a:pt x="68" y="320"/>
                  <a:pt x="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101"/>
          <p:cNvSpPr/>
          <p:nvPr/>
        </p:nvSpPr>
        <p:spPr>
          <a:xfrm>
            <a:off x="3124080" y="34290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Oval 102"/>
          <p:cNvSpPr/>
          <p:nvPr/>
        </p:nvSpPr>
        <p:spPr>
          <a:xfrm>
            <a:off x="4038480" y="5715000"/>
            <a:ext cx="227340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03"/>
          <p:cNvSpPr/>
          <p:nvPr/>
        </p:nvSpPr>
        <p:spPr>
          <a:xfrm>
            <a:off x="4267080" y="574344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detailed inf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way point if user wa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11480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tisfi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105"/>
          <p:cNvSpPr/>
          <p:nvPr/>
        </p:nvSpPr>
        <p:spPr>
          <a:xfrm flipH="1">
            <a:off x="3157200" y="6019920"/>
            <a:ext cx="88092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06"/>
          <p:cNvSpPr/>
          <p:nvPr/>
        </p:nvSpPr>
        <p:spPr>
          <a:xfrm>
            <a:off x="5410080" y="524196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atisfi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107"/>
          <p:cNvSpPr/>
          <p:nvPr/>
        </p:nvSpPr>
        <p:spPr>
          <a:xfrm>
            <a:off x="548640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08"/>
          <p:cNvSpPr/>
          <p:nvPr/>
        </p:nvSpPr>
        <p:spPr>
          <a:xfrm>
            <a:off x="1600200" y="204156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features=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109"/>
          <p:cNvSpPr/>
          <p:nvPr/>
        </p:nvSpPr>
        <p:spPr>
          <a:xfrm>
            <a:off x="1577880" y="349416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selection=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Oval 110"/>
          <p:cNvSpPr/>
          <p:nvPr/>
        </p:nvSpPr>
        <p:spPr>
          <a:xfrm>
            <a:off x="6200640" y="5014800"/>
            <a:ext cx="140652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111"/>
          <p:cNvSpPr/>
          <p:nvPr/>
        </p:nvSpPr>
        <p:spPr>
          <a:xfrm>
            <a:off x="6311880" y="51055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ify it to the us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12"/>
          <p:cNvSpPr/>
          <p:nvPr/>
        </p:nvSpPr>
        <p:spPr>
          <a:xfrm>
            <a:off x="2971800" y="297180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Oval 114"/>
          <p:cNvSpPr/>
          <p:nvPr/>
        </p:nvSpPr>
        <p:spPr>
          <a:xfrm>
            <a:off x="4330800" y="3886200"/>
            <a:ext cx="18763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115"/>
          <p:cNvSpPr/>
          <p:nvPr/>
        </p:nvSpPr>
        <p:spPr>
          <a:xfrm>
            <a:off x="4564080" y="3917880"/>
            <a:ext cx="16765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 new lists from the previous resul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i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16"/>
          <p:cNvSpPr/>
          <p:nvPr/>
        </p:nvSpPr>
        <p:spPr>
          <a:xfrm flipH="1" flipV="1">
            <a:off x="5943240" y="4343040"/>
            <a:ext cx="9032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Freeform 119"/>
          <p:cNvSpPr/>
          <p:nvPr/>
        </p:nvSpPr>
        <p:spPr>
          <a:xfrm rot="21073800">
            <a:off x="6159240" y="38862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344" h="400">
                <a:moveTo>
                  <a:pt x="0" y="144"/>
                </a:moveTo>
                <a:cubicBezTo>
                  <a:pt x="44" y="72"/>
                  <a:pt x="88" y="0"/>
                  <a:pt x="144" y="0"/>
                </a:cubicBezTo>
                <a:cubicBezTo>
                  <a:pt x="200" y="0"/>
                  <a:pt x="328" y="80"/>
                  <a:pt x="336" y="144"/>
                </a:cubicBezTo>
                <a:cubicBezTo>
                  <a:pt x="344" y="208"/>
                  <a:pt x="248" y="368"/>
                  <a:pt x="192" y="384"/>
                </a:cubicBezTo>
                <a:cubicBezTo>
                  <a:pt x="136" y="400"/>
                  <a:pt x="68" y="320"/>
                  <a:pt x="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20"/>
          <p:cNvSpPr/>
          <p:nvPr/>
        </p:nvSpPr>
        <p:spPr>
          <a:xfrm>
            <a:off x="6388200" y="3733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rch op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21"/>
          <p:cNvSpPr/>
          <p:nvPr/>
        </p:nvSpPr>
        <p:spPr>
          <a:xfrm>
            <a:off x="6006960" y="4648320"/>
            <a:ext cx="123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rch op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Oval 122"/>
          <p:cNvSpPr/>
          <p:nvPr/>
        </p:nvSpPr>
        <p:spPr>
          <a:xfrm>
            <a:off x="4038480" y="5029200"/>
            <a:ext cx="14223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123"/>
          <p:cNvSpPr/>
          <p:nvPr/>
        </p:nvSpPr>
        <p:spPr>
          <a:xfrm>
            <a:off x="4191120" y="5105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special inf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25"/>
          <p:cNvSpPr/>
          <p:nvPr/>
        </p:nvSpPr>
        <p:spPr>
          <a:xfrm flipH="1">
            <a:off x="4711680" y="4419720"/>
            <a:ext cx="393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126"/>
          <p:cNvSpPr/>
          <p:nvPr/>
        </p:nvSpPr>
        <p:spPr>
          <a:xfrm>
            <a:off x="3581280" y="228600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features=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146"/>
          <p:cNvSpPr/>
          <p:nvPr/>
        </p:nvSpPr>
        <p:spPr>
          <a:xfrm>
            <a:off x="6781680" y="403848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arch Refin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47"/>
          <p:cNvSpPr/>
          <p:nvPr/>
        </p:nvSpPr>
        <p:spPr>
          <a:xfrm>
            <a:off x="7238880" y="5943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148"/>
          <p:cNvSpPr/>
          <p:nvPr/>
        </p:nvSpPr>
        <p:spPr>
          <a:xfrm>
            <a:off x="5410080" y="2743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149"/>
          <p:cNvSpPr/>
          <p:nvPr/>
        </p:nvSpPr>
        <p:spPr>
          <a:xfrm>
            <a:off x="2743200" y="2971800"/>
            <a:ext cx="14479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150"/>
          <p:cNvSpPr/>
          <p:nvPr/>
        </p:nvSpPr>
        <p:spPr>
          <a:xfrm>
            <a:off x="4191120" y="3352680"/>
            <a:ext cx="1307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rch op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151"/>
          <p:cNvSpPr/>
          <p:nvPr/>
        </p:nvSpPr>
        <p:spPr>
          <a:xfrm>
            <a:off x="4876920" y="4632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52"/>
          <p:cNvSpPr/>
          <p:nvPr/>
        </p:nvSpPr>
        <p:spPr>
          <a:xfrm>
            <a:off x="480060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154"/>
          <p:cNvSpPr/>
          <p:nvPr/>
        </p:nvSpPr>
        <p:spPr>
          <a:xfrm>
            <a:off x="79246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155"/>
          <p:cNvSpPr/>
          <p:nvPr/>
        </p:nvSpPr>
        <p:spPr>
          <a:xfrm flipV="1">
            <a:off x="8077320" y="2438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157"/>
          <p:cNvSpPr/>
          <p:nvPr/>
        </p:nvSpPr>
        <p:spPr>
          <a:xfrm flipH="1">
            <a:off x="693396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158"/>
          <p:cNvSpPr/>
          <p:nvPr/>
        </p:nvSpPr>
        <p:spPr>
          <a:xfrm>
            <a:off x="7074000" y="2209680"/>
            <a:ext cx="123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constrai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0007-E9D6-46CA-BFB2-3903833620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Future work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work on Tas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phora and ellipsis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mod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on of screen with Navigation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mentary prompts (voice and scre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grammar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intelligent push model based on user p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sed tu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2B40-060A-4FA0-90DD-4530100E60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Sample Dialog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7200" y="1523880"/>
            <a:ext cx="8305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: How may I help you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1: I want to go to Carnegie Mellon Universit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: Do you want to go to Carnegie Mellon University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2: Y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: The distance to the destination is 100 mil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takes about 2 hou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3: I would like to know weat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: Please tell me the area and the da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4: </a:t>
            </a:r>
            <a:r>
              <a:rPr b="1" lang="en-US" sz="1600" spc="-1" strike="noStrike">
                <a:solidFill>
                  <a:srgbClr val="00e4a8"/>
                </a:solidFill>
                <a:latin typeface="Tahoma"/>
              </a:rPr>
              <a:t>Pittsburg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(Navigation System sends the next direction to the dialog mana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5: </a:t>
            </a:r>
            <a:r>
              <a:rPr b="1" lang="en-US" sz="1600" spc="-1" strike="noStrike">
                <a:solidFill>
                  <a:srgbClr val="990033"/>
                </a:solidFill>
                <a:latin typeface="Tahoma"/>
              </a:rPr>
              <a:t>To go to Carnegie Mellon University, please make a left turn here.</a:t>
            </a: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Please tell me the date for Pittsburg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5: Tomorr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6: The weather for Pittsburgh tomorrow will be f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0C49-9C96-4FB1-B298-C435266100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Tahoma"/>
              </a:rPr>
              <a:t>Some Related Research (Speech Interface)</a:t>
            </a:r>
            <a:endParaRPr b="0" lang="en-US" sz="3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lom et al, HLT 2001 (CU-Mov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planning and navi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 suppression front-end and back-end navigation information retri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ownload driving instructions from the Internet after route 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can ask route information during trave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x. What’s my next turn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etti et al, IEEE 200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el retrieval/reservation, POI retrieval, Simple Route Qu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 Wide Web module: XML-based DB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 database for tour and geographic d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C2C1-5150-4DED-B18F-45015B30C9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562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ome Related Research (Multimodal Interface)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nker et al, ICSLP 2002 (SmartKom Mobil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framework for modality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type on Compac iPAG H3630 handheld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to pedestrian and driver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 maps for route infor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e shows for sigh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183D-8603-4A16-89A7-828182B6F6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Approach in CAMMIA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communication with navig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getting the next direction, interrupt the current dialo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the next turn dir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me the pending dialo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dialog history for smooth dialog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Flexible &amp; robust Dialog Manager based on VoiceXML (Voice eXtensible Markup Langua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ction, Explicit/Implicit confi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multi-lingual (Japanese, Englis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D877-AFCF-4584-B87C-E2E871202C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Nex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ach in CAMM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Dialog Management Framewo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Template/Scenario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XML Development 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lot Systems &amp;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Research Foc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54FA-22B4-4ED8-8C7B-0F6C90C99C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95"/>
          <p:cNvSpPr/>
          <p:nvPr/>
        </p:nvSpPr>
        <p:spPr>
          <a:xfrm>
            <a:off x="3200400" y="2286000"/>
            <a:ext cx="259092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62"/>
          <p:cNvSpPr/>
          <p:nvPr/>
        </p:nvSpPr>
        <p:spPr>
          <a:xfrm>
            <a:off x="3505320" y="2590920"/>
            <a:ext cx="12189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4"/>
          <p:cNvSpPr/>
          <p:nvPr/>
        </p:nvSpPr>
        <p:spPr>
          <a:xfrm>
            <a:off x="3657600" y="4572000"/>
            <a:ext cx="1219320" cy="609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3"/>
          <p:cNvSpPr/>
          <p:nvPr/>
        </p:nvSpPr>
        <p:spPr>
          <a:xfrm>
            <a:off x="3809880" y="470376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5"/>
          <p:cNvSpPr/>
          <p:nvPr/>
        </p:nvSpPr>
        <p:spPr>
          <a:xfrm>
            <a:off x="3547080" y="261144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82"/>
          <p:cNvSpPr/>
          <p:nvPr/>
        </p:nvSpPr>
        <p:spPr>
          <a:xfrm>
            <a:off x="3486600" y="155268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o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 (D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86"/>
          <p:cNvSpPr/>
          <p:nvPr/>
        </p:nvSpPr>
        <p:spPr>
          <a:xfrm>
            <a:off x="4114800" y="3429000"/>
            <a:ext cx="1295280" cy="8380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7"/>
          <p:cNvSpPr/>
          <p:nvPr/>
        </p:nvSpPr>
        <p:spPr>
          <a:xfrm>
            <a:off x="4137120" y="3594240"/>
            <a:ext cx="150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og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og scenar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Dialog Management Framework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9" name="Rectangle 42"/>
          <p:cNvSpPr/>
          <p:nvPr/>
        </p:nvSpPr>
        <p:spPr>
          <a:xfrm>
            <a:off x="5486400" y="5868360"/>
            <a:ext cx="3352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X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VoiceXML Interpre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D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Dialog Manag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61"/>
          <p:cNvSpPr/>
          <p:nvPr/>
        </p:nvSpPr>
        <p:spPr>
          <a:xfrm>
            <a:off x="685800" y="2286000"/>
            <a:ext cx="160020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57"/>
          <p:cNvSpPr/>
          <p:nvPr/>
        </p:nvSpPr>
        <p:spPr>
          <a:xfrm>
            <a:off x="990720" y="26668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58"/>
          <p:cNvSpPr/>
          <p:nvPr/>
        </p:nvSpPr>
        <p:spPr>
          <a:xfrm>
            <a:off x="1176120" y="26686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X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990720" y="385776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0"/>
          <p:cNvSpPr/>
          <p:nvPr/>
        </p:nvSpPr>
        <p:spPr>
          <a:xfrm>
            <a:off x="1093680" y="385920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70"/>
          <p:cNvSpPr/>
          <p:nvPr/>
        </p:nvSpPr>
        <p:spPr>
          <a:xfrm>
            <a:off x="144792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83"/>
          <p:cNvSpPr/>
          <p:nvPr/>
        </p:nvSpPr>
        <p:spPr>
          <a:xfrm>
            <a:off x="837360" y="155268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94"/>
          <p:cNvSpPr/>
          <p:nvPr/>
        </p:nvSpPr>
        <p:spPr>
          <a:xfrm>
            <a:off x="6629400" y="2286000"/>
            <a:ext cx="1752480" cy="312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7"/>
          <p:cNvSpPr/>
          <p:nvPr/>
        </p:nvSpPr>
        <p:spPr>
          <a:xfrm>
            <a:off x="6900840" y="2971800"/>
            <a:ext cx="1219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68"/>
          <p:cNvSpPr/>
          <p:nvPr/>
        </p:nvSpPr>
        <p:spPr>
          <a:xfrm>
            <a:off x="6894360" y="2971800"/>
            <a:ext cx="122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vigation Syste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85"/>
          <p:cNvSpPr/>
          <p:nvPr/>
        </p:nvSpPr>
        <p:spPr>
          <a:xfrm>
            <a:off x="6690960" y="1552680"/>
            <a:ext cx="16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vig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(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90"/>
          <p:cNvSpPr/>
          <p:nvPr/>
        </p:nvSpPr>
        <p:spPr>
          <a:xfrm>
            <a:off x="7053120" y="4038480"/>
            <a:ext cx="990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91"/>
          <p:cNvSpPr/>
          <p:nvPr/>
        </p:nvSpPr>
        <p:spPr>
          <a:xfrm>
            <a:off x="7010280" y="4067280"/>
            <a:ext cx="11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Group 107"/>
          <p:cNvGrpSpPr/>
          <p:nvPr/>
        </p:nvGrpSpPr>
        <p:grpSpPr>
          <a:xfrm>
            <a:off x="1904760" y="2895480"/>
            <a:ext cx="1600200" cy="307080"/>
            <a:chOff x="1904760" y="2895480"/>
            <a:chExt cx="1600200" cy="307080"/>
          </a:xfrm>
        </p:grpSpPr>
        <p:sp>
          <p:nvSpPr>
            <p:cNvPr id="144" name="Text Box 74"/>
            <p:cNvSpPr/>
            <p:nvPr/>
          </p:nvSpPr>
          <p:spPr>
            <a:xfrm>
              <a:off x="2286360" y="289548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XM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79"/>
            <p:cNvSpPr/>
            <p:nvPr/>
          </p:nvSpPr>
          <p:spPr>
            <a:xfrm flipH="1">
              <a:off x="1904760" y="28954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" name="Group 112"/>
          <p:cNvGrpSpPr/>
          <p:nvPr/>
        </p:nvGrpSpPr>
        <p:grpSpPr>
          <a:xfrm>
            <a:off x="1828800" y="3048120"/>
            <a:ext cx="1828800" cy="1755720"/>
            <a:chOff x="1828800" y="3048120"/>
            <a:chExt cx="1828800" cy="1755720"/>
          </a:xfrm>
        </p:grpSpPr>
        <p:sp>
          <p:nvSpPr>
            <p:cNvPr id="147" name="Line 71"/>
            <p:cNvSpPr/>
            <p:nvPr/>
          </p:nvSpPr>
          <p:spPr>
            <a:xfrm>
              <a:off x="1828800" y="3048120"/>
              <a:ext cx="182880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81"/>
            <p:cNvSpPr/>
            <p:nvPr/>
          </p:nvSpPr>
          <p:spPr>
            <a:xfrm>
              <a:off x="2362320" y="407052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RL to get next direc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106"/>
          <p:cNvGrpSpPr/>
          <p:nvPr/>
        </p:nvGrpSpPr>
        <p:grpSpPr>
          <a:xfrm>
            <a:off x="1905120" y="2286000"/>
            <a:ext cx="1600200" cy="520200"/>
            <a:chOff x="1905120" y="2286000"/>
            <a:chExt cx="1600200" cy="520200"/>
          </a:xfrm>
        </p:grpSpPr>
        <p:sp>
          <p:nvSpPr>
            <p:cNvPr id="150" name="Text Box 72"/>
            <p:cNvSpPr/>
            <p:nvPr/>
          </p:nvSpPr>
          <p:spPr>
            <a:xfrm>
              <a:off x="2331720" y="2286000"/>
              <a:ext cx="84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TP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89"/>
            <p:cNvSpPr/>
            <p:nvPr/>
          </p:nvSpPr>
          <p:spPr>
            <a:xfrm>
              <a:off x="1905120" y="2743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8"/>
          <p:cNvGrpSpPr/>
          <p:nvPr/>
        </p:nvGrpSpPr>
        <p:grpSpPr>
          <a:xfrm>
            <a:off x="4723920" y="2743200"/>
            <a:ext cx="2133720" cy="456840"/>
            <a:chOff x="4723920" y="2743200"/>
            <a:chExt cx="2133720" cy="456840"/>
          </a:xfrm>
        </p:grpSpPr>
        <p:sp>
          <p:nvSpPr>
            <p:cNvPr id="153" name="Text Box 75"/>
            <p:cNvSpPr/>
            <p:nvPr/>
          </p:nvSpPr>
          <p:spPr>
            <a:xfrm>
              <a:off x="5556600" y="27432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76"/>
            <p:cNvSpPr/>
            <p:nvPr/>
          </p:nvSpPr>
          <p:spPr>
            <a:xfrm flipH="1" flipV="1">
              <a:off x="4723920" y="2895120"/>
              <a:ext cx="2133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09"/>
          <p:cNvGrpSpPr/>
          <p:nvPr/>
        </p:nvGrpSpPr>
        <p:grpSpPr>
          <a:xfrm>
            <a:off x="4876920" y="3504960"/>
            <a:ext cx="1981080" cy="1447560"/>
            <a:chOff x="4876920" y="3504960"/>
            <a:chExt cx="1981080" cy="1447560"/>
          </a:xfrm>
        </p:grpSpPr>
        <p:sp>
          <p:nvSpPr>
            <p:cNvPr id="156" name="Line 73"/>
            <p:cNvSpPr/>
            <p:nvPr/>
          </p:nvSpPr>
          <p:spPr>
            <a:xfrm flipV="1">
              <a:off x="4876920" y="3504960"/>
              <a:ext cx="19810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77"/>
            <p:cNvSpPr/>
            <p:nvPr/>
          </p:nvSpPr>
          <p:spPr>
            <a:xfrm>
              <a:off x="5943240" y="40384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Group 113"/>
          <p:cNvGrpSpPr/>
          <p:nvPr/>
        </p:nvGrpSpPr>
        <p:grpSpPr>
          <a:xfrm>
            <a:off x="3047760" y="3276720"/>
            <a:ext cx="884880" cy="1295280"/>
            <a:chOff x="3047760" y="3276720"/>
            <a:chExt cx="884880" cy="1295280"/>
          </a:xfrm>
        </p:grpSpPr>
        <p:sp>
          <p:nvSpPr>
            <p:cNvPr id="159" name="Text Box 80"/>
            <p:cNvSpPr/>
            <p:nvPr/>
          </p:nvSpPr>
          <p:spPr>
            <a:xfrm>
              <a:off x="3047760" y="3608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Line 101"/>
            <p:cNvSpPr/>
            <p:nvPr/>
          </p:nvSpPr>
          <p:spPr>
            <a:xfrm flipV="1">
              <a:off x="3886200" y="3276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" name="Line 114"/>
          <p:cNvSpPr/>
          <p:nvPr/>
        </p:nvSpPr>
        <p:spPr>
          <a:xfrm>
            <a:off x="44956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115"/>
          <p:cNvSpPr/>
          <p:nvPr/>
        </p:nvSpPr>
        <p:spPr>
          <a:xfrm>
            <a:off x="75438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8:28:14Z</dcterms:created>
  <dc:creator>jko</dc:creator>
  <dc:description/>
  <dc:language>en-US</dc:language>
  <cp:lastModifiedBy>matousek</cp:lastModifiedBy>
  <dcterms:modified xsi:type="dcterms:W3CDTF">2010-04-13T07:30:34Z</dcterms:modified>
  <cp:revision>1450</cp:revision>
  <dc:subject/>
  <dc:title>CAMMIA Dialog Manager</dc:title>
</cp:coreProperties>
</file>